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47D-9207-4638-9D19-CD057AA5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B3C-6E65-4546-93FC-A3CF38FC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5E9-1110-4657-ADE1-92E0416C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D56-7BD5-4462-AF70-1E98002D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3C9-27CF-41A9-9143-91FB4DE1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897-31CD-482E-9601-5668315C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BA2-C170-4FCB-A504-D95A8668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E6A-0704-4F1F-BA21-5884199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D6D-98D7-4AB1-9277-83ECDA74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537-A7DA-4F05-B2E6-4541A560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50F-D134-4246-A0EC-63F62134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F63-41CC-4651-A410-25672F5C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3176-C81C-4DA7-899A-E06CD407C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 y 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ectricida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qu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hac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hor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xander Galetovic (CEA-D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an Ricardo Inostroza (AES Gener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stián Muñoz (AES Gener S.A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apacidad instalada en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820880"/>
            <a:ext cx="655344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349200"/>
            <a:ext cx="822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La característica fundamental del sistema interconectado central (SIC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insumos de </a:t>
            </a:r>
            <a:r>
              <a:rPr b="0" i="1" lang="es-CL" sz="4000" spc="-1" strike="noStrike">
                <a:solidFill>
                  <a:srgbClr val="000000"/>
                </a:solidFill>
                <a:latin typeface="Times New Roman"/>
              </a:rPr>
              <a:t>disponibilidad 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volá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351000"/>
            <a:ext cx="8229600" cy="56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lasificación de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77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Disponibilidad volá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7784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7784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7784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77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Disponibilidad segura pero precio volá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7784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rb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7784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7784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icancia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l agua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no 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la tecnología de expan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gua contra carb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96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mplicancia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Los años de escasez de energí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son inevitables en Chile Cent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icancia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los años de escasez extrema de agu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 gas el consum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tien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que disminu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08200" y="816120"/>
            <a:ext cx="603252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rabajo financiado por AES Gener S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piniones nuestras, no de AES Gener S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II La propuest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(sinop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ructura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321680" y="4871880"/>
            <a:ext cx="1042920" cy="719280"/>
            <a:chOff x="7321680" y="4871880"/>
            <a:chExt cx="1042920" cy="719280"/>
          </a:xfrm>
        </p:grpSpPr>
        <p:grpSp>
          <p:nvGrpSpPr>
            <p:cNvPr id="73" name=""/>
            <p:cNvGrpSpPr/>
            <p:nvPr/>
          </p:nvGrpSpPr>
          <p:grpSpPr>
            <a:xfrm>
              <a:off x="7745400" y="5178600"/>
              <a:ext cx="619200" cy="385560"/>
              <a:chOff x="7745400" y="5178600"/>
              <a:chExt cx="619200" cy="38556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8163000" y="5273640"/>
                <a:ext cx="201600" cy="263520"/>
                <a:chOff x="8163000" y="5273640"/>
                <a:chExt cx="201600" cy="2635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8163000" y="5273640"/>
                  <a:ext cx="201600" cy="263520"/>
                </a:xfrm>
                <a:custGeom>
                  <a:avLst/>
                  <a:gdLst/>
                  <a:ahLst/>
                  <a:rect l="l" t="t" r="r" b="b"/>
                  <a:pathLst>
                    <a:path w="763" h="827">
                      <a:moveTo>
                        <a:pt x="229" y="36"/>
                      </a:moveTo>
                      <a:lnTo>
                        <a:pt x="257" y="23"/>
                      </a:lnTo>
                      <a:lnTo>
                        <a:pt x="293" y="12"/>
                      </a:lnTo>
                      <a:lnTo>
                        <a:pt x="335" y="2"/>
                      </a:lnTo>
                      <a:lnTo>
                        <a:pt x="377" y="0"/>
                      </a:lnTo>
                      <a:lnTo>
                        <a:pt x="420" y="0"/>
                      </a:lnTo>
                      <a:lnTo>
                        <a:pt x="456" y="2"/>
                      </a:lnTo>
                      <a:lnTo>
                        <a:pt x="484" y="7"/>
                      </a:lnTo>
                      <a:lnTo>
                        <a:pt x="517" y="17"/>
                      </a:lnTo>
                      <a:lnTo>
                        <a:pt x="548" y="29"/>
                      </a:lnTo>
                      <a:lnTo>
                        <a:pt x="562" y="39"/>
                      </a:lnTo>
                      <a:lnTo>
                        <a:pt x="555" y="86"/>
                      </a:lnTo>
                      <a:lnTo>
                        <a:pt x="551" y="133"/>
                      </a:lnTo>
                      <a:lnTo>
                        <a:pt x="551" y="178"/>
                      </a:lnTo>
                      <a:lnTo>
                        <a:pt x="551" y="214"/>
                      </a:lnTo>
                      <a:lnTo>
                        <a:pt x="554" y="249"/>
                      </a:lnTo>
                      <a:lnTo>
                        <a:pt x="559" y="275"/>
                      </a:lnTo>
                      <a:lnTo>
                        <a:pt x="564" y="300"/>
                      </a:lnTo>
                      <a:lnTo>
                        <a:pt x="569" y="320"/>
                      </a:lnTo>
                      <a:lnTo>
                        <a:pt x="577" y="345"/>
                      </a:lnTo>
                      <a:lnTo>
                        <a:pt x="585" y="366"/>
                      </a:lnTo>
                      <a:lnTo>
                        <a:pt x="593" y="384"/>
                      </a:lnTo>
                      <a:lnTo>
                        <a:pt x="609" y="421"/>
                      </a:lnTo>
                      <a:lnTo>
                        <a:pt x="627" y="461"/>
                      </a:lnTo>
                      <a:lnTo>
                        <a:pt x="654" y="515"/>
                      </a:lnTo>
                      <a:lnTo>
                        <a:pt x="682" y="568"/>
                      </a:lnTo>
                      <a:lnTo>
                        <a:pt x="714" y="620"/>
                      </a:lnTo>
                      <a:lnTo>
                        <a:pt x="732" y="651"/>
                      </a:lnTo>
                      <a:lnTo>
                        <a:pt x="763" y="685"/>
                      </a:lnTo>
                      <a:lnTo>
                        <a:pt x="763" y="787"/>
                      </a:lnTo>
                      <a:lnTo>
                        <a:pt x="717" y="801"/>
                      </a:lnTo>
                      <a:lnTo>
                        <a:pt x="668" y="808"/>
                      </a:lnTo>
                      <a:lnTo>
                        <a:pt x="598" y="818"/>
                      </a:lnTo>
                      <a:lnTo>
                        <a:pt x="516" y="825"/>
                      </a:lnTo>
                      <a:lnTo>
                        <a:pt x="427" y="827"/>
                      </a:lnTo>
                      <a:lnTo>
                        <a:pt x="321" y="827"/>
                      </a:lnTo>
                      <a:lnTo>
                        <a:pt x="233" y="821"/>
                      </a:lnTo>
                      <a:lnTo>
                        <a:pt x="144" y="815"/>
                      </a:lnTo>
                      <a:lnTo>
                        <a:pt x="83" y="805"/>
                      </a:lnTo>
                      <a:lnTo>
                        <a:pt x="45" y="800"/>
                      </a:lnTo>
                      <a:lnTo>
                        <a:pt x="0" y="784"/>
                      </a:lnTo>
                      <a:lnTo>
                        <a:pt x="0" y="685"/>
                      </a:lnTo>
                      <a:lnTo>
                        <a:pt x="20" y="665"/>
                      </a:lnTo>
                      <a:lnTo>
                        <a:pt x="41" y="634"/>
                      </a:lnTo>
                      <a:lnTo>
                        <a:pt x="62" y="608"/>
                      </a:lnTo>
                      <a:lnTo>
                        <a:pt x="98" y="558"/>
                      </a:lnTo>
                      <a:lnTo>
                        <a:pt x="122" y="517"/>
                      </a:lnTo>
                      <a:lnTo>
                        <a:pt x="144" y="478"/>
                      </a:lnTo>
                      <a:lnTo>
                        <a:pt x="168" y="435"/>
                      </a:lnTo>
                      <a:lnTo>
                        <a:pt x="186" y="391"/>
                      </a:lnTo>
                      <a:lnTo>
                        <a:pt x="208" y="334"/>
                      </a:lnTo>
                      <a:lnTo>
                        <a:pt x="222" y="288"/>
                      </a:lnTo>
                      <a:lnTo>
                        <a:pt x="232" y="244"/>
                      </a:lnTo>
                      <a:lnTo>
                        <a:pt x="239" y="202"/>
                      </a:lnTo>
                      <a:lnTo>
                        <a:pt x="243" y="156"/>
                      </a:lnTo>
                      <a:lnTo>
                        <a:pt x="243" y="113"/>
                      </a:lnTo>
                      <a:lnTo>
                        <a:pt x="239" y="76"/>
                      </a:lnTo>
                      <a:lnTo>
                        <a:pt x="229" y="36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163000" y="5273640"/>
                  <a:ext cx="158760" cy="263520"/>
                </a:xfrm>
                <a:custGeom>
                  <a:avLst/>
                  <a:gdLst/>
                  <a:ahLst/>
                  <a:rect l="l" t="t" r="r" b="b"/>
                  <a:pathLst>
                    <a:path w="598" h="827">
                      <a:moveTo>
                        <a:pt x="229" y="36"/>
                      </a:moveTo>
                      <a:lnTo>
                        <a:pt x="257" y="23"/>
                      </a:lnTo>
                      <a:lnTo>
                        <a:pt x="293" y="12"/>
                      </a:lnTo>
                      <a:lnTo>
                        <a:pt x="335" y="2"/>
                      </a:lnTo>
                      <a:lnTo>
                        <a:pt x="377" y="0"/>
                      </a:lnTo>
                      <a:lnTo>
                        <a:pt x="420" y="0"/>
                      </a:lnTo>
                      <a:lnTo>
                        <a:pt x="456" y="2"/>
                      </a:lnTo>
                      <a:lnTo>
                        <a:pt x="484" y="7"/>
                      </a:lnTo>
                      <a:lnTo>
                        <a:pt x="481" y="46"/>
                      </a:lnTo>
                      <a:lnTo>
                        <a:pt x="479" y="84"/>
                      </a:lnTo>
                      <a:lnTo>
                        <a:pt x="477" y="129"/>
                      </a:lnTo>
                      <a:lnTo>
                        <a:pt x="476" y="175"/>
                      </a:lnTo>
                      <a:lnTo>
                        <a:pt x="476" y="216"/>
                      </a:lnTo>
                      <a:lnTo>
                        <a:pt x="474" y="260"/>
                      </a:lnTo>
                      <a:lnTo>
                        <a:pt x="476" y="303"/>
                      </a:lnTo>
                      <a:lnTo>
                        <a:pt x="478" y="336"/>
                      </a:lnTo>
                      <a:lnTo>
                        <a:pt x="481" y="373"/>
                      </a:lnTo>
                      <a:lnTo>
                        <a:pt x="485" y="407"/>
                      </a:lnTo>
                      <a:lnTo>
                        <a:pt x="488" y="437"/>
                      </a:lnTo>
                      <a:lnTo>
                        <a:pt x="494" y="469"/>
                      </a:lnTo>
                      <a:lnTo>
                        <a:pt x="498" y="498"/>
                      </a:lnTo>
                      <a:lnTo>
                        <a:pt x="504" y="528"/>
                      </a:lnTo>
                      <a:lnTo>
                        <a:pt x="513" y="559"/>
                      </a:lnTo>
                      <a:lnTo>
                        <a:pt x="526" y="587"/>
                      </a:lnTo>
                      <a:lnTo>
                        <a:pt x="547" y="631"/>
                      </a:lnTo>
                      <a:lnTo>
                        <a:pt x="572" y="687"/>
                      </a:lnTo>
                      <a:lnTo>
                        <a:pt x="590" y="716"/>
                      </a:lnTo>
                      <a:lnTo>
                        <a:pt x="598" y="741"/>
                      </a:lnTo>
                      <a:lnTo>
                        <a:pt x="598" y="818"/>
                      </a:lnTo>
                      <a:lnTo>
                        <a:pt x="516" y="825"/>
                      </a:lnTo>
                      <a:lnTo>
                        <a:pt x="427" y="827"/>
                      </a:lnTo>
                      <a:lnTo>
                        <a:pt x="321" y="827"/>
                      </a:lnTo>
                      <a:lnTo>
                        <a:pt x="233" y="821"/>
                      </a:lnTo>
                      <a:lnTo>
                        <a:pt x="144" y="815"/>
                      </a:lnTo>
                      <a:lnTo>
                        <a:pt x="83" y="805"/>
                      </a:lnTo>
                      <a:lnTo>
                        <a:pt x="45" y="800"/>
                      </a:lnTo>
                      <a:lnTo>
                        <a:pt x="0" y="784"/>
                      </a:lnTo>
                      <a:lnTo>
                        <a:pt x="0" y="685"/>
                      </a:lnTo>
                      <a:lnTo>
                        <a:pt x="20" y="665"/>
                      </a:lnTo>
                      <a:lnTo>
                        <a:pt x="41" y="634"/>
                      </a:lnTo>
                      <a:lnTo>
                        <a:pt x="62" y="608"/>
                      </a:lnTo>
                      <a:lnTo>
                        <a:pt x="98" y="558"/>
                      </a:lnTo>
                      <a:lnTo>
                        <a:pt x="122" y="517"/>
                      </a:lnTo>
                      <a:lnTo>
                        <a:pt x="144" y="478"/>
                      </a:lnTo>
                      <a:lnTo>
                        <a:pt x="168" y="435"/>
                      </a:lnTo>
                      <a:lnTo>
                        <a:pt x="186" y="391"/>
                      </a:lnTo>
                      <a:lnTo>
                        <a:pt x="208" y="334"/>
                      </a:lnTo>
                      <a:lnTo>
                        <a:pt x="222" y="288"/>
                      </a:lnTo>
                      <a:lnTo>
                        <a:pt x="232" y="244"/>
                      </a:lnTo>
                      <a:lnTo>
                        <a:pt x="239" y="202"/>
                      </a:lnTo>
                      <a:lnTo>
                        <a:pt x="243" y="156"/>
                      </a:lnTo>
                      <a:lnTo>
                        <a:pt x="243" y="113"/>
                      </a:lnTo>
                      <a:lnTo>
                        <a:pt x="239" y="76"/>
                      </a:lnTo>
                      <a:lnTo>
                        <a:pt x="229" y="36"/>
                      </a:lnTo>
                      <a:close/>
                    </a:path>
                  </a:pathLst>
                </a:custGeom>
                <a:solidFill>
                  <a:srgbClr val="7f7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7978680" y="5222880"/>
                <a:ext cx="252360" cy="328680"/>
                <a:chOff x="7978680" y="5222880"/>
                <a:chExt cx="252360" cy="3286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7978680" y="5222880"/>
                  <a:ext cx="252360" cy="328680"/>
                </a:xfrm>
                <a:custGeom>
                  <a:avLst/>
                  <a:gdLst/>
                  <a:ahLst/>
                  <a:rect l="l" t="t" r="r" b="b"/>
                  <a:pathLst>
                    <a:path w="952" h="1032">
                      <a:moveTo>
                        <a:pt x="286" y="46"/>
                      </a:moveTo>
                      <a:lnTo>
                        <a:pt x="322" y="30"/>
                      </a:lnTo>
                      <a:lnTo>
                        <a:pt x="366" y="17"/>
                      </a:lnTo>
                      <a:lnTo>
                        <a:pt x="418" y="5"/>
                      </a:lnTo>
                      <a:lnTo>
                        <a:pt x="471" y="0"/>
                      </a:lnTo>
                      <a:lnTo>
                        <a:pt x="524" y="0"/>
                      </a:lnTo>
                      <a:lnTo>
                        <a:pt x="569" y="4"/>
                      </a:lnTo>
                      <a:lnTo>
                        <a:pt x="603" y="10"/>
                      </a:lnTo>
                      <a:lnTo>
                        <a:pt x="646" y="23"/>
                      </a:lnTo>
                      <a:lnTo>
                        <a:pt x="684" y="37"/>
                      </a:lnTo>
                      <a:lnTo>
                        <a:pt x="702" y="50"/>
                      </a:lnTo>
                      <a:lnTo>
                        <a:pt x="693" y="108"/>
                      </a:lnTo>
                      <a:lnTo>
                        <a:pt x="688" y="166"/>
                      </a:lnTo>
                      <a:lnTo>
                        <a:pt x="688" y="223"/>
                      </a:lnTo>
                      <a:lnTo>
                        <a:pt x="688" y="268"/>
                      </a:lnTo>
                      <a:lnTo>
                        <a:pt x="691" y="311"/>
                      </a:lnTo>
                      <a:lnTo>
                        <a:pt x="697" y="344"/>
                      </a:lnTo>
                      <a:lnTo>
                        <a:pt x="703" y="374"/>
                      </a:lnTo>
                      <a:lnTo>
                        <a:pt x="711" y="399"/>
                      </a:lnTo>
                      <a:lnTo>
                        <a:pt x="721" y="430"/>
                      </a:lnTo>
                      <a:lnTo>
                        <a:pt x="730" y="456"/>
                      </a:lnTo>
                      <a:lnTo>
                        <a:pt x="740" y="480"/>
                      </a:lnTo>
                      <a:lnTo>
                        <a:pt x="759" y="526"/>
                      </a:lnTo>
                      <a:lnTo>
                        <a:pt x="782" y="576"/>
                      </a:lnTo>
                      <a:lnTo>
                        <a:pt x="816" y="641"/>
                      </a:lnTo>
                      <a:lnTo>
                        <a:pt x="852" y="708"/>
                      </a:lnTo>
                      <a:lnTo>
                        <a:pt x="890" y="774"/>
                      </a:lnTo>
                      <a:lnTo>
                        <a:pt x="913" y="811"/>
                      </a:lnTo>
                      <a:lnTo>
                        <a:pt x="952" y="853"/>
                      </a:lnTo>
                      <a:lnTo>
                        <a:pt x="952" y="981"/>
                      </a:lnTo>
                      <a:lnTo>
                        <a:pt x="895" y="999"/>
                      </a:lnTo>
                      <a:lnTo>
                        <a:pt x="834" y="1007"/>
                      </a:lnTo>
                      <a:lnTo>
                        <a:pt x="745" y="1019"/>
                      </a:lnTo>
                      <a:lnTo>
                        <a:pt x="644" y="1027"/>
                      </a:lnTo>
                      <a:lnTo>
                        <a:pt x="533" y="1032"/>
                      </a:lnTo>
                      <a:lnTo>
                        <a:pt x="401" y="1032"/>
                      </a:lnTo>
                      <a:lnTo>
                        <a:pt x="290" y="1023"/>
                      </a:lnTo>
                      <a:lnTo>
                        <a:pt x="181" y="1015"/>
                      </a:lnTo>
                      <a:lnTo>
                        <a:pt x="105" y="1003"/>
                      </a:lnTo>
                      <a:lnTo>
                        <a:pt x="56" y="998"/>
                      </a:lnTo>
                      <a:lnTo>
                        <a:pt x="0" y="977"/>
                      </a:lnTo>
                      <a:lnTo>
                        <a:pt x="0" y="853"/>
                      </a:lnTo>
                      <a:lnTo>
                        <a:pt x="26" y="828"/>
                      </a:lnTo>
                      <a:lnTo>
                        <a:pt x="52" y="790"/>
                      </a:lnTo>
                      <a:lnTo>
                        <a:pt x="79" y="757"/>
                      </a:lnTo>
                      <a:lnTo>
                        <a:pt x="123" y="696"/>
                      </a:lnTo>
                      <a:lnTo>
                        <a:pt x="153" y="645"/>
                      </a:lnTo>
                      <a:lnTo>
                        <a:pt x="181" y="596"/>
                      </a:lnTo>
                      <a:lnTo>
                        <a:pt x="210" y="543"/>
                      </a:lnTo>
                      <a:lnTo>
                        <a:pt x="233" y="489"/>
                      </a:lnTo>
                      <a:lnTo>
                        <a:pt x="260" y="418"/>
                      </a:lnTo>
                      <a:lnTo>
                        <a:pt x="279" y="359"/>
                      </a:lnTo>
                      <a:lnTo>
                        <a:pt x="289" y="305"/>
                      </a:lnTo>
                      <a:lnTo>
                        <a:pt x="298" y="254"/>
                      </a:lnTo>
                      <a:lnTo>
                        <a:pt x="304" y="196"/>
                      </a:lnTo>
                      <a:lnTo>
                        <a:pt x="304" y="141"/>
                      </a:lnTo>
                      <a:lnTo>
                        <a:pt x="299" y="95"/>
                      </a:lnTo>
                      <a:lnTo>
                        <a:pt x="286" y="46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978680" y="5222880"/>
                  <a:ext cx="196920" cy="328680"/>
                </a:xfrm>
                <a:custGeom>
                  <a:avLst/>
                  <a:gdLst/>
                  <a:ahLst/>
                  <a:rect l="l" t="t" r="r" b="b"/>
                  <a:pathLst>
                    <a:path w="745" h="1032">
                      <a:moveTo>
                        <a:pt x="286" y="46"/>
                      </a:moveTo>
                      <a:lnTo>
                        <a:pt x="322" y="30"/>
                      </a:lnTo>
                      <a:lnTo>
                        <a:pt x="366" y="17"/>
                      </a:lnTo>
                      <a:lnTo>
                        <a:pt x="418" y="5"/>
                      </a:lnTo>
                      <a:lnTo>
                        <a:pt x="471" y="0"/>
                      </a:lnTo>
                      <a:lnTo>
                        <a:pt x="524" y="0"/>
                      </a:lnTo>
                      <a:lnTo>
                        <a:pt x="569" y="4"/>
                      </a:lnTo>
                      <a:lnTo>
                        <a:pt x="603" y="10"/>
                      </a:lnTo>
                      <a:lnTo>
                        <a:pt x="600" y="59"/>
                      </a:lnTo>
                      <a:lnTo>
                        <a:pt x="598" y="106"/>
                      </a:lnTo>
                      <a:lnTo>
                        <a:pt x="594" y="162"/>
                      </a:lnTo>
                      <a:lnTo>
                        <a:pt x="592" y="219"/>
                      </a:lnTo>
                      <a:lnTo>
                        <a:pt x="592" y="272"/>
                      </a:lnTo>
                      <a:lnTo>
                        <a:pt x="592" y="325"/>
                      </a:lnTo>
                      <a:lnTo>
                        <a:pt x="594" y="377"/>
                      </a:lnTo>
                      <a:lnTo>
                        <a:pt x="597" y="419"/>
                      </a:lnTo>
                      <a:lnTo>
                        <a:pt x="601" y="466"/>
                      </a:lnTo>
                      <a:lnTo>
                        <a:pt x="604" y="508"/>
                      </a:lnTo>
                      <a:lnTo>
                        <a:pt x="608" y="545"/>
                      </a:lnTo>
                      <a:lnTo>
                        <a:pt x="616" y="586"/>
                      </a:lnTo>
                      <a:lnTo>
                        <a:pt x="621" y="621"/>
                      </a:lnTo>
                      <a:lnTo>
                        <a:pt x="629" y="658"/>
                      </a:lnTo>
                      <a:lnTo>
                        <a:pt x="641" y="697"/>
                      </a:lnTo>
                      <a:lnTo>
                        <a:pt x="656" y="731"/>
                      </a:lnTo>
                      <a:lnTo>
                        <a:pt x="682" y="787"/>
                      </a:lnTo>
                      <a:lnTo>
                        <a:pt x="713" y="855"/>
                      </a:lnTo>
                      <a:lnTo>
                        <a:pt x="736" y="893"/>
                      </a:lnTo>
                      <a:lnTo>
                        <a:pt x="745" y="923"/>
                      </a:lnTo>
                      <a:lnTo>
                        <a:pt x="745" y="1019"/>
                      </a:lnTo>
                      <a:lnTo>
                        <a:pt x="644" y="1027"/>
                      </a:lnTo>
                      <a:lnTo>
                        <a:pt x="533" y="1032"/>
                      </a:lnTo>
                      <a:lnTo>
                        <a:pt x="401" y="1032"/>
                      </a:lnTo>
                      <a:lnTo>
                        <a:pt x="290" y="1023"/>
                      </a:lnTo>
                      <a:lnTo>
                        <a:pt x="181" y="1015"/>
                      </a:lnTo>
                      <a:lnTo>
                        <a:pt x="105" y="1003"/>
                      </a:lnTo>
                      <a:lnTo>
                        <a:pt x="56" y="998"/>
                      </a:lnTo>
                      <a:lnTo>
                        <a:pt x="0" y="977"/>
                      </a:lnTo>
                      <a:lnTo>
                        <a:pt x="0" y="853"/>
                      </a:lnTo>
                      <a:lnTo>
                        <a:pt x="26" y="828"/>
                      </a:lnTo>
                      <a:lnTo>
                        <a:pt x="52" y="790"/>
                      </a:lnTo>
                      <a:lnTo>
                        <a:pt x="79" y="757"/>
                      </a:lnTo>
                      <a:lnTo>
                        <a:pt x="123" y="696"/>
                      </a:lnTo>
                      <a:lnTo>
                        <a:pt x="153" y="645"/>
                      </a:lnTo>
                      <a:lnTo>
                        <a:pt x="181" y="596"/>
                      </a:lnTo>
                      <a:lnTo>
                        <a:pt x="210" y="543"/>
                      </a:lnTo>
                      <a:lnTo>
                        <a:pt x="233" y="489"/>
                      </a:lnTo>
                      <a:lnTo>
                        <a:pt x="260" y="418"/>
                      </a:lnTo>
                      <a:lnTo>
                        <a:pt x="279" y="359"/>
                      </a:lnTo>
                      <a:lnTo>
                        <a:pt x="289" y="305"/>
                      </a:lnTo>
                      <a:lnTo>
                        <a:pt x="298" y="254"/>
                      </a:lnTo>
                      <a:lnTo>
                        <a:pt x="304" y="196"/>
                      </a:lnTo>
                      <a:lnTo>
                        <a:pt x="304" y="141"/>
                      </a:lnTo>
                      <a:lnTo>
                        <a:pt x="299" y="95"/>
                      </a:lnTo>
                      <a:lnTo>
                        <a:pt x="286" y="46"/>
                      </a:lnTo>
                      <a:close/>
                    </a:path>
                  </a:pathLst>
                </a:custGeom>
                <a:solidFill>
                  <a:srgbClr val="7f7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7745400" y="5178600"/>
                <a:ext cx="298440" cy="385560"/>
                <a:chOff x="7745400" y="5178600"/>
                <a:chExt cx="298440" cy="3855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7745400" y="5178600"/>
                  <a:ext cx="298440" cy="385560"/>
                </a:xfrm>
                <a:custGeom>
                  <a:avLst/>
                  <a:gdLst/>
                  <a:ahLst/>
                  <a:rect l="l" t="t" r="r" b="b"/>
                  <a:pathLst>
                    <a:path w="1130" h="1219">
                      <a:moveTo>
                        <a:pt x="340" y="54"/>
                      </a:moveTo>
                      <a:lnTo>
                        <a:pt x="382" y="35"/>
                      </a:lnTo>
                      <a:lnTo>
                        <a:pt x="434" y="19"/>
                      </a:lnTo>
                      <a:lnTo>
                        <a:pt x="497" y="5"/>
                      </a:lnTo>
                      <a:lnTo>
                        <a:pt x="559" y="0"/>
                      </a:lnTo>
                      <a:lnTo>
                        <a:pt x="622" y="0"/>
                      </a:lnTo>
                      <a:lnTo>
                        <a:pt x="674" y="4"/>
                      </a:lnTo>
                      <a:lnTo>
                        <a:pt x="716" y="11"/>
                      </a:lnTo>
                      <a:lnTo>
                        <a:pt x="767" y="26"/>
                      </a:lnTo>
                      <a:lnTo>
                        <a:pt x="811" y="44"/>
                      </a:lnTo>
                      <a:lnTo>
                        <a:pt x="832" y="58"/>
                      </a:lnTo>
                      <a:lnTo>
                        <a:pt x="821" y="127"/>
                      </a:lnTo>
                      <a:lnTo>
                        <a:pt x="816" y="195"/>
                      </a:lnTo>
                      <a:lnTo>
                        <a:pt x="816" y="264"/>
                      </a:lnTo>
                      <a:lnTo>
                        <a:pt x="816" y="316"/>
                      </a:lnTo>
                      <a:lnTo>
                        <a:pt x="820" y="367"/>
                      </a:lnTo>
                      <a:lnTo>
                        <a:pt x="827" y="407"/>
                      </a:lnTo>
                      <a:lnTo>
                        <a:pt x="834" y="442"/>
                      </a:lnTo>
                      <a:lnTo>
                        <a:pt x="843" y="472"/>
                      </a:lnTo>
                      <a:lnTo>
                        <a:pt x="855" y="509"/>
                      </a:lnTo>
                      <a:lnTo>
                        <a:pt x="867" y="539"/>
                      </a:lnTo>
                      <a:lnTo>
                        <a:pt x="877" y="566"/>
                      </a:lnTo>
                      <a:lnTo>
                        <a:pt x="900" y="621"/>
                      </a:lnTo>
                      <a:lnTo>
                        <a:pt x="926" y="680"/>
                      </a:lnTo>
                      <a:lnTo>
                        <a:pt x="967" y="758"/>
                      </a:lnTo>
                      <a:lnTo>
                        <a:pt x="1010" y="837"/>
                      </a:lnTo>
                      <a:lnTo>
                        <a:pt x="1056" y="915"/>
                      </a:lnTo>
                      <a:lnTo>
                        <a:pt x="1082" y="959"/>
                      </a:lnTo>
                      <a:lnTo>
                        <a:pt x="1130" y="1008"/>
                      </a:lnTo>
                      <a:lnTo>
                        <a:pt x="1130" y="1160"/>
                      </a:lnTo>
                      <a:lnTo>
                        <a:pt x="1062" y="1181"/>
                      </a:lnTo>
                      <a:lnTo>
                        <a:pt x="989" y="1190"/>
                      </a:lnTo>
                      <a:lnTo>
                        <a:pt x="884" y="1205"/>
                      </a:lnTo>
                      <a:lnTo>
                        <a:pt x="764" y="1215"/>
                      </a:lnTo>
                      <a:lnTo>
                        <a:pt x="633" y="1219"/>
                      </a:lnTo>
                      <a:lnTo>
                        <a:pt x="476" y="1219"/>
                      </a:lnTo>
                      <a:lnTo>
                        <a:pt x="344" y="1209"/>
                      </a:lnTo>
                      <a:lnTo>
                        <a:pt x="213" y="1200"/>
                      </a:lnTo>
                      <a:lnTo>
                        <a:pt x="125" y="1185"/>
                      </a:lnTo>
                      <a:lnTo>
                        <a:pt x="68" y="1179"/>
                      </a:lnTo>
                      <a:lnTo>
                        <a:pt x="0" y="1155"/>
                      </a:lnTo>
                      <a:lnTo>
                        <a:pt x="0" y="1008"/>
                      </a:lnTo>
                      <a:lnTo>
                        <a:pt x="30" y="978"/>
                      </a:lnTo>
                      <a:lnTo>
                        <a:pt x="62" y="934"/>
                      </a:lnTo>
                      <a:lnTo>
                        <a:pt x="94" y="896"/>
                      </a:lnTo>
                      <a:lnTo>
                        <a:pt x="147" y="822"/>
                      </a:lnTo>
                      <a:lnTo>
                        <a:pt x="182" y="763"/>
                      </a:lnTo>
                      <a:lnTo>
                        <a:pt x="213" y="705"/>
                      </a:lnTo>
                      <a:lnTo>
                        <a:pt x="250" y="640"/>
                      </a:lnTo>
                      <a:lnTo>
                        <a:pt x="277" y="577"/>
                      </a:lnTo>
                      <a:lnTo>
                        <a:pt x="308" y="494"/>
                      </a:lnTo>
                      <a:lnTo>
                        <a:pt x="331" y="424"/>
                      </a:lnTo>
                      <a:lnTo>
                        <a:pt x="343" y="361"/>
                      </a:lnTo>
                      <a:lnTo>
                        <a:pt x="353" y="300"/>
                      </a:lnTo>
                      <a:lnTo>
                        <a:pt x="360" y="231"/>
                      </a:lnTo>
                      <a:lnTo>
                        <a:pt x="360" y="167"/>
                      </a:lnTo>
                      <a:lnTo>
                        <a:pt x="356" y="112"/>
                      </a:lnTo>
                      <a:lnTo>
                        <a:pt x="340" y="54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745400" y="5178600"/>
                  <a:ext cx="233280" cy="385560"/>
                </a:xfrm>
                <a:custGeom>
                  <a:avLst/>
                  <a:gdLst/>
                  <a:ahLst/>
                  <a:rect l="l" t="t" r="r" b="b"/>
                  <a:pathLst>
                    <a:path w="884" h="1219">
                      <a:moveTo>
                        <a:pt x="340" y="54"/>
                      </a:moveTo>
                      <a:lnTo>
                        <a:pt x="382" y="35"/>
                      </a:lnTo>
                      <a:lnTo>
                        <a:pt x="434" y="19"/>
                      </a:lnTo>
                      <a:lnTo>
                        <a:pt x="497" y="5"/>
                      </a:lnTo>
                      <a:lnTo>
                        <a:pt x="559" y="0"/>
                      </a:lnTo>
                      <a:lnTo>
                        <a:pt x="622" y="0"/>
                      </a:lnTo>
                      <a:lnTo>
                        <a:pt x="674" y="4"/>
                      </a:lnTo>
                      <a:lnTo>
                        <a:pt x="716" y="11"/>
                      </a:lnTo>
                      <a:lnTo>
                        <a:pt x="712" y="69"/>
                      </a:lnTo>
                      <a:lnTo>
                        <a:pt x="708" y="124"/>
                      </a:lnTo>
                      <a:lnTo>
                        <a:pt x="706" y="191"/>
                      </a:lnTo>
                      <a:lnTo>
                        <a:pt x="703" y="259"/>
                      </a:lnTo>
                      <a:lnTo>
                        <a:pt x="702" y="320"/>
                      </a:lnTo>
                      <a:lnTo>
                        <a:pt x="702" y="385"/>
                      </a:lnTo>
                      <a:lnTo>
                        <a:pt x="702" y="445"/>
                      </a:lnTo>
                      <a:lnTo>
                        <a:pt x="707" y="495"/>
                      </a:lnTo>
                      <a:lnTo>
                        <a:pt x="713" y="550"/>
                      </a:lnTo>
                      <a:lnTo>
                        <a:pt x="716" y="600"/>
                      </a:lnTo>
                      <a:lnTo>
                        <a:pt x="721" y="644"/>
                      </a:lnTo>
                      <a:lnTo>
                        <a:pt x="730" y="692"/>
                      </a:lnTo>
                      <a:lnTo>
                        <a:pt x="737" y="734"/>
                      </a:lnTo>
                      <a:lnTo>
                        <a:pt x="746" y="778"/>
                      </a:lnTo>
                      <a:lnTo>
                        <a:pt x="760" y="823"/>
                      </a:lnTo>
                      <a:lnTo>
                        <a:pt x="778" y="863"/>
                      </a:lnTo>
                      <a:lnTo>
                        <a:pt x="810" y="930"/>
                      </a:lnTo>
                      <a:lnTo>
                        <a:pt x="845" y="1011"/>
                      </a:lnTo>
                      <a:lnTo>
                        <a:pt x="872" y="1056"/>
                      </a:lnTo>
                      <a:lnTo>
                        <a:pt x="884" y="1091"/>
                      </a:lnTo>
                      <a:lnTo>
                        <a:pt x="884" y="1205"/>
                      </a:lnTo>
                      <a:lnTo>
                        <a:pt x="764" y="1215"/>
                      </a:lnTo>
                      <a:lnTo>
                        <a:pt x="633" y="1219"/>
                      </a:lnTo>
                      <a:lnTo>
                        <a:pt x="476" y="1219"/>
                      </a:lnTo>
                      <a:lnTo>
                        <a:pt x="344" y="1209"/>
                      </a:lnTo>
                      <a:lnTo>
                        <a:pt x="213" y="1200"/>
                      </a:lnTo>
                      <a:lnTo>
                        <a:pt x="125" y="1185"/>
                      </a:lnTo>
                      <a:lnTo>
                        <a:pt x="68" y="1179"/>
                      </a:lnTo>
                      <a:lnTo>
                        <a:pt x="0" y="1155"/>
                      </a:lnTo>
                      <a:lnTo>
                        <a:pt x="0" y="1008"/>
                      </a:lnTo>
                      <a:lnTo>
                        <a:pt x="30" y="978"/>
                      </a:lnTo>
                      <a:lnTo>
                        <a:pt x="62" y="934"/>
                      </a:lnTo>
                      <a:lnTo>
                        <a:pt x="94" y="896"/>
                      </a:lnTo>
                      <a:lnTo>
                        <a:pt x="147" y="822"/>
                      </a:lnTo>
                      <a:lnTo>
                        <a:pt x="182" y="763"/>
                      </a:lnTo>
                      <a:lnTo>
                        <a:pt x="213" y="705"/>
                      </a:lnTo>
                      <a:lnTo>
                        <a:pt x="250" y="640"/>
                      </a:lnTo>
                      <a:lnTo>
                        <a:pt x="277" y="577"/>
                      </a:lnTo>
                      <a:lnTo>
                        <a:pt x="308" y="494"/>
                      </a:lnTo>
                      <a:lnTo>
                        <a:pt x="331" y="424"/>
                      </a:lnTo>
                      <a:lnTo>
                        <a:pt x="343" y="361"/>
                      </a:lnTo>
                      <a:lnTo>
                        <a:pt x="353" y="300"/>
                      </a:lnTo>
                      <a:lnTo>
                        <a:pt x="360" y="231"/>
                      </a:lnTo>
                      <a:lnTo>
                        <a:pt x="360" y="167"/>
                      </a:lnTo>
                      <a:lnTo>
                        <a:pt x="356" y="112"/>
                      </a:lnTo>
                      <a:lnTo>
                        <a:pt x="340" y="54"/>
                      </a:lnTo>
                      <a:close/>
                    </a:path>
                  </a:pathLst>
                </a:custGeom>
                <a:solidFill>
                  <a:srgbClr val="7f7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" name=""/>
            <p:cNvGrpSpPr/>
            <p:nvPr/>
          </p:nvGrpSpPr>
          <p:grpSpPr>
            <a:xfrm>
              <a:off x="7975440" y="4871880"/>
              <a:ext cx="54000" cy="679680"/>
              <a:chOff x="7975440" y="4871880"/>
              <a:chExt cx="54000" cy="679680"/>
            </a:xfrm>
          </p:grpSpPr>
          <p:sp>
            <p:nvSpPr>
              <p:cNvPr id="84" name=""/>
              <p:cNvSpPr/>
              <p:nvPr/>
            </p:nvSpPr>
            <p:spPr>
              <a:xfrm>
                <a:off x="7975440" y="4871880"/>
                <a:ext cx="54000" cy="27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75440" y="4884840"/>
                <a:ext cx="54000" cy="666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7975440" y="4871880"/>
                <a:ext cx="54000" cy="679680"/>
                <a:chOff x="7975440" y="4871880"/>
                <a:chExt cx="54000" cy="67968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7975440" y="4871880"/>
                  <a:ext cx="54000" cy="679680"/>
                  <a:chOff x="7975440" y="4871880"/>
                  <a:chExt cx="54000" cy="67968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7975440" y="4871880"/>
                    <a:ext cx="54000" cy="2700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975440" y="4884840"/>
                    <a:ext cx="54000" cy="666720"/>
                  </a:xfrm>
                  <a:prstGeom prst="rect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" name=""/>
                <p:cNvGrpSpPr/>
                <p:nvPr/>
              </p:nvGrpSpPr>
              <p:grpSpPr>
                <a:xfrm>
                  <a:off x="7983360" y="4871880"/>
                  <a:ext cx="30240" cy="677880"/>
                  <a:chOff x="7983360" y="4871880"/>
                  <a:chExt cx="30240" cy="67788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7983360" y="4871880"/>
                    <a:ext cx="30240" cy="2700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983360" y="4884840"/>
                    <a:ext cx="30240" cy="664920"/>
                  </a:xfrm>
                  <a:prstGeom prst="rect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3" name=""/>
            <p:cNvGrpSpPr/>
            <p:nvPr/>
          </p:nvGrpSpPr>
          <p:grpSpPr>
            <a:xfrm>
              <a:off x="7321680" y="5245200"/>
              <a:ext cx="828720" cy="345960"/>
              <a:chOff x="7321680" y="5245200"/>
              <a:chExt cx="828720" cy="345960"/>
            </a:xfrm>
          </p:grpSpPr>
          <p:sp>
            <p:nvSpPr>
              <p:cNvPr id="94" name=""/>
              <p:cNvSpPr/>
              <p:nvPr/>
            </p:nvSpPr>
            <p:spPr>
              <a:xfrm>
                <a:off x="7321680" y="5519880"/>
                <a:ext cx="37800" cy="45720"/>
              </a:xfrm>
              <a:custGeom>
                <a:avLst/>
                <a:gdLst/>
                <a:ahLst/>
                <a:rect l="l" t="t" r="r" b="b"/>
                <a:pathLst>
                  <a:path w="147" h="145">
                    <a:moveTo>
                      <a:pt x="147" y="0"/>
                    </a:moveTo>
                    <a:lnTo>
                      <a:pt x="0" y="30"/>
                    </a:lnTo>
                    <a:lnTo>
                      <a:pt x="0" y="81"/>
                    </a:lnTo>
                    <a:lnTo>
                      <a:pt x="23" y="81"/>
                    </a:lnTo>
                    <a:lnTo>
                      <a:pt x="23" y="145"/>
                    </a:lnTo>
                    <a:lnTo>
                      <a:pt x="61" y="145"/>
                    </a:lnTo>
                    <a:lnTo>
                      <a:pt x="61" y="81"/>
                    </a:lnTo>
                    <a:lnTo>
                      <a:pt x="143" y="81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005f5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7358040" y="5253120"/>
                <a:ext cx="766800" cy="328680"/>
                <a:chOff x="7358040" y="5253120"/>
                <a:chExt cx="766800" cy="32868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7696080" y="5315040"/>
                  <a:ext cx="428760" cy="263520"/>
                  <a:chOff x="7696080" y="5315040"/>
                  <a:chExt cx="428760" cy="26352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8045280" y="5504040"/>
                    <a:ext cx="795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65">
                        <a:moveTo>
                          <a:pt x="0" y="41"/>
                        </a:moveTo>
                        <a:lnTo>
                          <a:pt x="93" y="41"/>
                        </a:lnTo>
                        <a:lnTo>
                          <a:pt x="93" y="5"/>
                        </a:lnTo>
                        <a:lnTo>
                          <a:pt x="155" y="0"/>
                        </a:lnTo>
                        <a:lnTo>
                          <a:pt x="155" y="41"/>
                        </a:lnTo>
                        <a:lnTo>
                          <a:pt x="194" y="48"/>
                        </a:lnTo>
                        <a:lnTo>
                          <a:pt x="194" y="20"/>
                        </a:lnTo>
                        <a:lnTo>
                          <a:pt x="248" y="20"/>
                        </a:lnTo>
                        <a:lnTo>
                          <a:pt x="248" y="56"/>
                        </a:lnTo>
                        <a:lnTo>
                          <a:pt x="302" y="71"/>
                        </a:lnTo>
                        <a:lnTo>
                          <a:pt x="302" y="165"/>
                        </a:lnTo>
                        <a:lnTo>
                          <a:pt x="0" y="165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" name=""/>
                  <p:cNvGrpSpPr/>
                  <p:nvPr/>
                </p:nvGrpSpPr>
                <p:grpSpPr>
                  <a:xfrm>
                    <a:off x="7696080" y="5315040"/>
                    <a:ext cx="358920" cy="263520"/>
                    <a:chOff x="7696080" y="5315040"/>
                    <a:chExt cx="358920" cy="263520"/>
                  </a:xfrm>
                </p:grpSpPr>
                <p:grpSp>
                  <p:nvGrpSpPr>
                    <p:cNvPr id="99" name=""/>
                    <p:cNvGrpSpPr/>
                    <p:nvPr/>
                  </p:nvGrpSpPr>
                  <p:grpSpPr>
                    <a:xfrm>
                      <a:off x="7991640" y="5411880"/>
                      <a:ext cx="63360" cy="160200"/>
                      <a:chOff x="7991640" y="5411880"/>
                      <a:chExt cx="63360" cy="160200"/>
                    </a:xfrm>
                  </p:grpSpPr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7991640" y="5411880"/>
                        <a:ext cx="63360" cy="16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1" h="506">
                            <a:moveTo>
                              <a:pt x="0" y="0"/>
                            </a:moveTo>
                            <a:lnTo>
                              <a:pt x="86" y="35"/>
                            </a:lnTo>
                            <a:lnTo>
                              <a:pt x="86" y="101"/>
                            </a:lnTo>
                            <a:lnTo>
                              <a:pt x="186" y="129"/>
                            </a:lnTo>
                            <a:lnTo>
                              <a:pt x="186" y="93"/>
                            </a:lnTo>
                            <a:lnTo>
                              <a:pt x="241" y="108"/>
                            </a:lnTo>
                            <a:lnTo>
                              <a:pt x="241" y="460"/>
                            </a:lnTo>
                            <a:lnTo>
                              <a:pt x="0" y="50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" name=""/>
                      <p:cNvSpPr/>
                      <p:nvPr/>
                    </p:nvSpPr>
                    <p:spPr>
                      <a:xfrm>
                        <a:off x="7991640" y="5465880"/>
                        <a:ext cx="2988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" h="317">
                            <a:moveTo>
                              <a:pt x="0" y="0"/>
                            </a:moveTo>
                            <a:lnTo>
                              <a:pt x="117" y="43"/>
                            </a:lnTo>
                            <a:lnTo>
                              <a:pt x="117" y="310"/>
                            </a:lnTo>
                            <a:lnTo>
                              <a:pt x="78" y="317"/>
                            </a:lnTo>
                            <a:lnTo>
                              <a:pt x="78" y="49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5f5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2" name=""/>
                    <p:cNvGrpSpPr/>
                    <p:nvPr/>
                  </p:nvGrpSpPr>
                  <p:grpSpPr>
                    <a:xfrm>
                      <a:off x="7696080" y="5315040"/>
                      <a:ext cx="317520" cy="263520"/>
                      <a:chOff x="7696080" y="5315040"/>
                      <a:chExt cx="317520" cy="263520"/>
                    </a:xfrm>
                  </p:grpSpPr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7696080" y="5315040"/>
                        <a:ext cx="247680" cy="26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7" h="829">
                            <a:moveTo>
                              <a:pt x="0" y="179"/>
                            </a:moveTo>
                            <a:lnTo>
                              <a:pt x="937" y="0"/>
                            </a:lnTo>
                            <a:lnTo>
                              <a:pt x="937" y="829"/>
                            </a:lnTo>
                            <a:lnTo>
                              <a:pt x="0" y="829"/>
                            </a:lnTo>
                            <a:lnTo>
                              <a:pt x="0" y="179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7943760" y="5315040"/>
                        <a:ext cx="69840" cy="26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4" h="827">
                            <a:moveTo>
                              <a:pt x="170" y="3"/>
                            </a:moveTo>
                            <a:lnTo>
                              <a:pt x="170" y="39"/>
                            </a:lnTo>
                            <a:lnTo>
                              <a:pt x="0" y="0"/>
                            </a:lnTo>
                            <a:lnTo>
                              <a:pt x="0" y="827"/>
                            </a:lnTo>
                            <a:lnTo>
                              <a:pt x="178" y="806"/>
                            </a:lnTo>
                            <a:lnTo>
                              <a:pt x="178" y="177"/>
                            </a:lnTo>
                            <a:lnTo>
                              <a:pt x="264" y="191"/>
                            </a:lnTo>
                            <a:lnTo>
                              <a:pt x="264" y="25"/>
                            </a:lnTo>
                            <a:lnTo>
                              <a:pt x="170" y="3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5" name=""/>
                    <p:cNvGrpSpPr/>
                    <p:nvPr/>
                  </p:nvGrpSpPr>
                  <p:grpSpPr>
                    <a:xfrm>
                      <a:off x="7805880" y="5332320"/>
                      <a:ext cx="54000" cy="193680"/>
                      <a:chOff x="7805880" y="5332320"/>
                      <a:chExt cx="54000" cy="193680"/>
                    </a:xfrm>
                  </p:grpSpPr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7805880" y="5332320"/>
                        <a:ext cx="37800" cy="15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492">
                            <a:moveTo>
                              <a:pt x="147" y="0"/>
                            </a:moveTo>
                            <a:lnTo>
                              <a:pt x="147" y="485"/>
                            </a:lnTo>
                            <a:lnTo>
                              <a:pt x="0" y="492"/>
                            </a:lnTo>
                            <a:lnTo>
                              <a:pt x="0" y="22"/>
                            </a:lnTo>
                            <a:lnTo>
                              <a:pt x="147" y="0"/>
                            </a:lnTo>
                            <a:close/>
                          </a:path>
                        </a:pathLst>
                      </a:custGeom>
                      <a:solidFill>
                        <a:srgbClr val="00dfb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7805880" y="5486400"/>
                        <a:ext cx="5076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3" h="111">
                            <a:moveTo>
                              <a:pt x="0" y="7"/>
                            </a:moveTo>
                            <a:lnTo>
                              <a:pt x="147" y="0"/>
                            </a:lnTo>
                            <a:lnTo>
                              <a:pt x="193" y="109"/>
                            </a:lnTo>
                            <a:lnTo>
                              <a:pt x="64" y="111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7843680" y="5332320"/>
                        <a:ext cx="16200" cy="19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608">
                            <a:moveTo>
                              <a:pt x="0" y="0"/>
                            </a:moveTo>
                            <a:lnTo>
                              <a:pt x="59" y="5"/>
                            </a:lnTo>
                            <a:lnTo>
                              <a:pt x="59" y="608"/>
                            </a:lnTo>
                            <a:lnTo>
                              <a:pt x="0" y="48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" name=""/>
                    <p:cNvGrpSpPr/>
                    <p:nvPr/>
                  </p:nvGrpSpPr>
                  <p:grpSpPr>
                    <a:xfrm>
                      <a:off x="7718400" y="5353200"/>
                      <a:ext cx="60480" cy="174600"/>
                      <a:chOff x="7718400" y="5353200"/>
                      <a:chExt cx="60480" cy="174600"/>
                    </a:xfrm>
                  </p:grpSpPr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7758000" y="5353200"/>
                        <a:ext cx="2088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546">
                            <a:moveTo>
                              <a:pt x="0" y="0"/>
                            </a:moveTo>
                            <a:lnTo>
                              <a:pt x="0" y="434"/>
                            </a:lnTo>
                            <a:lnTo>
                              <a:pt x="78" y="546"/>
                            </a:lnTo>
                            <a:lnTo>
                              <a:pt x="78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7719840" y="5353200"/>
                        <a:ext cx="36720" cy="14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9" h="448">
                            <a:moveTo>
                              <a:pt x="0" y="22"/>
                            </a:moveTo>
                            <a:lnTo>
                              <a:pt x="139" y="0"/>
                            </a:lnTo>
                            <a:lnTo>
                              <a:pt x="139" y="441"/>
                            </a:lnTo>
                            <a:lnTo>
                              <a:pt x="0" y="448"/>
                            </a:lnTo>
                            <a:lnTo>
                              <a:pt x="0" y="22"/>
                            </a:lnTo>
                            <a:close/>
                          </a:path>
                        </a:pathLst>
                      </a:custGeom>
                      <a:solidFill>
                        <a:srgbClr val="00dfb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7718400" y="5491080"/>
                        <a:ext cx="5868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5" h="116">
                            <a:moveTo>
                              <a:pt x="0" y="7"/>
                            </a:moveTo>
                            <a:lnTo>
                              <a:pt x="147" y="0"/>
                            </a:lnTo>
                            <a:lnTo>
                              <a:pt x="225" y="116"/>
                            </a:lnTo>
                            <a:lnTo>
                              <a:pt x="77" y="116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3" name=""/>
                    <p:cNvGrpSpPr/>
                    <p:nvPr/>
                  </p:nvGrpSpPr>
                  <p:grpSpPr>
                    <a:xfrm>
                      <a:off x="7883640" y="5316480"/>
                      <a:ext cx="55440" cy="155520"/>
                      <a:chOff x="7883640" y="5316480"/>
                      <a:chExt cx="55440" cy="155520"/>
                    </a:xfrm>
                  </p:grpSpPr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7885080" y="5419800"/>
                        <a:ext cx="5400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5" h="162">
                            <a:moveTo>
                              <a:pt x="0" y="3"/>
                            </a:moveTo>
                            <a:lnTo>
                              <a:pt x="135" y="0"/>
                            </a:lnTo>
                            <a:lnTo>
                              <a:pt x="205" y="162"/>
                            </a:lnTo>
                            <a:lnTo>
                              <a:pt x="73" y="162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7883640" y="5316480"/>
                        <a:ext cx="3816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9" h="332">
                            <a:moveTo>
                              <a:pt x="0" y="332"/>
                            </a:moveTo>
                            <a:lnTo>
                              <a:pt x="139" y="318"/>
                            </a:lnTo>
                            <a:lnTo>
                              <a:pt x="139" y="0"/>
                            </a:lnTo>
                            <a:lnTo>
                              <a:pt x="0" y="20"/>
                            </a:lnTo>
                            <a:lnTo>
                              <a:pt x="0" y="332"/>
                            </a:lnTo>
                            <a:close/>
                          </a:path>
                        </a:pathLst>
                      </a:custGeom>
                      <a:solidFill>
                        <a:srgbClr val="00dfb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7920000" y="5316480"/>
                        <a:ext cx="19080" cy="155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489">
                            <a:moveTo>
                              <a:pt x="0" y="0"/>
                            </a:moveTo>
                            <a:lnTo>
                              <a:pt x="0" y="322"/>
                            </a:lnTo>
                            <a:lnTo>
                              <a:pt x="74" y="489"/>
                            </a:lnTo>
                            <a:lnTo>
                              <a:pt x="74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7" name=""/>
                    <p:cNvGrpSpPr/>
                    <p:nvPr/>
                  </p:nvGrpSpPr>
                  <p:grpSpPr>
                    <a:xfrm>
                      <a:off x="7797960" y="5345280"/>
                      <a:ext cx="42840" cy="131760"/>
                      <a:chOff x="7797960" y="5345280"/>
                      <a:chExt cx="42840" cy="131760"/>
                    </a:xfrm>
                  </p:grpSpPr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7797960" y="5345280"/>
                        <a:ext cx="2196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" h="263">
                            <a:moveTo>
                              <a:pt x="0" y="10"/>
                            </a:moveTo>
                            <a:lnTo>
                              <a:pt x="85" y="0"/>
                            </a:lnTo>
                            <a:lnTo>
                              <a:pt x="85" y="263"/>
                            </a:lnTo>
                            <a:lnTo>
                              <a:pt x="0" y="26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00dfb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7797960" y="5429160"/>
                        <a:ext cx="4284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9" h="148">
                            <a:moveTo>
                              <a:pt x="0" y="0"/>
                            </a:moveTo>
                            <a:lnTo>
                              <a:pt x="85" y="0"/>
                            </a:lnTo>
                            <a:lnTo>
                              <a:pt x="159" y="148"/>
                            </a:lnTo>
                            <a:lnTo>
                              <a:pt x="78" y="14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7819920" y="5345280"/>
                        <a:ext cx="2088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412">
                            <a:moveTo>
                              <a:pt x="78" y="412"/>
                            </a:moveTo>
                            <a:lnTo>
                              <a:pt x="78" y="17"/>
                            </a:lnTo>
                            <a:lnTo>
                              <a:pt x="0" y="0"/>
                            </a:lnTo>
                            <a:lnTo>
                              <a:pt x="0" y="271"/>
                            </a:lnTo>
                            <a:lnTo>
                              <a:pt x="78" y="412"/>
                            </a:lnTo>
                            <a:close/>
                          </a:path>
                        </a:pathLst>
                      </a:custGeom>
                      <a:solidFill>
                        <a:srgbClr val="7fffd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1" name=""/>
                    <p:cNvGrpSpPr/>
                    <p:nvPr/>
                  </p:nvGrpSpPr>
                  <p:grpSpPr>
                    <a:xfrm>
                      <a:off x="7713720" y="5376960"/>
                      <a:ext cx="39600" cy="102960"/>
                      <a:chOff x="7713720" y="5376960"/>
                      <a:chExt cx="39600" cy="102960"/>
                    </a:xfrm>
                  </p:grpSpPr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7713720" y="5435640"/>
                        <a:ext cx="396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138">
                            <a:moveTo>
                              <a:pt x="63" y="138"/>
                            </a:moveTo>
                            <a:lnTo>
                              <a:pt x="147" y="138"/>
                            </a:lnTo>
                            <a:lnTo>
                              <a:pt x="85" y="0"/>
                            </a:lnTo>
                            <a:lnTo>
                              <a:pt x="0" y="0"/>
                            </a:lnTo>
                            <a:lnTo>
                              <a:pt x="63" y="138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7713720" y="5376960"/>
                        <a:ext cx="2376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0" h="184">
                            <a:moveTo>
                              <a:pt x="0" y="184"/>
                            </a:moveTo>
                            <a:lnTo>
                              <a:pt x="85" y="184"/>
                            </a:lnTo>
                            <a:lnTo>
                              <a:pt x="90" y="0"/>
                            </a:lnTo>
                            <a:lnTo>
                              <a:pt x="0" y="11"/>
                            </a:lnTo>
                            <a:lnTo>
                              <a:pt x="0" y="184"/>
                            </a:lnTo>
                            <a:close/>
                          </a:path>
                        </a:pathLst>
                      </a:custGeom>
                      <a:solidFill>
                        <a:srgbClr val="00dfb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7736040" y="5378400"/>
                        <a:ext cx="17280" cy="10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22">
                            <a:moveTo>
                              <a:pt x="0" y="0"/>
                            </a:moveTo>
                            <a:lnTo>
                              <a:pt x="0" y="181"/>
                            </a:lnTo>
                            <a:lnTo>
                              <a:pt x="67" y="322"/>
                            </a:lnTo>
                            <a:lnTo>
                              <a:pt x="62" y="4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7372440" y="5253120"/>
                  <a:ext cx="331560" cy="328680"/>
                  <a:chOff x="7372440" y="5253120"/>
                  <a:chExt cx="331560" cy="328680"/>
                </a:xfrm>
              </p:grpSpPr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7372440" y="5253120"/>
                    <a:ext cx="331560" cy="328680"/>
                    <a:chOff x="7372440" y="5253120"/>
                    <a:chExt cx="331560" cy="32868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7639200" y="5342040"/>
                      <a:ext cx="64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7" h="738">
                          <a:moveTo>
                            <a:pt x="69" y="0"/>
                          </a:moveTo>
                          <a:lnTo>
                            <a:pt x="69" y="87"/>
                          </a:lnTo>
                          <a:lnTo>
                            <a:pt x="0" y="73"/>
                          </a:lnTo>
                          <a:lnTo>
                            <a:pt x="0" y="738"/>
                          </a:lnTo>
                          <a:lnTo>
                            <a:pt x="247" y="730"/>
                          </a:lnTo>
                          <a:lnTo>
                            <a:pt x="247" y="87"/>
                          </a:lnTo>
                          <a:lnTo>
                            <a:pt x="69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7628040" y="5342040"/>
                      <a:ext cx="284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23">
                          <a:moveTo>
                            <a:pt x="108" y="0"/>
                          </a:moveTo>
                          <a:lnTo>
                            <a:pt x="0" y="22"/>
                          </a:lnTo>
                          <a:lnTo>
                            <a:pt x="0" y="123"/>
                          </a:lnTo>
                          <a:lnTo>
                            <a:pt x="108" y="123"/>
                          </a:lnTo>
                          <a:lnTo>
                            <a:pt x="108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372440" y="5253120"/>
                      <a:ext cx="177840" cy="32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4" h="1035">
                          <a:moveTo>
                            <a:pt x="0" y="191"/>
                          </a:moveTo>
                          <a:lnTo>
                            <a:pt x="674" y="0"/>
                          </a:lnTo>
                          <a:lnTo>
                            <a:pt x="674" y="1035"/>
                          </a:lnTo>
                          <a:lnTo>
                            <a:pt x="1" y="1016"/>
                          </a:lnTo>
                          <a:lnTo>
                            <a:pt x="0" y="191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7550280" y="5254560"/>
                      <a:ext cx="9036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032">
                          <a:moveTo>
                            <a:pt x="0" y="0"/>
                          </a:moveTo>
                          <a:lnTo>
                            <a:pt x="54" y="15"/>
                          </a:lnTo>
                          <a:lnTo>
                            <a:pt x="131" y="8"/>
                          </a:lnTo>
                          <a:lnTo>
                            <a:pt x="209" y="23"/>
                          </a:lnTo>
                          <a:lnTo>
                            <a:pt x="209" y="59"/>
                          </a:lnTo>
                          <a:lnTo>
                            <a:pt x="340" y="105"/>
                          </a:lnTo>
                          <a:lnTo>
                            <a:pt x="340" y="995"/>
                          </a:lnTo>
                          <a:lnTo>
                            <a:pt x="0" y="103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" name=""/>
                  <p:cNvSpPr/>
                  <p:nvPr/>
                </p:nvSpPr>
                <p:spPr>
                  <a:xfrm>
                    <a:off x="7664400" y="535320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09">
                        <a:moveTo>
                          <a:pt x="0" y="0"/>
                        </a:moveTo>
                        <a:lnTo>
                          <a:pt x="0" y="58"/>
                        </a:lnTo>
                        <a:lnTo>
                          <a:pt x="123" y="109"/>
                        </a:lnTo>
                        <a:lnTo>
                          <a:pt x="123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7358040" y="5361120"/>
                  <a:ext cx="39600" cy="215640"/>
                  <a:chOff x="7358040" y="5361120"/>
                  <a:chExt cx="39600" cy="21564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7358040" y="5361120"/>
                    <a:ext cx="39600" cy="215640"/>
                    <a:chOff x="7358040" y="5361120"/>
                    <a:chExt cx="39600" cy="21564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7358040" y="5361120"/>
                      <a:ext cx="2232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680">
                          <a:moveTo>
                            <a:pt x="0" y="21"/>
                          </a:moveTo>
                          <a:lnTo>
                            <a:pt x="85" y="0"/>
                          </a:lnTo>
                          <a:lnTo>
                            <a:pt x="85" y="680"/>
                          </a:lnTo>
                          <a:lnTo>
                            <a:pt x="0" y="680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7381800" y="5362560"/>
                      <a:ext cx="15840" cy="212760"/>
                    </a:xfrm>
                    <a:prstGeom prst="rect">
                      <a:avLst/>
                    </a:prstGeom>
                    <a:solidFill>
                      <a:srgbClr val="00dfb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7388280" y="5370480"/>
                    <a:ext cx="1440" cy="90360"/>
                    <a:chOff x="7388280" y="5370480"/>
                    <a:chExt cx="1440" cy="90360"/>
                  </a:xfrm>
                </p:grpSpPr>
                <p:grpSp>
                  <p:nvGrpSpPr>
                    <p:cNvPr id="137" name=""/>
                    <p:cNvGrpSpPr/>
                    <p:nvPr/>
                  </p:nvGrpSpPr>
                  <p:grpSpPr>
                    <a:xfrm>
                      <a:off x="7388280" y="5370480"/>
                      <a:ext cx="1440" cy="39600"/>
                      <a:chOff x="7388280" y="5370480"/>
                      <a:chExt cx="1440" cy="39600"/>
                    </a:xfrm>
                  </p:grpSpPr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7388280" y="5370480"/>
                        <a:ext cx="1440" cy="15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" name=""/>
                      <p:cNvSpPr/>
                      <p:nvPr/>
                    </p:nvSpPr>
                    <p:spPr>
                      <a:xfrm>
                        <a:off x="7388280" y="5394240"/>
                        <a:ext cx="1440" cy="15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0" name=""/>
                    <p:cNvGrpSpPr/>
                    <p:nvPr/>
                  </p:nvGrpSpPr>
                  <p:grpSpPr>
                    <a:xfrm>
                      <a:off x="7388280" y="5421240"/>
                      <a:ext cx="1440" cy="39600"/>
                      <a:chOff x="7388280" y="5421240"/>
                      <a:chExt cx="1440" cy="39600"/>
                    </a:xfrm>
                  </p:grpSpPr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7388280" y="5421240"/>
                        <a:ext cx="1440" cy="15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7388280" y="5445000"/>
                        <a:ext cx="1440" cy="15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43" name=""/>
              <p:cNvGrpSpPr/>
              <p:nvPr/>
            </p:nvGrpSpPr>
            <p:grpSpPr>
              <a:xfrm>
                <a:off x="7407360" y="5245200"/>
                <a:ext cx="118800" cy="56880"/>
                <a:chOff x="7407360" y="5245200"/>
                <a:chExt cx="118800" cy="568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407360" y="5281560"/>
                  <a:ext cx="9360" cy="20520"/>
                </a:xfrm>
                <a:custGeom>
                  <a:avLst/>
                  <a:gdLst/>
                  <a:ahLst/>
                  <a:rect l="l" t="t" r="r" b="b"/>
                  <a:pathLst>
                    <a:path w="38" h="65">
                      <a:moveTo>
                        <a:pt x="0" y="0"/>
                      </a:moveTo>
                      <a:lnTo>
                        <a:pt x="0" y="65"/>
                      </a:lnTo>
                      <a:lnTo>
                        <a:pt x="37" y="55"/>
                      </a:lnTo>
                      <a:lnTo>
                        <a:pt x="3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475400" y="5257800"/>
                  <a:ext cx="9720" cy="22320"/>
                </a:xfrm>
                <a:custGeom>
                  <a:avLst/>
                  <a:gdLst/>
                  <a:ahLst/>
                  <a:rect l="l" t="t" r="r" b="b"/>
                  <a:pathLst>
                    <a:path w="38" h="67">
                      <a:moveTo>
                        <a:pt x="0" y="0"/>
                      </a:moveTo>
                      <a:lnTo>
                        <a:pt x="0" y="67"/>
                      </a:lnTo>
                      <a:lnTo>
                        <a:pt x="36" y="55"/>
                      </a:lnTo>
                      <a:lnTo>
                        <a:pt x="3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442280" y="5270400"/>
                  <a:ext cx="9360" cy="20880"/>
                </a:xfrm>
                <a:custGeom>
                  <a:avLst/>
                  <a:gdLst/>
                  <a:ahLst/>
                  <a:rect l="l" t="t" r="r" b="b"/>
                  <a:pathLst>
                    <a:path w="37" h="67">
                      <a:moveTo>
                        <a:pt x="0" y="0"/>
                      </a:moveTo>
                      <a:lnTo>
                        <a:pt x="0" y="67"/>
                      </a:lnTo>
                      <a:lnTo>
                        <a:pt x="36" y="55"/>
                      </a:lnTo>
                      <a:lnTo>
                        <a:pt x="3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15360" y="5245200"/>
                  <a:ext cx="10800" cy="20520"/>
                </a:xfrm>
                <a:custGeom>
                  <a:avLst/>
                  <a:gdLst/>
                  <a:ahLst/>
                  <a:rect l="l" t="t" r="r" b="b"/>
                  <a:pathLst>
                    <a:path w="37" h="66">
                      <a:moveTo>
                        <a:pt x="0" y="0"/>
                      </a:moveTo>
                      <a:lnTo>
                        <a:pt x="0" y="66"/>
                      </a:lnTo>
                      <a:lnTo>
                        <a:pt x="36" y="55"/>
                      </a:lnTo>
                      <a:lnTo>
                        <a:pt x="3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585200" y="5349960"/>
                <a:ext cx="68040" cy="231840"/>
                <a:chOff x="7585200" y="5349960"/>
                <a:chExt cx="68040" cy="231840"/>
              </a:xfrm>
            </p:grpSpPr>
            <p:grpSp>
              <p:nvGrpSpPr>
                <p:cNvPr id="149" name=""/>
                <p:cNvGrpSpPr/>
                <p:nvPr/>
              </p:nvGrpSpPr>
              <p:grpSpPr>
                <a:xfrm>
                  <a:off x="7585200" y="5349960"/>
                  <a:ext cx="68040" cy="231840"/>
                  <a:chOff x="7585200" y="5349960"/>
                  <a:chExt cx="68040" cy="2318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7605720" y="5349960"/>
                    <a:ext cx="475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731">
                        <a:moveTo>
                          <a:pt x="0" y="0"/>
                        </a:moveTo>
                        <a:lnTo>
                          <a:pt x="179" y="36"/>
                        </a:lnTo>
                        <a:lnTo>
                          <a:pt x="179" y="714"/>
                        </a:lnTo>
                        <a:lnTo>
                          <a:pt x="0" y="73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585200" y="5349960"/>
                    <a:ext cx="205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32">
                        <a:moveTo>
                          <a:pt x="81" y="0"/>
                        </a:moveTo>
                        <a:lnTo>
                          <a:pt x="81" y="732"/>
                        </a:lnTo>
                        <a:lnTo>
                          <a:pt x="0" y="719"/>
                        </a:lnTo>
                        <a:lnTo>
                          <a:pt x="0" y="15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623000" y="5383080"/>
                  <a:ext cx="1800" cy="90720"/>
                  <a:chOff x="7623000" y="5383080"/>
                  <a:chExt cx="1800" cy="9072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623000" y="5383080"/>
                    <a:ext cx="1800" cy="39960"/>
                    <a:chOff x="7623000" y="5383080"/>
                    <a:chExt cx="1800" cy="3996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623000" y="5383080"/>
                      <a:ext cx="18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7623000" y="5407200"/>
                      <a:ext cx="18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623000" y="5432400"/>
                    <a:ext cx="1800" cy="41400"/>
                    <a:chOff x="7623000" y="5432400"/>
                    <a:chExt cx="1800" cy="4140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7623000" y="5432400"/>
                      <a:ext cx="1800" cy="17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7623000" y="5457960"/>
                      <a:ext cx="18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59" name=""/>
              <p:cNvSpPr/>
              <p:nvPr/>
            </p:nvSpPr>
            <p:spPr>
              <a:xfrm>
                <a:off x="7639200" y="5424480"/>
                <a:ext cx="106200" cy="152280"/>
              </a:xfrm>
              <a:custGeom>
                <a:avLst/>
                <a:gdLst/>
                <a:ahLst/>
                <a:rect l="l" t="t" r="r" b="b"/>
                <a:pathLst>
                  <a:path w="403" h="477">
                    <a:moveTo>
                      <a:pt x="0" y="477"/>
                    </a:moveTo>
                    <a:lnTo>
                      <a:pt x="403" y="477"/>
                    </a:lnTo>
                    <a:lnTo>
                      <a:pt x="403" y="0"/>
                    </a:lnTo>
                    <a:lnTo>
                      <a:pt x="155" y="13"/>
                    </a:lnTo>
                    <a:lnTo>
                      <a:pt x="155" y="354"/>
                    </a:lnTo>
                    <a:lnTo>
                      <a:pt x="0" y="383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5f3f1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86680" y="5481720"/>
                <a:ext cx="20520" cy="87120"/>
              </a:xfrm>
              <a:custGeom>
                <a:avLst/>
                <a:gdLst/>
                <a:ahLst/>
                <a:rect l="l" t="t" r="r" b="b"/>
                <a:pathLst>
                  <a:path w="72" h="275">
                    <a:moveTo>
                      <a:pt x="0" y="46"/>
                    </a:moveTo>
                    <a:lnTo>
                      <a:pt x="1" y="32"/>
                    </a:lnTo>
                    <a:lnTo>
                      <a:pt x="6" y="18"/>
                    </a:lnTo>
                    <a:lnTo>
                      <a:pt x="16" y="6"/>
                    </a:lnTo>
                    <a:lnTo>
                      <a:pt x="28" y="0"/>
                    </a:lnTo>
                    <a:lnTo>
                      <a:pt x="43" y="0"/>
                    </a:lnTo>
                    <a:lnTo>
                      <a:pt x="52" y="4"/>
                    </a:lnTo>
                    <a:lnTo>
                      <a:pt x="62" y="12"/>
                    </a:lnTo>
                    <a:lnTo>
                      <a:pt x="68" y="20"/>
                    </a:lnTo>
                    <a:lnTo>
                      <a:pt x="71" y="30"/>
                    </a:lnTo>
                    <a:lnTo>
                      <a:pt x="72" y="37"/>
                    </a:lnTo>
                    <a:lnTo>
                      <a:pt x="72" y="48"/>
                    </a:lnTo>
                    <a:lnTo>
                      <a:pt x="59" y="48"/>
                    </a:lnTo>
                    <a:lnTo>
                      <a:pt x="59" y="32"/>
                    </a:lnTo>
                    <a:lnTo>
                      <a:pt x="53" y="20"/>
                    </a:lnTo>
                    <a:lnTo>
                      <a:pt x="45" y="15"/>
                    </a:lnTo>
                    <a:lnTo>
                      <a:pt x="34" y="15"/>
                    </a:lnTo>
                    <a:lnTo>
                      <a:pt x="25" y="19"/>
                    </a:lnTo>
                    <a:lnTo>
                      <a:pt x="17" y="28"/>
                    </a:lnTo>
                    <a:lnTo>
                      <a:pt x="15" y="38"/>
                    </a:lnTo>
                    <a:lnTo>
                      <a:pt x="15" y="52"/>
                    </a:lnTo>
                    <a:lnTo>
                      <a:pt x="15" y="275"/>
                    </a:lnTo>
                    <a:lnTo>
                      <a:pt x="0" y="275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5f5f7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689960" y="5548320"/>
                <a:ext cx="242640" cy="34920"/>
                <a:chOff x="7689960" y="5548320"/>
                <a:chExt cx="242640" cy="3492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7689960" y="5548320"/>
                  <a:ext cx="122040" cy="34920"/>
                  <a:chOff x="7689960" y="5548320"/>
                  <a:chExt cx="122040" cy="34920"/>
                </a:xfrm>
              </p:grpSpPr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7689960" y="5548320"/>
                    <a:ext cx="29880" cy="34920"/>
                    <a:chOff x="7689960" y="5548320"/>
                    <a:chExt cx="29880" cy="3492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691400" y="5549760"/>
                      <a:ext cx="2700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689960" y="5548320"/>
                      <a:ext cx="298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08">
                          <a:moveTo>
                            <a:pt x="0" y="0"/>
                          </a:moveTo>
                          <a:lnTo>
                            <a:pt x="113" y="108"/>
                          </a:lnTo>
                          <a:lnTo>
                            <a:pt x="113" y="0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7719840" y="5548320"/>
                    <a:ext cx="30240" cy="34920"/>
                    <a:chOff x="7719840" y="5548320"/>
                    <a:chExt cx="30240" cy="3492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721640" y="5549760"/>
                      <a:ext cx="2700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719840" y="5548320"/>
                      <a:ext cx="3024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108">
                          <a:moveTo>
                            <a:pt x="0" y="0"/>
                          </a:moveTo>
                          <a:lnTo>
                            <a:pt x="115" y="108"/>
                          </a:lnTo>
                          <a:lnTo>
                            <a:pt x="115" y="0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7750080" y="5548320"/>
                    <a:ext cx="31680" cy="34920"/>
                    <a:chOff x="7750080" y="5548320"/>
                    <a:chExt cx="31680" cy="34920"/>
                  </a:xfrm>
                </p:grpSpPr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7751880" y="5549760"/>
                      <a:ext cx="2844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750080" y="5548320"/>
                      <a:ext cx="316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108">
                          <a:moveTo>
                            <a:pt x="0" y="0"/>
                          </a:moveTo>
                          <a:lnTo>
                            <a:pt x="116" y="108"/>
                          </a:lnTo>
                          <a:lnTo>
                            <a:pt x="116" y="0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7781760" y="5548320"/>
                    <a:ext cx="30240" cy="34920"/>
                    <a:chOff x="7781760" y="5548320"/>
                    <a:chExt cx="30240" cy="3492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7783560" y="5549760"/>
                      <a:ext cx="2700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81760" y="5548320"/>
                      <a:ext cx="3024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108">
                          <a:moveTo>
                            <a:pt x="0" y="0"/>
                          </a:moveTo>
                          <a:lnTo>
                            <a:pt x="114" y="108"/>
                          </a:lnTo>
                          <a:lnTo>
                            <a:pt x="114" y="0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7812000" y="5548320"/>
                  <a:ext cx="120600" cy="34920"/>
                  <a:chOff x="7812000" y="5548320"/>
                  <a:chExt cx="120600" cy="34920"/>
                </a:xfrm>
              </p:grpSpPr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7812000" y="5548320"/>
                    <a:ext cx="30240" cy="34920"/>
                    <a:chOff x="7812000" y="5548320"/>
                    <a:chExt cx="30240" cy="3492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813800" y="5549760"/>
                      <a:ext cx="2700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812000" y="5548320"/>
                      <a:ext cx="3024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108">
                          <a:moveTo>
                            <a:pt x="0" y="0"/>
                          </a:moveTo>
                          <a:lnTo>
                            <a:pt x="114" y="108"/>
                          </a:lnTo>
                          <a:lnTo>
                            <a:pt x="114" y="0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7842240" y="5548320"/>
                    <a:ext cx="30240" cy="34920"/>
                    <a:chOff x="7842240" y="5548320"/>
                    <a:chExt cx="30240" cy="3492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843680" y="5549760"/>
                      <a:ext cx="2700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842240" y="5548320"/>
                      <a:ext cx="3024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108">
                          <a:moveTo>
                            <a:pt x="0" y="0"/>
                          </a:moveTo>
                          <a:lnTo>
                            <a:pt x="115" y="108"/>
                          </a:lnTo>
                          <a:lnTo>
                            <a:pt x="115" y="0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7872480" y="5548320"/>
                    <a:ext cx="30240" cy="34920"/>
                    <a:chOff x="7872480" y="5548320"/>
                    <a:chExt cx="30240" cy="3492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7873920" y="5549760"/>
                      <a:ext cx="2700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872480" y="5548320"/>
                      <a:ext cx="3024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108">
                          <a:moveTo>
                            <a:pt x="0" y="0"/>
                          </a:moveTo>
                          <a:lnTo>
                            <a:pt x="115" y="108"/>
                          </a:lnTo>
                          <a:lnTo>
                            <a:pt x="115" y="0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7902720" y="5548320"/>
                    <a:ext cx="29880" cy="34920"/>
                    <a:chOff x="7902720" y="5548320"/>
                    <a:chExt cx="29880" cy="3492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904160" y="5549760"/>
                      <a:ext cx="27000" cy="32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902720" y="5548320"/>
                      <a:ext cx="298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108">
                          <a:moveTo>
                            <a:pt x="0" y="0"/>
                          </a:moveTo>
                          <a:lnTo>
                            <a:pt x="115" y="108"/>
                          </a:lnTo>
                          <a:lnTo>
                            <a:pt x="115" y="0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8" name=""/>
                <p:cNvSpPr/>
                <p:nvPr/>
              </p:nvSpPr>
              <p:spPr>
                <a:xfrm>
                  <a:off x="7765920" y="5548320"/>
                  <a:ext cx="1800" cy="3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856640" y="5548320"/>
                  <a:ext cx="1440" cy="3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796160" y="5548320"/>
                  <a:ext cx="1800" cy="3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826400" y="5548320"/>
                  <a:ext cx="1440" cy="3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736040" y="5548320"/>
                  <a:ext cx="1440" cy="3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705800" y="5548320"/>
                  <a:ext cx="1440" cy="3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886880" y="5548320"/>
                  <a:ext cx="1440" cy="3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16760" y="5548320"/>
                  <a:ext cx="1800" cy="34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7643880" y="5532480"/>
                <a:ext cx="264960" cy="15840"/>
              </a:xfrm>
              <a:custGeom>
                <a:avLst/>
                <a:gdLst/>
                <a:ahLst/>
                <a:rect l="l" t="t" r="r" b="b"/>
                <a:pathLst>
                  <a:path w="1005" h="50">
                    <a:moveTo>
                      <a:pt x="0" y="43"/>
                    </a:moveTo>
                    <a:lnTo>
                      <a:pt x="62" y="0"/>
                    </a:lnTo>
                    <a:lnTo>
                      <a:pt x="999" y="0"/>
                    </a:lnTo>
                    <a:lnTo>
                      <a:pt x="1005" y="5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031240" y="5467320"/>
                <a:ext cx="25200" cy="115920"/>
              </a:xfrm>
              <a:custGeom>
                <a:avLst/>
                <a:gdLst/>
                <a:ahLst/>
                <a:rect l="l" t="t" r="r" b="b"/>
                <a:pathLst>
                  <a:path w="97" h="361">
                    <a:moveTo>
                      <a:pt x="0" y="60"/>
                    </a:moveTo>
                    <a:lnTo>
                      <a:pt x="1" y="41"/>
                    </a:lnTo>
                    <a:lnTo>
                      <a:pt x="8" y="23"/>
                    </a:lnTo>
                    <a:lnTo>
                      <a:pt x="21" y="8"/>
                    </a:lnTo>
                    <a:lnTo>
                      <a:pt x="38" y="0"/>
                    </a:lnTo>
                    <a:lnTo>
                      <a:pt x="58" y="0"/>
                    </a:lnTo>
                    <a:lnTo>
                      <a:pt x="70" y="5"/>
                    </a:lnTo>
                    <a:lnTo>
                      <a:pt x="84" y="15"/>
                    </a:lnTo>
                    <a:lnTo>
                      <a:pt x="91" y="26"/>
                    </a:lnTo>
                    <a:lnTo>
                      <a:pt x="95" y="39"/>
                    </a:lnTo>
                    <a:lnTo>
                      <a:pt x="96" y="48"/>
                    </a:lnTo>
                    <a:lnTo>
                      <a:pt x="97" y="62"/>
                    </a:lnTo>
                    <a:lnTo>
                      <a:pt x="79" y="62"/>
                    </a:lnTo>
                    <a:lnTo>
                      <a:pt x="79" y="41"/>
                    </a:lnTo>
                    <a:lnTo>
                      <a:pt x="72" y="26"/>
                    </a:lnTo>
                    <a:lnTo>
                      <a:pt x="60" y="20"/>
                    </a:lnTo>
                    <a:lnTo>
                      <a:pt x="46" y="20"/>
                    </a:lnTo>
                    <a:lnTo>
                      <a:pt x="34" y="24"/>
                    </a:lnTo>
                    <a:lnTo>
                      <a:pt x="23" y="36"/>
                    </a:lnTo>
                    <a:lnTo>
                      <a:pt x="20" y="51"/>
                    </a:lnTo>
                    <a:lnTo>
                      <a:pt x="20" y="67"/>
                    </a:lnTo>
                    <a:lnTo>
                      <a:pt x="20" y="361"/>
                    </a:lnTo>
                    <a:lnTo>
                      <a:pt x="0" y="36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5f7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7975440" y="5554800"/>
                <a:ext cx="49320" cy="28440"/>
                <a:chOff x="7975440" y="5554800"/>
                <a:chExt cx="49320" cy="28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975440" y="5554800"/>
                  <a:ext cx="36720" cy="28440"/>
                </a:xfrm>
                <a:custGeom>
                  <a:avLst/>
                  <a:gdLst/>
                  <a:ahLst/>
                  <a:rect l="l" t="t" r="r" b="b"/>
                  <a:pathLst>
                    <a:path w="139" h="92">
                      <a:moveTo>
                        <a:pt x="0" y="92"/>
                      </a:moveTo>
                      <a:lnTo>
                        <a:pt x="139" y="92"/>
                      </a:lnTo>
                      <a:lnTo>
                        <a:pt x="139" y="0"/>
                      </a:lnTo>
                      <a:lnTo>
                        <a:pt x="1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9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012160" y="5554800"/>
                  <a:ext cx="12600" cy="28440"/>
                </a:xfrm>
                <a:custGeom>
                  <a:avLst/>
                  <a:gdLst/>
                  <a:ahLst/>
                  <a:rect l="l" t="t" r="r" b="b"/>
                  <a:pathLst>
                    <a:path w="45" h="91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45" y="87"/>
                      </a:lnTo>
                      <a:lnTo>
                        <a:pt x="45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8137440" y="5497560"/>
                <a:ext cx="12960" cy="60120"/>
              </a:xfrm>
              <a:custGeom>
                <a:avLst/>
                <a:gdLst/>
                <a:ahLst/>
                <a:rect l="l" t="t" r="r" b="b"/>
                <a:pathLst>
                  <a:path w="48" h="187">
                    <a:moveTo>
                      <a:pt x="0" y="31"/>
                    </a:moveTo>
                    <a:lnTo>
                      <a:pt x="1" y="21"/>
                    </a:lnTo>
                    <a:lnTo>
                      <a:pt x="3" y="11"/>
                    </a:lnTo>
                    <a:lnTo>
                      <a:pt x="10" y="4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3"/>
                    </a:lnTo>
                    <a:lnTo>
                      <a:pt x="42" y="7"/>
                    </a:lnTo>
                    <a:lnTo>
                      <a:pt x="45" y="14"/>
                    </a:lnTo>
                    <a:lnTo>
                      <a:pt x="47" y="20"/>
                    </a:lnTo>
                    <a:lnTo>
                      <a:pt x="47" y="25"/>
                    </a:lnTo>
                    <a:lnTo>
                      <a:pt x="48" y="31"/>
                    </a:lnTo>
                    <a:lnTo>
                      <a:pt x="39" y="31"/>
                    </a:lnTo>
                    <a:lnTo>
                      <a:pt x="39" y="21"/>
                    </a:lnTo>
                    <a:lnTo>
                      <a:pt x="36" y="14"/>
                    </a:lnTo>
                    <a:lnTo>
                      <a:pt x="29" y="10"/>
                    </a:lnTo>
                    <a:lnTo>
                      <a:pt x="22" y="10"/>
                    </a:lnTo>
                    <a:lnTo>
                      <a:pt x="17" y="12"/>
                    </a:lnTo>
                    <a:lnTo>
                      <a:pt x="11" y="19"/>
                    </a:lnTo>
                    <a:lnTo>
                      <a:pt x="10" y="26"/>
                    </a:lnTo>
                    <a:lnTo>
                      <a:pt x="10" y="36"/>
                    </a:lnTo>
                    <a:lnTo>
                      <a:pt x="10" y="187"/>
                    </a:lnTo>
                    <a:lnTo>
                      <a:pt x="0" y="18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5f5f7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7972560" y="5470560"/>
                <a:ext cx="15840" cy="111240"/>
                <a:chOff x="7972560" y="5470560"/>
                <a:chExt cx="15840" cy="11124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7972560" y="5545080"/>
                  <a:ext cx="15840" cy="36720"/>
                  <a:chOff x="7972560" y="5545080"/>
                  <a:chExt cx="15840" cy="367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7972560" y="5562720"/>
                    <a:ext cx="14040" cy="190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72560" y="5562720"/>
                    <a:ext cx="15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7">
                        <a:moveTo>
                          <a:pt x="0" y="0"/>
                        </a:moveTo>
                        <a:lnTo>
                          <a:pt x="59" y="57"/>
                        </a:lnTo>
                        <a:lnTo>
                          <a:pt x="59" y="0"/>
                        </a:lnTo>
                        <a:lnTo>
                          <a:pt x="0" y="5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974000" y="5546880"/>
                    <a:ext cx="12600" cy="140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972560" y="5545080"/>
                    <a:ext cx="158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8">
                        <a:moveTo>
                          <a:pt x="0" y="0"/>
                        </a:moveTo>
                        <a:lnTo>
                          <a:pt x="59" y="58"/>
                        </a:lnTo>
                        <a:lnTo>
                          <a:pt x="59" y="0"/>
                        </a:lnTo>
                        <a:lnTo>
                          <a:pt x="0" y="58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972560" y="5506920"/>
                  <a:ext cx="15840" cy="38160"/>
                  <a:chOff x="7972560" y="5506920"/>
                  <a:chExt cx="15840" cy="381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7972560" y="5526000"/>
                    <a:ext cx="14040" cy="176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972560" y="5526000"/>
                    <a:ext cx="15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8">
                        <a:moveTo>
                          <a:pt x="0" y="0"/>
                        </a:moveTo>
                        <a:lnTo>
                          <a:pt x="59" y="58"/>
                        </a:lnTo>
                        <a:lnTo>
                          <a:pt x="59" y="0"/>
                        </a:lnTo>
                        <a:lnTo>
                          <a:pt x="0" y="58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974000" y="5508720"/>
                    <a:ext cx="12600" cy="158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972560" y="5506920"/>
                    <a:ext cx="15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9">
                        <a:moveTo>
                          <a:pt x="0" y="0"/>
                        </a:moveTo>
                        <a:lnTo>
                          <a:pt x="59" y="59"/>
                        </a:lnTo>
                        <a:lnTo>
                          <a:pt x="59" y="0"/>
                        </a:lnTo>
                        <a:lnTo>
                          <a:pt x="0" y="5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972560" y="5470560"/>
                  <a:ext cx="15840" cy="36360"/>
                  <a:chOff x="7972560" y="5470560"/>
                  <a:chExt cx="15840" cy="3636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7972560" y="5489640"/>
                    <a:ext cx="14040" cy="172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972560" y="5489640"/>
                    <a:ext cx="158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8">
                        <a:moveTo>
                          <a:pt x="0" y="0"/>
                        </a:moveTo>
                        <a:lnTo>
                          <a:pt x="59" y="58"/>
                        </a:lnTo>
                        <a:lnTo>
                          <a:pt x="59" y="0"/>
                        </a:lnTo>
                        <a:lnTo>
                          <a:pt x="0" y="58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974000" y="5472000"/>
                    <a:ext cx="12600" cy="1584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972560" y="5470560"/>
                    <a:ext cx="15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7">
                        <a:moveTo>
                          <a:pt x="0" y="0"/>
                        </a:moveTo>
                        <a:lnTo>
                          <a:pt x="59" y="57"/>
                        </a:lnTo>
                        <a:lnTo>
                          <a:pt x="59" y="0"/>
                        </a:lnTo>
                        <a:lnTo>
                          <a:pt x="0" y="5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8" name=""/>
              <p:cNvSpPr/>
              <p:nvPr/>
            </p:nvSpPr>
            <p:spPr>
              <a:xfrm>
                <a:off x="7348680" y="5389560"/>
                <a:ext cx="561960" cy="136440"/>
              </a:xfrm>
              <a:custGeom>
                <a:avLst/>
                <a:gdLst/>
                <a:ahLst/>
                <a:rect l="l" t="t" r="r" b="b"/>
                <a:pathLst>
                  <a:path w="2122" h="427">
                    <a:moveTo>
                      <a:pt x="2122" y="0"/>
                    </a:moveTo>
                    <a:lnTo>
                      <a:pt x="2122" y="80"/>
                    </a:lnTo>
                    <a:lnTo>
                      <a:pt x="1294" y="145"/>
                    </a:lnTo>
                    <a:lnTo>
                      <a:pt x="1099" y="405"/>
                    </a:lnTo>
                    <a:lnTo>
                      <a:pt x="0" y="427"/>
                    </a:lnTo>
                    <a:lnTo>
                      <a:pt x="0" y="377"/>
                    </a:lnTo>
                    <a:lnTo>
                      <a:pt x="1030" y="340"/>
                    </a:lnTo>
                    <a:lnTo>
                      <a:pt x="1247" y="73"/>
                    </a:lnTo>
                    <a:lnTo>
                      <a:pt x="2122" y="0"/>
                    </a:lnTo>
                    <a:close/>
                  </a:path>
                </a:pathLst>
              </a:custGeom>
              <a:solidFill>
                <a:srgbClr val="9f7f5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7753320" y="5343480"/>
                <a:ext cx="63360" cy="76320"/>
                <a:chOff x="7753320" y="5343480"/>
                <a:chExt cx="63360" cy="76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773840" y="5345280"/>
                  <a:ext cx="42840" cy="74520"/>
                </a:xfrm>
                <a:custGeom>
                  <a:avLst/>
                  <a:gdLst/>
                  <a:ahLst/>
                  <a:rect l="l" t="t" r="r" b="b"/>
                  <a:pathLst>
                    <a:path w="162" h="236">
                      <a:moveTo>
                        <a:pt x="83" y="0"/>
                      </a:moveTo>
                      <a:lnTo>
                        <a:pt x="162" y="34"/>
                      </a:lnTo>
                      <a:lnTo>
                        <a:pt x="162" y="103"/>
                      </a:lnTo>
                      <a:lnTo>
                        <a:pt x="92" y="107"/>
                      </a:lnTo>
                      <a:lnTo>
                        <a:pt x="54" y="222"/>
                      </a:lnTo>
                      <a:lnTo>
                        <a:pt x="0" y="236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7fffd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753320" y="5343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164" h="240">
                      <a:moveTo>
                        <a:pt x="86" y="21"/>
                      </a:moveTo>
                      <a:lnTo>
                        <a:pt x="164" y="0"/>
                      </a:lnTo>
                      <a:lnTo>
                        <a:pt x="78" y="235"/>
                      </a:lnTo>
                      <a:lnTo>
                        <a:pt x="0" y="240"/>
                      </a:lnTo>
                      <a:lnTo>
                        <a:pt x="86" y="21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7843680" y="5322960"/>
                <a:ext cx="73080" cy="87120"/>
                <a:chOff x="7843680" y="5322960"/>
                <a:chExt cx="73080" cy="87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843680" y="5322960"/>
                  <a:ext cx="52560" cy="87120"/>
                </a:xfrm>
                <a:custGeom>
                  <a:avLst/>
                  <a:gdLst/>
                  <a:ahLst/>
                  <a:rect l="l" t="t" r="r" b="b"/>
                  <a:pathLst>
                    <a:path w="193" h="276">
                      <a:moveTo>
                        <a:pt x="104" y="14"/>
                      </a:moveTo>
                      <a:lnTo>
                        <a:pt x="193" y="0"/>
                      </a:lnTo>
                      <a:lnTo>
                        <a:pt x="100" y="270"/>
                      </a:lnTo>
                      <a:lnTo>
                        <a:pt x="0" y="276"/>
                      </a:lnTo>
                      <a:lnTo>
                        <a:pt x="104" y="1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870680" y="5322960"/>
                  <a:ext cx="46080" cy="84240"/>
                </a:xfrm>
                <a:custGeom>
                  <a:avLst/>
                  <a:gdLst/>
                  <a:ahLst/>
                  <a:rect l="l" t="t" r="r" b="b"/>
                  <a:pathLst>
                    <a:path w="176" h="266">
                      <a:moveTo>
                        <a:pt x="95" y="0"/>
                      </a:moveTo>
                      <a:lnTo>
                        <a:pt x="0" y="266"/>
                      </a:lnTo>
                      <a:lnTo>
                        <a:pt x="60" y="240"/>
                      </a:lnTo>
                      <a:lnTo>
                        <a:pt x="99" y="125"/>
                      </a:lnTo>
                      <a:lnTo>
                        <a:pt x="176" y="118"/>
                      </a:lnTo>
                      <a:lnTo>
                        <a:pt x="176" y="45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7fffd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913520" y="5551560"/>
                <a:ext cx="66960" cy="39600"/>
                <a:chOff x="7913520" y="5551560"/>
                <a:chExt cx="66960" cy="396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913520" y="5553000"/>
                  <a:ext cx="49320" cy="36720"/>
                </a:xfrm>
                <a:prstGeom prst="rect">
                  <a:avLst/>
                </a:prstGeom>
                <a:solidFill>
                  <a:srgbClr val="009f9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964640" y="555156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65" h="128">
                      <a:moveTo>
                        <a:pt x="0" y="0"/>
                      </a:moveTo>
                      <a:lnTo>
                        <a:pt x="0" y="128"/>
                      </a:lnTo>
                      <a:lnTo>
                        <a:pt x="65" y="122"/>
                      </a:lnTo>
                      <a:lnTo>
                        <a:pt x="65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7689960" y="5438880"/>
                <a:ext cx="176040" cy="149040"/>
                <a:chOff x="7689960" y="5438880"/>
                <a:chExt cx="176040" cy="1490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689960" y="5445000"/>
                  <a:ext cx="82440" cy="9720"/>
                </a:xfrm>
                <a:custGeom>
                  <a:avLst/>
                  <a:gdLst/>
                  <a:ahLst/>
                  <a:rect l="l" t="t" r="r" b="b"/>
                  <a:pathLst>
                    <a:path w="310" h="33">
                      <a:moveTo>
                        <a:pt x="0" y="15"/>
                      </a:moveTo>
                      <a:lnTo>
                        <a:pt x="279" y="0"/>
                      </a:lnTo>
                      <a:lnTo>
                        <a:pt x="310" y="25"/>
                      </a:lnTo>
                      <a:lnTo>
                        <a:pt x="27" y="33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689960" y="5448240"/>
                  <a:ext cx="7920" cy="136440"/>
                </a:xfrm>
                <a:custGeom>
                  <a:avLst/>
                  <a:gdLst/>
                  <a:ahLst/>
                  <a:rect l="l" t="t" r="r" b="b"/>
                  <a:pathLst>
                    <a:path w="30" h="426">
                      <a:moveTo>
                        <a:pt x="0" y="426"/>
                      </a:moveTo>
                      <a:lnTo>
                        <a:pt x="0" y="0"/>
                      </a:lnTo>
                      <a:lnTo>
                        <a:pt x="30" y="21"/>
                      </a:lnTo>
                      <a:lnTo>
                        <a:pt x="30" y="426"/>
                      </a:lnTo>
                      <a:lnTo>
                        <a:pt x="0" y="426"/>
                      </a:lnTo>
                      <a:close/>
                    </a:path>
                  </a:pathLst>
                </a:custGeom>
                <a:solidFill>
                  <a:srgbClr val="00b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763040" y="5443560"/>
                  <a:ext cx="7920" cy="142920"/>
                </a:xfrm>
                <a:custGeom>
                  <a:avLst/>
                  <a:gdLst/>
                  <a:ahLst/>
                  <a:rect l="l" t="t" r="r" b="b"/>
                  <a:pathLst>
                    <a:path w="30" h="449">
                      <a:moveTo>
                        <a:pt x="0" y="449"/>
                      </a:moveTo>
                      <a:lnTo>
                        <a:pt x="0" y="0"/>
                      </a:lnTo>
                      <a:lnTo>
                        <a:pt x="30" y="24"/>
                      </a:lnTo>
                      <a:lnTo>
                        <a:pt x="30" y="449"/>
                      </a:lnTo>
                      <a:lnTo>
                        <a:pt x="0" y="449"/>
                      </a:lnTo>
                      <a:close/>
                    </a:path>
                  </a:pathLst>
                </a:custGeom>
                <a:solidFill>
                  <a:srgbClr val="00b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763040" y="5440320"/>
                  <a:ext cx="102960" cy="12600"/>
                </a:xfrm>
                <a:custGeom>
                  <a:avLst/>
                  <a:gdLst/>
                  <a:ahLst/>
                  <a:rect l="l" t="t" r="r" b="b"/>
                  <a:pathLst>
                    <a:path w="386" h="40">
                      <a:moveTo>
                        <a:pt x="0" y="15"/>
                      </a:moveTo>
                      <a:lnTo>
                        <a:pt x="337" y="0"/>
                      </a:lnTo>
                      <a:lnTo>
                        <a:pt x="386" y="26"/>
                      </a:lnTo>
                      <a:lnTo>
                        <a:pt x="34" y="4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54840" y="5438880"/>
                  <a:ext cx="11160" cy="149040"/>
                </a:xfrm>
                <a:custGeom>
                  <a:avLst/>
                  <a:gdLst/>
                  <a:ahLst/>
                  <a:rect l="l" t="t" r="r" b="b"/>
                  <a:pathLst>
                    <a:path w="38" h="467">
                      <a:moveTo>
                        <a:pt x="0" y="467"/>
                      </a:moveTo>
                      <a:lnTo>
                        <a:pt x="0" y="0"/>
                      </a:lnTo>
                      <a:lnTo>
                        <a:pt x="38" y="25"/>
                      </a:lnTo>
                      <a:lnTo>
                        <a:pt x="38" y="467"/>
                      </a:lnTo>
                      <a:lnTo>
                        <a:pt x="0" y="467"/>
                      </a:lnTo>
                      <a:close/>
                    </a:path>
                  </a:pathLst>
                </a:custGeom>
                <a:solidFill>
                  <a:srgbClr val="00bf9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7359480" y="5548320"/>
                <a:ext cx="228600" cy="31680"/>
                <a:chOff x="7359480" y="5548320"/>
                <a:chExt cx="228600" cy="3168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7359480" y="5548320"/>
                  <a:ext cx="114480" cy="31680"/>
                  <a:chOff x="7359480" y="5548320"/>
                  <a:chExt cx="114480" cy="3168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7359480" y="5548320"/>
                    <a:ext cx="28800" cy="31680"/>
                    <a:chOff x="7359480" y="5548320"/>
                    <a:chExt cx="28800" cy="3168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361280" y="5549760"/>
                      <a:ext cx="25200" cy="288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7359480" y="5548320"/>
                      <a:ext cx="288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2">
                          <a:moveTo>
                            <a:pt x="0" y="0"/>
                          </a:moveTo>
                          <a:lnTo>
                            <a:pt x="108" y="102"/>
                          </a:lnTo>
                          <a:lnTo>
                            <a:pt x="108" y="0"/>
                          </a:lnTo>
                          <a:lnTo>
                            <a:pt x="0" y="10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388280" y="5548320"/>
                    <a:ext cx="28440" cy="31680"/>
                    <a:chOff x="7388280" y="5548320"/>
                    <a:chExt cx="28440" cy="316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7389720" y="5549760"/>
                      <a:ext cx="25560" cy="288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7388280" y="5548320"/>
                      <a:ext cx="284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2">
                          <a:moveTo>
                            <a:pt x="0" y="0"/>
                          </a:moveTo>
                          <a:lnTo>
                            <a:pt x="108" y="102"/>
                          </a:lnTo>
                          <a:lnTo>
                            <a:pt x="108" y="0"/>
                          </a:lnTo>
                          <a:lnTo>
                            <a:pt x="0" y="10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416720" y="5548320"/>
                    <a:ext cx="28800" cy="31680"/>
                    <a:chOff x="7416720" y="5548320"/>
                    <a:chExt cx="28800" cy="3168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7418520" y="5549760"/>
                      <a:ext cx="25200" cy="288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7416720" y="5548320"/>
                      <a:ext cx="288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2">
                          <a:moveTo>
                            <a:pt x="0" y="0"/>
                          </a:moveTo>
                          <a:lnTo>
                            <a:pt x="108" y="102"/>
                          </a:lnTo>
                          <a:lnTo>
                            <a:pt x="108" y="0"/>
                          </a:lnTo>
                          <a:lnTo>
                            <a:pt x="0" y="10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7445520" y="5548320"/>
                    <a:ext cx="28440" cy="31680"/>
                    <a:chOff x="7445520" y="5548320"/>
                    <a:chExt cx="28440" cy="3168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7446960" y="5549760"/>
                      <a:ext cx="25560" cy="288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7445520" y="5548320"/>
                      <a:ext cx="284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2">
                          <a:moveTo>
                            <a:pt x="0" y="0"/>
                          </a:moveTo>
                          <a:lnTo>
                            <a:pt x="109" y="102"/>
                          </a:lnTo>
                          <a:lnTo>
                            <a:pt x="109" y="0"/>
                          </a:lnTo>
                          <a:lnTo>
                            <a:pt x="0" y="10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7473960" y="5548320"/>
                  <a:ext cx="114120" cy="31680"/>
                  <a:chOff x="7473960" y="5548320"/>
                  <a:chExt cx="114120" cy="3168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7473960" y="5548320"/>
                    <a:ext cx="28440" cy="31680"/>
                    <a:chOff x="7473960" y="5548320"/>
                    <a:chExt cx="28440" cy="3168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7475400" y="5549760"/>
                      <a:ext cx="25560" cy="288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473960" y="5548320"/>
                      <a:ext cx="284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2">
                          <a:moveTo>
                            <a:pt x="0" y="0"/>
                          </a:moveTo>
                          <a:lnTo>
                            <a:pt x="108" y="102"/>
                          </a:lnTo>
                          <a:lnTo>
                            <a:pt x="108" y="0"/>
                          </a:lnTo>
                          <a:lnTo>
                            <a:pt x="0" y="10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7502400" y="5548320"/>
                    <a:ext cx="28800" cy="31680"/>
                    <a:chOff x="7502400" y="5548320"/>
                    <a:chExt cx="28800" cy="3168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7504200" y="5549760"/>
                      <a:ext cx="25200" cy="288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7502400" y="5548320"/>
                      <a:ext cx="288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2">
                          <a:moveTo>
                            <a:pt x="0" y="0"/>
                          </a:moveTo>
                          <a:lnTo>
                            <a:pt x="109" y="102"/>
                          </a:lnTo>
                          <a:lnTo>
                            <a:pt x="109" y="0"/>
                          </a:lnTo>
                          <a:lnTo>
                            <a:pt x="0" y="10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7531200" y="5548320"/>
                    <a:ext cx="28440" cy="31680"/>
                    <a:chOff x="7531200" y="5548320"/>
                    <a:chExt cx="28440" cy="3168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7532640" y="5549760"/>
                      <a:ext cx="25560" cy="288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7531200" y="5548320"/>
                      <a:ext cx="284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2">
                          <a:moveTo>
                            <a:pt x="0" y="0"/>
                          </a:moveTo>
                          <a:lnTo>
                            <a:pt x="108" y="102"/>
                          </a:lnTo>
                          <a:lnTo>
                            <a:pt x="108" y="0"/>
                          </a:lnTo>
                          <a:lnTo>
                            <a:pt x="0" y="10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59640" y="5548320"/>
                    <a:ext cx="28440" cy="31680"/>
                    <a:chOff x="7559640" y="5548320"/>
                    <a:chExt cx="28440" cy="3168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61440" y="5549760"/>
                      <a:ext cx="25200" cy="2880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7559640" y="5548320"/>
                      <a:ext cx="284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2">
                          <a:moveTo>
                            <a:pt x="0" y="0"/>
                          </a:moveTo>
                          <a:lnTo>
                            <a:pt x="109" y="102"/>
                          </a:lnTo>
                          <a:lnTo>
                            <a:pt x="109" y="0"/>
                          </a:lnTo>
                          <a:lnTo>
                            <a:pt x="0" y="10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1" name=""/>
                <p:cNvSpPr/>
                <p:nvPr/>
              </p:nvSpPr>
              <p:spPr>
                <a:xfrm>
                  <a:off x="7431120" y="5548320"/>
                  <a:ext cx="1440" cy="31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516800" y="5548320"/>
                  <a:ext cx="1440" cy="31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459560" y="5548320"/>
                  <a:ext cx="1800" cy="31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488360" y="5548320"/>
                  <a:ext cx="1440" cy="31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402680" y="5548320"/>
                  <a:ext cx="1440" cy="31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373880" y="5548320"/>
                  <a:ext cx="1800" cy="31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545240" y="5548320"/>
                  <a:ext cx="1800" cy="31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574040" y="5548320"/>
                  <a:ext cx="1440" cy="31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9" name=""/>
          <p:cNvSpPr/>
          <p:nvPr/>
        </p:nvSpPr>
        <p:spPr>
          <a:xfrm>
            <a:off x="5253120" y="4384800"/>
            <a:ext cx="585720" cy="411120"/>
          </a:xfrm>
          <a:prstGeom prst="rect">
            <a:avLst/>
          </a:prstGeom>
          <a:solidFill>
            <a:srgbClr val="ff7c80"/>
          </a:solidFill>
          <a:ln w="11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54640" y="4459320"/>
            <a:ext cx="422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2080" y="45086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cc3300"/>
                </a:solidFill>
                <a:latin typeface="Times New Roman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13120" y="463068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100" spc="-1" strike="noStrike">
                <a:solidFill>
                  <a:srgbClr val="cc3300"/>
                </a:solidFill>
                <a:latin typeface="Times New Roman"/>
              </a:rPr>
              <a:t>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8640" y="2901960"/>
            <a:ext cx="2448000" cy="168120"/>
            <a:chOff x="2798640" y="2901960"/>
            <a:chExt cx="2448000" cy="168120"/>
          </a:xfrm>
        </p:grpSpPr>
        <p:sp>
          <p:nvSpPr>
            <p:cNvPr id="274" name=""/>
            <p:cNvSpPr/>
            <p:nvPr/>
          </p:nvSpPr>
          <p:spPr>
            <a:xfrm>
              <a:off x="2798640" y="2962440"/>
              <a:ext cx="2335320" cy="44280"/>
            </a:xfrm>
            <a:custGeom>
              <a:avLst/>
              <a:gdLst/>
              <a:ahLst/>
              <a:rect l="l" t="t" r="r" b="b"/>
              <a:pathLst>
                <a:path w="2942" h="55">
                  <a:moveTo>
                    <a:pt x="0" y="0"/>
                  </a:moveTo>
                  <a:lnTo>
                    <a:pt x="0" y="53"/>
                  </a:lnTo>
                  <a:lnTo>
                    <a:pt x="2942" y="55"/>
                  </a:lnTo>
                  <a:lnTo>
                    <a:pt x="294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8520" y="2901960"/>
              <a:ext cx="168120" cy="16812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0" y="212"/>
                  </a:moveTo>
                  <a:lnTo>
                    <a:pt x="212" y="105"/>
                  </a:lnTo>
                  <a:lnTo>
                    <a:pt x="0" y="0"/>
                  </a:lnTo>
                  <a:lnTo>
                    <a:pt x="67" y="105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359080" y="5199120"/>
            <a:ext cx="4863960" cy="168120"/>
            <a:chOff x="2359080" y="5199120"/>
            <a:chExt cx="4863960" cy="168120"/>
          </a:xfrm>
        </p:grpSpPr>
        <p:sp>
          <p:nvSpPr>
            <p:cNvPr id="277" name=""/>
            <p:cNvSpPr/>
            <p:nvPr/>
          </p:nvSpPr>
          <p:spPr>
            <a:xfrm>
              <a:off x="2359080" y="5261040"/>
              <a:ext cx="4751280" cy="4284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54920" y="5199120"/>
              <a:ext cx="168120" cy="16812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0" y="212"/>
                  </a:moveTo>
                  <a:lnTo>
                    <a:pt x="212" y="105"/>
                  </a:lnTo>
                  <a:lnTo>
                    <a:pt x="0" y="0"/>
                  </a:lnTo>
                  <a:lnTo>
                    <a:pt x="67" y="105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945040" y="4417920"/>
            <a:ext cx="1222560" cy="168480"/>
            <a:chOff x="5945040" y="4417920"/>
            <a:chExt cx="1222560" cy="168480"/>
          </a:xfrm>
        </p:grpSpPr>
        <p:sp>
          <p:nvSpPr>
            <p:cNvPr id="280" name=""/>
            <p:cNvSpPr/>
            <p:nvPr/>
          </p:nvSpPr>
          <p:spPr>
            <a:xfrm>
              <a:off x="5945040" y="4473720"/>
              <a:ext cx="1109880" cy="47520"/>
            </a:xfrm>
            <a:custGeom>
              <a:avLst/>
              <a:gdLst/>
              <a:ahLst/>
              <a:rect l="l" t="t" r="r" b="b"/>
              <a:pathLst>
                <a:path w="1396" h="60">
                  <a:moveTo>
                    <a:pt x="0" y="0"/>
                  </a:moveTo>
                  <a:lnTo>
                    <a:pt x="0" y="53"/>
                  </a:lnTo>
                  <a:lnTo>
                    <a:pt x="1396" y="60"/>
                  </a:lnTo>
                  <a:lnTo>
                    <a:pt x="139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99120" y="4417920"/>
              <a:ext cx="168480" cy="16848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0" y="212"/>
                  </a:moveTo>
                  <a:lnTo>
                    <a:pt x="212" y="105"/>
                  </a:lnTo>
                  <a:lnTo>
                    <a:pt x="0" y="0"/>
                  </a:lnTo>
                  <a:lnTo>
                    <a:pt x="67" y="105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282840" y="3062160"/>
            <a:ext cx="155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35160" y="5299200"/>
            <a:ext cx="400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577960"/>
            <a:ext cx="242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7459560" y="4348080"/>
            <a:ext cx="990720" cy="523800"/>
            <a:chOff x="7459560" y="4348080"/>
            <a:chExt cx="990720" cy="523800"/>
          </a:xfrm>
        </p:grpSpPr>
        <p:grpSp>
          <p:nvGrpSpPr>
            <p:cNvPr id="286" name=""/>
            <p:cNvGrpSpPr/>
            <p:nvPr/>
          </p:nvGrpSpPr>
          <p:grpSpPr>
            <a:xfrm>
              <a:off x="7684920" y="4379760"/>
              <a:ext cx="309600" cy="235080"/>
              <a:chOff x="7684920" y="4379760"/>
              <a:chExt cx="309600" cy="2350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7684920" y="4379760"/>
                <a:ext cx="309600" cy="235080"/>
                <a:chOff x="7684920" y="4379760"/>
                <a:chExt cx="309600" cy="2350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7684920" y="4430880"/>
                  <a:ext cx="309600" cy="33120"/>
                </a:xfrm>
                <a:custGeom>
                  <a:avLst/>
                  <a:gdLst/>
                  <a:ahLst/>
                  <a:rect l="l" t="t" r="r" b="b"/>
                  <a:pathLst>
                    <a:path w="587" h="147">
                      <a:moveTo>
                        <a:pt x="434" y="147"/>
                      </a:moveTo>
                      <a:lnTo>
                        <a:pt x="587" y="69"/>
                      </a:lnTo>
                      <a:lnTo>
                        <a:pt x="164" y="0"/>
                      </a:lnTo>
                      <a:lnTo>
                        <a:pt x="0" y="80"/>
                      </a:lnTo>
                      <a:lnTo>
                        <a:pt x="434" y="147"/>
                      </a:lnTo>
                      <a:close/>
                    </a:path>
                  </a:pathLst>
                </a:custGeom>
                <a:solidFill>
                  <a:srgbClr val="5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701120" y="4379760"/>
                  <a:ext cx="257040" cy="16200"/>
                </a:xfrm>
                <a:custGeom>
                  <a:avLst/>
                  <a:gdLst/>
                  <a:ahLst/>
                  <a:rect l="l" t="t" r="r" b="b"/>
                  <a:pathLst>
                    <a:path w="488" h="71">
                      <a:moveTo>
                        <a:pt x="0" y="36"/>
                      </a:moveTo>
                      <a:lnTo>
                        <a:pt x="380" y="71"/>
                      </a:lnTo>
                      <a:lnTo>
                        <a:pt x="488" y="39"/>
                      </a:lnTo>
                      <a:lnTo>
                        <a:pt x="116" y="0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5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902720" y="4389480"/>
                  <a:ext cx="56880" cy="68400"/>
                </a:xfrm>
                <a:custGeom>
                  <a:avLst/>
                  <a:gdLst/>
                  <a:ahLst/>
                  <a:rect l="l" t="t" r="r" b="b"/>
                  <a:pathLst>
                    <a:path w="108" h="301">
                      <a:moveTo>
                        <a:pt x="0" y="31"/>
                      </a:moveTo>
                      <a:lnTo>
                        <a:pt x="108" y="0"/>
                      </a:lnTo>
                      <a:lnTo>
                        <a:pt x="108" y="252"/>
                      </a:lnTo>
                      <a:lnTo>
                        <a:pt x="0" y="30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699320" y="4387680"/>
                  <a:ext cx="203400" cy="68400"/>
                </a:xfrm>
                <a:custGeom>
                  <a:avLst/>
                  <a:gdLst/>
                  <a:ahLst/>
                  <a:rect l="l" t="t" r="r" b="b"/>
                  <a:pathLst>
                    <a:path w="382" h="302">
                      <a:moveTo>
                        <a:pt x="1" y="0"/>
                      </a:moveTo>
                      <a:lnTo>
                        <a:pt x="382" y="35"/>
                      </a:lnTo>
                      <a:lnTo>
                        <a:pt x="382" y="302"/>
                      </a:lnTo>
                      <a:lnTo>
                        <a:pt x="0" y="24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913520" y="4444920"/>
                  <a:ext cx="81000" cy="169920"/>
                </a:xfrm>
                <a:custGeom>
                  <a:avLst/>
                  <a:gdLst/>
                  <a:ahLst/>
                  <a:rect l="l" t="t" r="r" b="b"/>
                  <a:pathLst>
                    <a:path w="153" h="748">
                      <a:moveTo>
                        <a:pt x="153" y="0"/>
                      </a:moveTo>
                      <a:lnTo>
                        <a:pt x="0" y="79"/>
                      </a:lnTo>
                      <a:lnTo>
                        <a:pt x="0" y="748"/>
                      </a:lnTo>
                      <a:lnTo>
                        <a:pt x="153" y="652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684920" y="4448160"/>
                  <a:ext cx="230400" cy="166680"/>
                </a:xfrm>
                <a:custGeom>
                  <a:avLst/>
                  <a:gdLst/>
                  <a:ahLst/>
                  <a:rect l="l" t="t" r="r" b="b"/>
                  <a:pathLst>
                    <a:path w="436" h="737">
                      <a:moveTo>
                        <a:pt x="0" y="0"/>
                      </a:moveTo>
                      <a:lnTo>
                        <a:pt x="436" y="68"/>
                      </a:lnTo>
                      <a:lnTo>
                        <a:pt x="434" y="737"/>
                      </a:lnTo>
                      <a:lnTo>
                        <a:pt x="0" y="64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7709040" y="4390920"/>
                <a:ext cx="196560" cy="98640"/>
                <a:chOff x="7709040" y="4390920"/>
                <a:chExt cx="196560" cy="986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709040" y="4390920"/>
                  <a:ext cx="29880" cy="648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0" y="0"/>
                      </a:moveTo>
                      <a:lnTo>
                        <a:pt x="56" y="6"/>
                      </a:lnTo>
                      <a:lnTo>
                        <a:pt x="56" y="27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746840" y="4400640"/>
                  <a:ext cx="30240" cy="6120"/>
                </a:xfrm>
                <a:custGeom>
                  <a:avLst/>
                  <a:gdLst/>
                  <a:ahLst/>
                  <a:rect l="l" t="t" r="r" b="b"/>
                  <a:pathLst>
                    <a:path w="57" h="26">
                      <a:moveTo>
                        <a:pt x="0" y="0"/>
                      </a:moveTo>
                      <a:lnTo>
                        <a:pt x="57" y="6"/>
                      </a:lnTo>
                      <a:lnTo>
                        <a:pt x="57" y="26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790040" y="4394160"/>
                  <a:ext cx="29880" cy="648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0" y="0"/>
                      </a:moveTo>
                      <a:lnTo>
                        <a:pt x="56" y="6"/>
                      </a:lnTo>
                      <a:lnTo>
                        <a:pt x="56" y="26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834320" y="4395960"/>
                  <a:ext cx="30240" cy="6120"/>
                </a:xfrm>
                <a:custGeom>
                  <a:avLst/>
                  <a:gdLst/>
                  <a:ahLst/>
                  <a:rect l="l" t="t" r="r" b="b"/>
                  <a:pathLst>
                    <a:path w="57" h="26">
                      <a:moveTo>
                        <a:pt x="0" y="0"/>
                      </a:moveTo>
                      <a:lnTo>
                        <a:pt x="57" y="6"/>
                      </a:lnTo>
                      <a:lnTo>
                        <a:pt x="57" y="26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834320" y="440532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57" h="25">
                      <a:moveTo>
                        <a:pt x="0" y="0"/>
                      </a:moveTo>
                      <a:lnTo>
                        <a:pt x="57" y="5"/>
                      </a:lnTo>
                      <a:lnTo>
                        <a:pt x="57" y="25"/>
                      </a:lnTo>
                      <a:lnTo>
                        <a:pt x="0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788240" y="4414680"/>
                  <a:ext cx="30240" cy="504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0" y="0"/>
                      </a:moveTo>
                      <a:lnTo>
                        <a:pt x="56" y="6"/>
                      </a:lnTo>
                      <a:lnTo>
                        <a:pt x="56" y="26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834320" y="4425840"/>
                  <a:ext cx="30240" cy="5040"/>
                </a:xfrm>
                <a:custGeom>
                  <a:avLst/>
                  <a:gdLst/>
                  <a:ahLst/>
                  <a:rect l="l" t="t" r="r" b="b"/>
                  <a:pathLst>
                    <a:path w="57" h="25">
                      <a:moveTo>
                        <a:pt x="0" y="0"/>
                      </a:moveTo>
                      <a:lnTo>
                        <a:pt x="57" y="5"/>
                      </a:lnTo>
                      <a:lnTo>
                        <a:pt x="57" y="25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873920" y="4465800"/>
                  <a:ext cx="30240" cy="612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0" y="0"/>
                      </a:moveTo>
                      <a:lnTo>
                        <a:pt x="56" y="7"/>
                      </a:lnTo>
                      <a:lnTo>
                        <a:pt x="56" y="27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875720" y="4484520"/>
                  <a:ext cx="29880" cy="5040"/>
                </a:xfrm>
                <a:custGeom>
                  <a:avLst/>
                  <a:gdLst/>
                  <a:ahLst/>
                  <a:rect l="l" t="t" r="r" b="b"/>
                  <a:pathLst>
                    <a:path w="56" h="25">
                      <a:moveTo>
                        <a:pt x="0" y="0"/>
                      </a:moveTo>
                      <a:lnTo>
                        <a:pt x="56" y="5"/>
                      </a:lnTo>
                      <a:lnTo>
                        <a:pt x="56" y="25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7931160" y="4348080"/>
              <a:ext cx="384120" cy="328680"/>
              <a:chOff x="7931160" y="4348080"/>
              <a:chExt cx="384120" cy="32868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931160" y="4348080"/>
                <a:ext cx="384120" cy="328680"/>
                <a:chOff x="7931160" y="4348080"/>
                <a:chExt cx="384120" cy="3286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934400" y="4441680"/>
                  <a:ext cx="380880" cy="63720"/>
                </a:xfrm>
                <a:custGeom>
                  <a:avLst/>
                  <a:gdLst/>
                  <a:ahLst/>
                  <a:rect l="l" t="t" r="r" b="b"/>
                  <a:pathLst>
                    <a:path w="721" h="278">
                      <a:moveTo>
                        <a:pt x="0" y="203"/>
                      </a:moveTo>
                      <a:lnTo>
                        <a:pt x="408" y="278"/>
                      </a:lnTo>
                      <a:lnTo>
                        <a:pt x="721" y="54"/>
                      </a:lnTo>
                      <a:lnTo>
                        <a:pt x="329" y="0"/>
                      </a:lnTo>
                      <a:lnTo>
                        <a:pt x="0" y="203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986600" y="4387680"/>
                  <a:ext cx="158760" cy="108000"/>
                </a:xfrm>
                <a:custGeom>
                  <a:avLst/>
                  <a:gdLst/>
                  <a:ahLst/>
                  <a:rect l="l" t="t" r="r" b="b"/>
                  <a:pathLst>
                    <a:path w="301" h="472">
                      <a:moveTo>
                        <a:pt x="0" y="0"/>
                      </a:moveTo>
                      <a:lnTo>
                        <a:pt x="301" y="23"/>
                      </a:lnTo>
                      <a:lnTo>
                        <a:pt x="301" y="472"/>
                      </a:lnTo>
                      <a:lnTo>
                        <a:pt x="0" y="40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143920" y="4370400"/>
                  <a:ext cx="136440" cy="123840"/>
                </a:xfrm>
                <a:custGeom>
                  <a:avLst/>
                  <a:gdLst/>
                  <a:ahLst/>
                  <a:rect l="l" t="t" r="r" b="b"/>
                  <a:pathLst>
                    <a:path w="258" h="548">
                      <a:moveTo>
                        <a:pt x="0" y="102"/>
                      </a:moveTo>
                      <a:lnTo>
                        <a:pt x="0" y="548"/>
                      </a:lnTo>
                      <a:lnTo>
                        <a:pt x="258" y="369"/>
                      </a:lnTo>
                      <a:lnTo>
                        <a:pt x="258" y="0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986600" y="4365720"/>
                  <a:ext cx="293760" cy="28440"/>
                </a:xfrm>
                <a:custGeom>
                  <a:avLst/>
                  <a:gdLst/>
                  <a:ahLst/>
                  <a:rect l="l" t="t" r="r" b="b"/>
                  <a:pathLst>
                    <a:path w="555" h="123">
                      <a:moveTo>
                        <a:pt x="0" y="100"/>
                      </a:moveTo>
                      <a:lnTo>
                        <a:pt x="297" y="123"/>
                      </a:lnTo>
                      <a:lnTo>
                        <a:pt x="555" y="21"/>
                      </a:lnTo>
                      <a:lnTo>
                        <a:pt x="297" y="0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024760" y="4348080"/>
                  <a:ext cx="214200" cy="15840"/>
                </a:xfrm>
                <a:custGeom>
                  <a:avLst/>
                  <a:gdLst/>
                  <a:ahLst/>
                  <a:rect l="l" t="t" r="r" b="b"/>
                  <a:pathLst>
                    <a:path w="405" h="74">
                      <a:moveTo>
                        <a:pt x="0" y="59"/>
                      </a:moveTo>
                      <a:lnTo>
                        <a:pt x="215" y="74"/>
                      </a:lnTo>
                      <a:lnTo>
                        <a:pt x="405" y="18"/>
                      </a:lnTo>
                      <a:lnTo>
                        <a:pt x="202" y="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024760" y="4361040"/>
                  <a:ext cx="111240" cy="25200"/>
                </a:xfrm>
                <a:custGeom>
                  <a:avLst/>
                  <a:gdLst/>
                  <a:ahLst/>
                  <a:rect l="l" t="t" r="r" b="b"/>
                  <a:pathLst>
                    <a:path w="212" h="114">
                      <a:moveTo>
                        <a:pt x="0" y="0"/>
                      </a:moveTo>
                      <a:lnTo>
                        <a:pt x="212" y="14"/>
                      </a:lnTo>
                      <a:lnTo>
                        <a:pt x="212" y="114"/>
                      </a:lnTo>
                      <a:lnTo>
                        <a:pt x="0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136000" y="4351320"/>
                  <a:ext cx="102960" cy="34920"/>
                </a:xfrm>
                <a:custGeom>
                  <a:avLst/>
                  <a:gdLst/>
                  <a:ahLst/>
                  <a:rect l="l" t="t" r="r" b="b"/>
                  <a:pathLst>
                    <a:path w="193" h="155">
                      <a:moveTo>
                        <a:pt x="0" y="56"/>
                      </a:moveTo>
                      <a:lnTo>
                        <a:pt x="0" y="155"/>
                      </a:lnTo>
                      <a:lnTo>
                        <a:pt x="193" y="80"/>
                      </a:lnTo>
                      <a:lnTo>
                        <a:pt x="193" y="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148600" y="4452840"/>
                  <a:ext cx="166680" cy="223920"/>
                </a:xfrm>
                <a:custGeom>
                  <a:avLst/>
                  <a:gdLst/>
                  <a:ahLst/>
                  <a:rect l="l" t="t" r="r" b="b"/>
                  <a:pathLst>
                    <a:path w="316" h="983">
                      <a:moveTo>
                        <a:pt x="316" y="0"/>
                      </a:moveTo>
                      <a:lnTo>
                        <a:pt x="2" y="226"/>
                      </a:lnTo>
                      <a:lnTo>
                        <a:pt x="0" y="983"/>
                      </a:lnTo>
                      <a:lnTo>
                        <a:pt x="316" y="687"/>
                      </a:lnTo>
                      <a:lnTo>
                        <a:pt x="316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931160" y="4487760"/>
                  <a:ext cx="217440" cy="189000"/>
                </a:xfrm>
                <a:custGeom>
                  <a:avLst/>
                  <a:gdLst/>
                  <a:ahLst/>
                  <a:rect l="l" t="t" r="r" b="b"/>
                  <a:pathLst>
                    <a:path w="411" h="832">
                      <a:moveTo>
                        <a:pt x="4" y="0"/>
                      </a:moveTo>
                      <a:lnTo>
                        <a:pt x="411" y="75"/>
                      </a:lnTo>
                      <a:lnTo>
                        <a:pt x="411" y="832"/>
                      </a:lnTo>
                      <a:lnTo>
                        <a:pt x="0" y="69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956720" y="4390920"/>
                <a:ext cx="171360" cy="139680"/>
                <a:chOff x="7956720" y="4390920"/>
                <a:chExt cx="171360" cy="13968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7996320" y="4390920"/>
                  <a:ext cx="131760" cy="31680"/>
                  <a:chOff x="7996320" y="4390920"/>
                  <a:chExt cx="131760" cy="3168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7996320" y="4390920"/>
                    <a:ext cx="27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12">
                        <a:moveTo>
                          <a:pt x="0" y="0"/>
                        </a:moveTo>
                        <a:lnTo>
                          <a:pt x="51" y="5"/>
                        </a:lnTo>
                        <a:lnTo>
                          <a:pt x="51" y="112"/>
                        </a:lnTo>
                        <a:lnTo>
                          <a:pt x="2" y="10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8031240" y="4392720"/>
                    <a:ext cx="270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13">
                        <a:moveTo>
                          <a:pt x="0" y="0"/>
                        </a:moveTo>
                        <a:lnTo>
                          <a:pt x="49" y="4"/>
                        </a:lnTo>
                        <a:lnTo>
                          <a:pt x="49" y="113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066160" y="4394160"/>
                    <a:ext cx="28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16">
                        <a:moveTo>
                          <a:pt x="0" y="0"/>
                        </a:moveTo>
                        <a:lnTo>
                          <a:pt x="53" y="5"/>
                        </a:lnTo>
                        <a:lnTo>
                          <a:pt x="51" y="116"/>
                        </a:lnTo>
                        <a:lnTo>
                          <a:pt x="0" y="10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8102520" y="4395960"/>
                    <a:ext cx="255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20">
                        <a:moveTo>
                          <a:pt x="0" y="0"/>
                        </a:moveTo>
                        <a:lnTo>
                          <a:pt x="49" y="6"/>
                        </a:lnTo>
                        <a:lnTo>
                          <a:pt x="49" y="120"/>
                        </a:lnTo>
                        <a:lnTo>
                          <a:pt x="0" y="11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996320" y="4421160"/>
                  <a:ext cx="131760" cy="33480"/>
                  <a:chOff x="7996320" y="4421160"/>
                  <a:chExt cx="131760" cy="334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7996320" y="4421160"/>
                    <a:ext cx="27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15">
                        <a:moveTo>
                          <a:pt x="0" y="0"/>
                        </a:moveTo>
                        <a:lnTo>
                          <a:pt x="51" y="8"/>
                        </a:lnTo>
                        <a:lnTo>
                          <a:pt x="51" y="115"/>
                        </a:lnTo>
                        <a:lnTo>
                          <a:pt x="1" y="1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031240" y="44226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6">
                        <a:moveTo>
                          <a:pt x="1" y="0"/>
                        </a:moveTo>
                        <a:lnTo>
                          <a:pt x="50" y="9"/>
                        </a:lnTo>
                        <a:lnTo>
                          <a:pt x="49" y="116"/>
                        </a:lnTo>
                        <a:lnTo>
                          <a:pt x="0" y="10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8066160" y="4425840"/>
                    <a:ext cx="27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14">
                        <a:moveTo>
                          <a:pt x="0" y="0"/>
                        </a:moveTo>
                        <a:lnTo>
                          <a:pt x="53" y="7"/>
                        </a:lnTo>
                        <a:lnTo>
                          <a:pt x="51" y="114"/>
                        </a:lnTo>
                        <a:lnTo>
                          <a:pt x="0" y="1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8101080" y="44276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15">
                        <a:moveTo>
                          <a:pt x="0" y="0"/>
                        </a:moveTo>
                        <a:lnTo>
                          <a:pt x="49" y="8"/>
                        </a:lnTo>
                        <a:lnTo>
                          <a:pt x="49" y="115"/>
                        </a:lnTo>
                        <a:lnTo>
                          <a:pt x="0" y="1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956720" y="4494240"/>
                  <a:ext cx="163440" cy="36360"/>
                  <a:chOff x="7956720" y="4494240"/>
                  <a:chExt cx="163440" cy="36360"/>
                </a:xfrm>
              </p:grpSpPr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7956720" y="4494240"/>
                    <a:ext cx="163440" cy="23760"/>
                    <a:chOff x="7956720" y="4494240"/>
                    <a:chExt cx="163440" cy="2376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7997760" y="4497480"/>
                      <a:ext cx="36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3">
                          <a:moveTo>
                            <a:pt x="1" y="0"/>
                          </a:moveTo>
                          <a:lnTo>
                            <a:pt x="67" y="12"/>
                          </a:lnTo>
                          <a:lnTo>
                            <a:pt x="67" y="53"/>
                          </a:lnTo>
                          <a:lnTo>
                            <a:pt x="0" y="39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8042400" y="4502160"/>
                      <a:ext cx="34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6">
                          <a:moveTo>
                            <a:pt x="0" y="0"/>
                          </a:moveTo>
                          <a:lnTo>
                            <a:pt x="66" y="13"/>
                          </a:lnTo>
                          <a:lnTo>
                            <a:pt x="66" y="56"/>
                          </a:lnTo>
                          <a:lnTo>
                            <a:pt x="0" y="4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8085240" y="4505400"/>
                      <a:ext cx="34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6">
                          <a:moveTo>
                            <a:pt x="0" y="0"/>
                          </a:moveTo>
                          <a:lnTo>
                            <a:pt x="66" y="14"/>
                          </a:lnTo>
                          <a:lnTo>
                            <a:pt x="66" y="56"/>
                          </a:lnTo>
                          <a:lnTo>
                            <a:pt x="0" y="4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956720" y="4494240"/>
                      <a:ext cx="34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3">
                          <a:moveTo>
                            <a:pt x="0" y="0"/>
                          </a:moveTo>
                          <a:lnTo>
                            <a:pt x="66" y="13"/>
                          </a:lnTo>
                          <a:lnTo>
                            <a:pt x="66" y="53"/>
                          </a:lnTo>
                          <a:lnTo>
                            <a:pt x="0" y="3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7956720" y="4506840"/>
                    <a:ext cx="163440" cy="23760"/>
                    <a:chOff x="7956720" y="4506840"/>
                    <a:chExt cx="163440" cy="2376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7997760" y="4511520"/>
                      <a:ext cx="367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4">
                          <a:moveTo>
                            <a:pt x="2" y="0"/>
                          </a:moveTo>
                          <a:lnTo>
                            <a:pt x="67" y="13"/>
                          </a:lnTo>
                          <a:lnTo>
                            <a:pt x="67" y="54"/>
                          </a:lnTo>
                          <a:lnTo>
                            <a:pt x="0" y="4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8042400" y="4514760"/>
                      <a:ext cx="3492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3">
                          <a:moveTo>
                            <a:pt x="0" y="0"/>
                          </a:moveTo>
                          <a:lnTo>
                            <a:pt x="66" y="13"/>
                          </a:lnTo>
                          <a:lnTo>
                            <a:pt x="66" y="53"/>
                          </a:lnTo>
                          <a:lnTo>
                            <a:pt x="0" y="4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8085240" y="4519440"/>
                      <a:ext cx="349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3">
                          <a:moveTo>
                            <a:pt x="0" y="0"/>
                          </a:moveTo>
                          <a:lnTo>
                            <a:pt x="66" y="14"/>
                          </a:lnTo>
                          <a:lnTo>
                            <a:pt x="66" y="53"/>
                          </a:lnTo>
                          <a:lnTo>
                            <a:pt x="0" y="3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7956720" y="4506840"/>
                      <a:ext cx="349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4">
                          <a:moveTo>
                            <a:pt x="0" y="0"/>
                          </a:moveTo>
                          <a:lnTo>
                            <a:pt x="66" y="13"/>
                          </a:lnTo>
                          <a:lnTo>
                            <a:pt x="66" y="54"/>
                          </a:lnTo>
                          <a:lnTo>
                            <a:pt x="0" y="4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37" name=""/>
            <p:cNvGrpSpPr/>
            <p:nvPr/>
          </p:nvGrpSpPr>
          <p:grpSpPr>
            <a:xfrm>
              <a:off x="8178840" y="4465800"/>
              <a:ext cx="271440" cy="298440"/>
              <a:chOff x="8178840" y="4465800"/>
              <a:chExt cx="271440" cy="29844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8178840" y="4465800"/>
                <a:ext cx="271440" cy="298440"/>
                <a:chOff x="8178840" y="4465800"/>
                <a:chExt cx="271440" cy="2984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8229600" y="4475160"/>
                  <a:ext cx="158760" cy="27000"/>
                </a:xfrm>
                <a:custGeom>
                  <a:avLst/>
                  <a:gdLst/>
                  <a:ahLst/>
                  <a:rect l="l" t="t" r="r" b="b"/>
                  <a:pathLst>
                    <a:path w="301" h="113">
                      <a:moveTo>
                        <a:pt x="0" y="88"/>
                      </a:moveTo>
                      <a:lnTo>
                        <a:pt x="185" y="113"/>
                      </a:lnTo>
                      <a:lnTo>
                        <a:pt x="301" y="16"/>
                      </a:lnTo>
                      <a:lnTo>
                        <a:pt x="126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8255160" y="4465800"/>
                  <a:ext cx="110880" cy="31680"/>
                  <a:chOff x="8255160" y="4465800"/>
                  <a:chExt cx="110880" cy="3168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8255160" y="4478400"/>
                    <a:ext cx="666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83">
                        <a:moveTo>
                          <a:pt x="1" y="0"/>
                        </a:moveTo>
                        <a:lnTo>
                          <a:pt x="128" y="13"/>
                        </a:lnTo>
                        <a:lnTo>
                          <a:pt x="128" y="83"/>
                        </a:lnTo>
                        <a:lnTo>
                          <a:pt x="0" y="6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8321760" y="4468680"/>
                    <a:ext cx="4428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25">
                        <a:moveTo>
                          <a:pt x="0" y="57"/>
                        </a:moveTo>
                        <a:lnTo>
                          <a:pt x="0" y="125"/>
                        </a:lnTo>
                        <a:lnTo>
                          <a:pt x="83" y="57"/>
                        </a:lnTo>
                        <a:lnTo>
                          <a:pt x="83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255160" y="4465800"/>
                    <a:ext cx="110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68">
                        <a:moveTo>
                          <a:pt x="0" y="54"/>
                        </a:moveTo>
                        <a:lnTo>
                          <a:pt x="127" y="68"/>
                        </a:lnTo>
                        <a:lnTo>
                          <a:pt x="210" y="12"/>
                        </a:lnTo>
                        <a:lnTo>
                          <a:pt x="86" y="0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8229600" y="4495680"/>
                  <a:ext cx="96840" cy="103320"/>
                </a:xfrm>
                <a:custGeom>
                  <a:avLst/>
                  <a:gdLst/>
                  <a:ahLst/>
                  <a:rect l="l" t="t" r="r" b="b"/>
                  <a:pathLst>
                    <a:path w="183" h="454">
                      <a:moveTo>
                        <a:pt x="0" y="0"/>
                      </a:moveTo>
                      <a:lnTo>
                        <a:pt x="183" y="24"/>
                      </a:lnTo>
                      <a:lnTo>
                        <a:pt x="183" y="454"/>
                      </a:lnTo>
                      <a:lnTo>
                        <a:pt x="0" y="40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326440" y="4479840"/>
                  <a:ext cx="61920" cy="119160"/>
                </a:xfrm>
                <a:custGeom>
                  <a:avLst/>
                  <a:gdLst/>
                  <a:ahLst/>
                  <a:rect l="l" t="t" r="r" b="b"/>
                  <a:pathLst>
                    <a:path w="116" h="525">
                      <a:moveTo>
                        <a:pt x="0" y="96"/>
                      </a:moveTo>
                      <a:lnTo>
                        <a:pt x="116" y="0"/>
                      </a:lnTo>
                      <a:lnTo>
                        <a:pt x="116" y="402"/>
                      </a:lnTo>
                      <a:lnTo>
                        <a:pt x="0" y="525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325000" y="4570560"/>
                  <a:ext cx="125280" cy="85680"/>
                </a:xfrm>
                <a:custGeom>
                  <a:avLst/>
                  <a:gdLst/>
                  <a:ahLst/>
                  <a:rect l="l" t="t" r="r" b="b"/>
                  <a:pathLst>
                    <a:path w="236" h="374">
                      <a:moveTo>
                        <a:pt x="118" y="0"/>
                      </a:moveTo>
                      <a:lnTo>
                        <a:pt x="0" y="122"/>
                      </a:lnTo>
                      <a:lnTo>
                        <a:pt x="45" y="374"/>
                      </a:lnTo>
                      <a:lnTo>
                        <a:pt x="236" y="138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78840" y="4587840"/>
                  <a:ext cx="169920" cy="68400"/>
                </a:xfrm>
                <a:custGeom>
                  <a:avLst/>
                  <a:gdLst/>
                  <a:ahLst/>
                  <a:rect l="l" t="t" r="r" b="b"/>
                  <a:pathLst>
                    <a:path w="322" h="296">
                      <a:moveTo>
                        <a:pt x="93" y="0"/>
                      </a:moveTo>
                      <a:lnTo>
                        <a:pt x="278" y="44"/>
                      </a:lnTo>
                      <a:lnTo>
                        <a:pt x="322" y="296"/>
                      </a:lnTo>
                      <a:lnTo>
                        <a:pt x="0" y="213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346960" y="460224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193" h="712">
                      <a:moveTo>
                        <a:pt x="2" y="236"/>
                      </a:moveTo>
                      <a:lnTo>
                        <a:pt x="193" y="0"/>
                      </a:lnTo>
                      <a:lnTo>
                        <a:pt x="193" y="386"/>
                      </a:lnTo>
                      <a:lnTo>
                        <a:pt x="0" y="712"/>
                      </a:lnTo>
                      <a:lnTo>
                        <a:pt x="2" y="236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78840" y="4637160"/>
                  <a:ext cx="169920" cy="127080"/>
                </a:xfrm>
                <a:custGeom>
                  <a:avLst/>
                  <a:gdLst/>
                  <a:ahLst/>
                  <a:rect l="l" t="t" r="r" b="b"/>
                  <a:pathLst>
                    <a:path w="321" h="558">
                      <a:moveTo>
                        <a:pt x="0" y="0"/>
                      </a:moveTo>
                      <a:lnTo>
                        <a:pt x="321" y="82"/>
                      </a:lnTo>
                      <a:lnTo>
                        <a:pt x="321" y="558"/>
                      </a:lnTo>
                      <a:lnTo>
                        <a:pt x="0" y="4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238960" y="4500720"/>
                <a:ext cx="73080" cy="66600"/>
                <a:chOff x="8238960" y="4500720"/>
                <a:chExt cx="73080" cy="6660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8238960" y="4500720"/>
                  <a:ext cx="73080" cy="21960"/>
                  <a:chOff x="8238960" y="4500720"/>
                  <a:chExt cx="73080" cy="219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8238960" y="4500720"/>
                    <a:ext cx="16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0">
                        <a:moveTo>
                          <a:pt x="0" y="0"/>
                        </a:moveTo>
                        <a:lnTo>
                          <a:pt x="29" y="4"/>
                        </a:lnTo>
                        <a:lnTo>
                          <a:pt x="29" y="80"/>
                        </a:lnTo>
                        <a:lnTo>
                          <a:pt x="0" y="7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267760" y="4502160"/>
                    <a:ext cx="15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3">
                        <a:moveTo>
                          <a:pt x="0" y="0"/>
                        </a:moveTo>
                        <a:lnTo>
                          <a:pt x="29" y="4"/>
                        </a:lnTo>
                        <a:lnTo>
                          <a:pt x="29" y="83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298000" y="4503600"/>
                    <a:ext cx="14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1">
                        <a:moveTo>
                          <a:pt x="0" y="0"/>
                        </a:moveTo>
                        <a:lnTo>
                          <a:pt x="29" y="4"/>
                        </a:lnTo>
                        <a:lnTo>
                          <a:pt x="29" y="81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8238960" y="4521240"/>
                  <a:ext cx="73080" cy="23760"/>
                  <a:chOff x="8238960" y="4521240"/>
                  <a:chExt cx="73080" cy="237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8238960" y="4521240"/>
                    <a:ext cx="162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3">
                        <a:moveTo>
                          <a:pt x="0" y="0"/>
                        </a:moveTo>
                        <a:lnTo>
                          <a:pt x="29" y="7"/>
                        </a:lnTo>
                        <a:lnTo>
                          <a:pt x="29" y="83"/>
                        </a:lnTo>
                        <a:lnTo>
                          <a:pt x="0" y="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267760" y="4524480"/>
                    <a:ext cx="158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2">
                        <a:moveTo>
                          <a:pt x="0" y="0"/>
                        </a:moveTo>
                        <a:lnTo>
                          <a:pt x="29" y="6"/>
                        </a:lnTo>
                        <a:lnTo>
                          <a:pt x="29" y="82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298000" y="4525920"/>
                    <a:ext cx="14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3">
                        <a:moveTo>
                          <a:pt x="0" y="0"/>
                        </a:moveTo>
                        <a:lnTo>
                          <a:pt x="29" y="7"/>
                        </a:lnTo>
                        <a:lnTo>
                          <a:pt x="29" y="83"/>
                        </a:lnTo>
                        <a:lnTo>
                          <a:pt x="0" y="7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238960" y="4543560"/>
                  <a:ext cx="73080" cy="23760"/>
                  <a:chOff x="8238960" y="4543560"/>
                  <a:chExt cx="73080" cy="237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8238960" y="4543560"/>
                    <a:ext cx="162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4">
                        <a:moveTo>
                          <a:pt x="0" y="0"/>
                        </a:moveTo>
                        <a:lnTo>
                          <a:pt x="29" y="8"/>
                        </a:lnTo>
                        <a:lnTo>
                          <a:pt x="29" y="84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267760" y="4546440"/>
                    <a:ext cx="158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2">
                        <a:moveTo>
                          <a:pt x="0" y="0"/>
                        </a:moveTo>
                        <a:lnTo>
                          <a:pt x="29" y="5"/>
                        </a:lnTo>
                        <a:lnTo>
                          <a:pt x="29" y="82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298000" y="4548240"/>
                    <a:ext cx="14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3">
                        <a:moveTo>
                          <a:pt x="0" y="0"/>
                        </a:moveTo>
                        <a:lnTo>
                          <a:pt x="29" y="7"/>
                        </a:lnTo>
                        <a:lnTo>
                          <a:pt x="29" y="83"/>
                        </a:lnTo>
                        <a:lnTo>
                          <a:pt x="0" y="7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3" name=""/>
            <p:cNvGrpSpPr/>
            <p:nvPr/>
          </p:nvGrpSpPr>
          <p:grpSpPr>
            <a:xfrm>
              <a:off x="7459560" y="4402080"/>
              <a:ext cx="406440" cy="365040"/>
              <a:chOff x="7459560" y="4402080"/>
              <a:chExt cx="406440" cy="365040"/>
            </a:xfrm>
          </p:grpSpPr>
          <p:sp>
            <p:nvSpPr>
              <p:cNvPr id="364" name=""/>
              <p:cNvSpPr/>
              <p:nvPr/>
            </p:nvSpPr>
            <p:spPr>
              <a:xfrm>
                <a:off x="7459560" y="4424400"/>
                <a:ext cx="406440" cy="39600"/>
              </a:xfrm>
              <a:custGeom>
                <a:avLst/>
                <a:gdLst/>
                <a:ahLst/>
                <a:rect l="l" t="t" r="r" b="b"/>
                <a:pathLst>
                  <a:path w="767" h="176">
                    <a:moveTo>
                      <a:pt x="0" y="104"/>
                    </a:moveTo>
                    <a:lnTo>
                      <a:pt x="438" y="176"/>
                    </a:lnTo>
                    <a:lnTo>
                      <a:pt x="767" y="52"/>
                    </a:lnTo>
                    <a:lnTo>
                      <a:pt x="365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459560" y="4448160"/>
                <a:ext cx="231840" cy="317520"/>
              </a:xfrm>
              <a:custGeom>
                <a:avLst/>
                <a:gdLst/>
                <a:ahLst/>
                <a:rect l="l" t="t" r="r" b="b"/>
                <a:pathLst>
                  <a:path w="438" h="1406">
                    <a:moveTo>
                      <a:pt x="0" y="0"/>
                    </a:moveTo>
                    <a:lnTo>
                      <a:pt x="438" y="73"/>
                    </a:lnTo>
                    <a:lnTo>
                      <a:pt x="438" y="1406"/>
                    </a:lnTo>
                    <a:lnTo>
                      <a:pt x="345" y="1375"/>
                    </a:lnTo>
                    <a:lnTo>
                      <a:pt x="346" y="1207"/>
                    </a:lnTo>
                    <a:lnTo>
                      <a:pt x="223" y="1159"/>
                    </a:lnTo>
                    <a:lnTo>
                      <a:pt x="223" y="1309"/>
                    </a:lnTo>
                    <a:lnTo>
                      <a:pt x="153" y="1278"/>
                    </a:lnTo>
                    <a:lnTo>
                      <a:pt x="153" y="1128"/>
                    </a:lnTo>
                    <a:lnTo>
                      <a:pt x="55" y="1084"/>
                    </a:lnTo>
                    <a:lnTo>
                      <a:pt x="55" y="1236"/>
                    </a:lnTo>
                    <a:lnTo>
                      <a:pt x="0" y="12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7467480" y="4402080"/>
                <a:ext cx="398520" cy="365040"/>
                <a:chOff x="7467480" y="4402080"/>
                <a:chExt cx="398520" cy="3650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691400" y="4435560"/>
                  <a:ext cx="174600" cy="331560"/>
                </a:xfrm>
                <a:custGeom>
                  <a:avLst/>
                  <a:gdLst/>
                  <a:ahLst/>
                  <a:rect l="l" t="t" r="r" b="b"/>
                  <a:pathLst>
                    <a:path w="330" h="1459">
                      <a:moveTo>
                        <a:pt x="0" y="124"/>
                      </a:moveTo>
                      <a:lnTo>
                        <a:pt x="326" y="0"/>
                      </a:lnTo>
                      <a:lnTo>
                        <a:pt x="330" y="1128"/>
                      </a:lnTo>
                      <a:lnTo>
                        <a:pt x="0" y="1459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7577280" y="4708440"/>
                  <a:ext cx="68040" cy="36720"/>
                  <a:chOff x="7577280" y="4708440"/>
                  <a:chExt cx="68040" cy="367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615080" y="4716360"/>
                    <a:ext cx="30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10">
                        <a:moveTo>
                          <a:pt x="0" y="0"/>
                        </a:moveTo>
                        <a:lnTo>
                          <a:pt x="0" y="83"/>
                        </a:lnTo>
                        <a:lnTo>
                          <a:pt x="57" y="110"/>
                        </a:lnTo>
                        <a:lnTo>
                          <a:pt x="57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577280" y="4708440"/>
                    <a:ext cx="396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56">
                        <a:moveTo>
                          <a:pt x="0" y="0"/>
                        </a:moveTo>
                        <a:lnTo>
                          <a:pt x="0" y="156"/>
                        </a:lnTo>
                        <a:lnTo>
                          <a:pt x="74" y="111"/>
                        </a:lnTo>
                        <a:lnTo>
                          <a:pt x="74" y="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488360" y="4692600"/>
                  <a:ext cx="68040" cy="34920"/>
                  <a:chOff x="7488360" y="4692600"/>
                  <a:chExt cx="68040" cy="349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7526160" y="4699080"/>
                    <a:ext cx="30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10">
                        <a:moveTo>
                          <a:pt x="0" y="0"/>
                        </a:moveTo>
                        <a:lnTo>
                          <a:pt x="0" y="84"/>
                        </a:lnTo>
                        <a:lnTo>
                          <a:pt x="57" y="110"/>
                        </a:lnTo>
                        <a:lnTo>
                          <a:pt x="57" y="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488360" y="4692600"/>
                    <a:ext cx="396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59">
                        <a:moveTo>
                          <a:pt x="0" y="0"/>
                        </a:moveTo>
                        <a:lnTo>
                          <a:pt x="0" y="159"/>
                        </a:lnTo>
                        <a:lnTo>
                          <a:pt x="74" y="114"/>
                        </a:lnTo>
                        <a:lnTo>
                          <a:pt x="74" y="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7467480" y="4454640"/>
                  <a:ext cx="208080" cy="252360"/>
                  <a:chOff x="7467480" y="4454640"/>
                  <a:chExt cx="208080" cy="2523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7475400" y="4456080"/>
                    <a:ext cx="1890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1109">
                        <a:moveTo>
                          <a:pt x="0" y="0"/>
                        </a:moveTo>
                        <a:lnTo>
                          <a:pt x="357" y="59"/>
                        </a:lnTo>
                        <a:lnTo>
                          <a:pt x="357" y="1109"/>
                        </a:lnTo>
                        <a:lnTo>
                          <a:pt x="2" y="95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7467480" y="4454640"/>
                    <a:ext cx="208080" cy="247680"/>
                    <a:chOff x="7467480" y="4454640"/>
                    <a:chExt cx="208080" cy="24768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7469280" y="4643280"/>
                      <a:ext cx="206280" cy="3024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7467480" y="4611600"/>
                      <a:ext cx="206640" cy="2700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7472520" y="4579920"/>
                      <a:ext cx="201600" cy="2232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7470720" y="4545000"/>
                      <a:ext cx="201600" cy="2232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7473960" y="4513320"/>
                      <a:ext cx="198360" cy="1728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7467480" y="4483080"/>
                      <a:ext cx="203400" cy="1440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516800" y="4454640"/>
                      <a:ext cx="1440" cy="23004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7562880" y="4459320"/>
                      <a:ext cx="1440" cy="23508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7613640" y="4462560"/>
                      <a:ext cx="1440" cy="23976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547040" y="4402080"/>
                  <a:ext cx="241200" cy="52560"/>
                  <a:chOff x="7547040" y="4402080"/>
                  <a:chExt cx="241200" cy="5256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7547040" y="4402080"/>
                    <a:ext cx="241200" cy="52560"/>
                    <a:chOff x="7547040" y="4402080"/>
                    <a:chExt cx="241200" cy="525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7547040" y="4402080"/>
                      <a:ext cx="24120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7" h="90">
                          <a:moveTo>
                            <a:pt x="0" y="58"/>
                          </a:moveTo>
                          <a:lnTo>
                            <a:pt x="266" y="90"/>
                          </a:lnTo>
                          <a:lnTo>
                            <a:pt x="457" y="29"/>
                          </a:lnTo>
                          <a:lnTo>
                            <a:pt x="199" y="0"/>
                          </a:lnTo>
                          <a:lnTo>
                            <a:pt x="0" y="58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7686720" y="4410000"/>
                      <a:ext cx="10008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197">
                          <a:moveTo>
                            <a:pt x="0" y="61"/>
                          </a:moveTo>
                          <a:lnTo>
                            <a:pt x="189" y="0"/>
                          </a:lnTo>
                          <a:lnTo>
                            <a:pt x="189" y="125"/>
                          </a:lnTo>
                          <a:lnTo>
                            <a:pt x="0" y="197"/>
                          </a:lnTo>
                          <a:lnTo>
                            <a:pt x="0" y="61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7547040" y="4416480"/>
                      <a:ext cx="13968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5" h="168">
                          <a:moveTo>
                            <a:pt x="265" y="32"/>
                          </a:moveTo>
                          <a:lnTo>
                            <a:pt x="265" y="168"/>
                          </a:lnTo>
                          <a:lnTo>
                            <a:pt x="0" y="130"/>
                          </a:lnTo>
                          <a:lnTo>
                            <a:pt x="0" y="0"/>
                          </a:lnTo>
                          <a:lnTo>
                            <a:pt x="265" y="32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1" name=""/>
                  <p:cNvSpPr/>
                  <p:nvPr/>
                </p:nvSpPr>
                <p:spPr>
                  <a:xfrm>
                    <a:off x="7564320" y="4422600"/>
                    <a:ext cx="810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40">
                        <a:moveTo>
                          <a:pt x="1" y="0"/>
                        </a:moveTo>
                        <a:lnTo>
                          <a:pt x="152" y="16"/>
                        </a:lnTo>
                        <a:lnTo>
                          <a:pt x="152" y="40"/>
                        </a:lnTo>
                        <a:lnTo>
                          <a:pt x="0" y="2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2" name=""/>
            <p:cNvGrpSpPr/>
            <p:nvPr/>
          </p:nvGrpSpPr>
          <p:grpSpPr>
            <a:xfrm>
              <a:off x="7724880" y="4518000"/>
              <a:ext cx="387360" cy="290520"/>
              <a:chOff x="7724880" y="4518000"/>
              <a:chExt cx="387360" cy="29052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7724880" y="4518000"/>
                <a:ext cx="387360" cy="290520"/>
                <a:chOff x="7724880" y="4518000"/>
                <a:chExt cx="387360" cy="2905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724880" y="4522680"/>
                  <a:ext cx="387360" cy="79560"/>
                </a:xfrm>
                <a:custGeom>
                  <a:avLst/>
                  <a:gdLst/>
                  <a:ahLst/>
                  <a:rect l="l" t="t" r="r" b="b"/>
                  <a:pathLst>
                    <a:path w="733" h="350">
                      <a:moveTo>
                        <a:pt x="0" y="257"/>
                      </a:moveTo>
                      <a:lnTo>
                        <a:pt x="354" y="350"/>
                      </a:lnTo>
                      <a:lnTo>
                        <a:pt x="733" y="65"/>
                      </a:lnTo>
                      <a:lnTo>
                        <a:pt x="427" y="0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724880" y="4579920"/>
                  <a:ext cx="187200" cy="228600"/>
                </a:xfrm>
                <a:custGeom>
                  <a:avLst/>
                  <a:gdLst/>
                  <a:ahLst/>
                  <a:rect l="l" t="t" r="r" b="b"/>
                  <a:pathLst>
                    <a:path w="354" h="1008">
                      <a:moveTo>
                        <a:pt x="0" y="0"/>
                      </a:moveTo>
                      <a:lnTo>
                        <a:pt x="354" y="92"/>
                      </a:lnTo>
                      <a:lnTo>
                        <a:pt x="354" y="1008"/>
                      </a:lnTo>
                      <a:lnTo>
                        <a:pt x="0" y="8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912080" y="4537080"/>
                  <a:ext cx="200160" cy="271440"/>
                </a:xfrm>
                <a:custGeom>
                  <a:avLst/>
                  <a:gdLst/>
                  <a:ahLst/>
                  <a:rect l="l" t="t" r="r" b="b"/>
                  <a:pathLst>
                    <a:path w="379" h="1200">
                      <a:moveTo>
                        <a:pt x="0" y="285"/>
                      </a:moveTo>
                      <a:lnTo>
                        <a:pt x="0" y="1200"/>
                      </a:lnTo>
                      <a:lnTo>
                        <a:pt x="379" y="766"/>
                      </a:lnTo>
                      <a:lnTo>
                        <a:pt x="379" y="0"/>
                      </a:lnTo>
                      <a:lnTo>
                        <a:pt x="0" y="285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7773840" y="4518000"/>
                  <a:ext cx="293760" cy="71640"/>
                  <a:chOff x="7773840" y="4518000"/>
                  <a:chExt cx="293760" cy="7164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7773840" y="4518000"/>
                    <a:ext cx="2937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262">
                        <a:moveTo>
                          <a:pt x="0" y="197"/>
                        </a:moveTo>
                        <a:lnTo>
                          <a:pt x="254" y="262"/>
                        </a:lnTo>
                        <a:lnTo>
                          <a:pt x="557" y="44"/>
                        </a:lnTo>
                        <a:lnTo>
                          <a:pt x="333" y="0"/>
                        </a:lnTo>
                        <a:lnTo>
                          <a:pt x="0" y="197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7907400" y="4527720"/>
                    <a:ext cx="1602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74">
                        <a:moveTo>
                          <a:pt x="0" y="217"/>
                        </a:moveTo>
                        <a:lnTo>
                          <a:pt x="304" y="0"/>
                        </a:lnTo>
                        <a:lnTo>
                          <a:pt x="304" y="51"/>
                        </a:lnTo>
                        <a:lnTo>
                          <a:pt x="0" y="274"/>
                        </a:lnTo>
                        <a:lnTo>
                          <a:pt x="0" y="217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773840" y="4562640"/>
                    <a:ext cx="133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21">
                        <a:moveTo>
                          <a:pt x="253" y="64"/>
                        </a:moveTo>
                        <a:lnTo>
                          <a:pt x="253" y="121"/>
                        </a:lnTo>
                        <a:lnTo>
                          <a:pt x="0" y="53"/>
                        </a:lnTo>
                        <a:lnTo>
                          <a:pt x="0" y="0"/>
                        </a:lnTo>
                        <a:lnTo>
                          <a:pt x="253" y="64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7734240" y="4587840"/>
                <a:ext cx="166680" cy="211320"/>
                <a:chOff x="7734240" y="4587840"/>
                <a:chExt cx="166680" cy="2113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734240" y="4587840"/>
                  <a:ext cx="166680" cy="211320"/>
                </a:xfrm>
                <a:custGeom>
                  <a:avLst/>
                  <a:gdLst/>
                  <a:ahLst/>
                  <a:rect l="l" t="t" r="r" b="b"/>
                  <a:pathLst>
                    <a:path w="316" h="933">
                      <a:moveTo>
                        <a:pt x="0" y="0"/>
                      </a:moveTo>
                      <a:lnTo>
                        <a:pt x="316" y="83"/>
                      </a:lnTo>
                      <a:lnTo>
                        <a:pt x="316" y="933"/>
                      </a:lnTo>
                      <a:lnTo>
                        <a:pt x="0" y="79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758000" y="4591080"/>
                  <a:ext cx="17640" cy="187200"/>
                </a:xfrm>
                <a:custGeom>
                  <a:avLst/>
                  <a:gdLst/>
                  <a:ahLst/>
                  <a:rect l="l" t="t" r="r" b="b"/>
                  <a:pathLst>
                    <a:path w="34" h="826">
                      <a:moveTo>
                        <a:pt x="1" y="0"/>
                      </a:moveTo>
                      <a:lnTo>
                        <a:pt x="0" y="814"/>
                      </a:lnTo>
                      <a:lnTo>
                        <a:pt x="33" y="826"/>
                      </a:lnTo>
                      <a:lnTo>
                        <a:pt x="34" y="9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804080" y="4594320"/>
                  <a:ext cx="19080" cy="191880"/>
                </a:xfrm>
                <a:custGeom>
                  <a:avLst/>
                  <a:gdLst/>
                  <a:ahLst/>
                  <a:rect l="l" t="t" r="r" b="b"/>
                  <a:pathLst>
                    <a:path w="36" h="844">
                      <a:moveTo>
                        <a:pt x="0" y="0"/>
                      </a:moveTo>
                      <a:lnTo>
                        <a:pt x="0" y="828"/>
                      </a:lnTo>
                      <a:lnTo>
                        <a:pt x="33" y="844"/>
                      </a:lnTo>
                      <a:lnTo>
                        <a:pt x="3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853400" y="4600440"/>
                  <a:ext cx="19080" cy="193680"/>
                </a:xfrm>
                <a:custGeom>
                  <a:avLst/>
                  <a:gdLst/>
                  <a:ahLst/>
                  <a:rect l="l" t="t" r="r" b="b"/>
                  <a:pathLst>
                    <a:path w="36" h="850">
                      <a:moveTo>
                        <a:pt x="1" y="0"/>
                      </a:moveTo>
                      <a:lnTo>
                        <a:pt x="0" y="831"/>
                      </a:lnTo>
                      <a:lnTo>
                        <a:pt x="36" y="850"/>
                      </a:lnTo>
                      <a:lnTo>
                        <a:pt x="34" y="7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6" name=""/>
            <p:cNvGrpSpPr/>
            <p:nvPr/>
          </p:nvGrpSpPr>
          <p:grpSpPr>
            <a:xfrm>
              <a:off x="7993080" y="4532400"/>
              <a:ext cx="360360" cy="339480"/>
              <a:chOff x="7993080" y="4532400"/>
              <a:chExt cx="360360" cy="33948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7993080" y="4532400"/>
                <a:ext cx="360360" cy="339480"/>
                <a:chOff x="7993080" y="4532400"/>
                <a:chExt cx="360360" cy="339480"/>
              </a:xfrm>
            </p:grpSpPr>
            <p:grpSp>
              <p:nvGrpSpPr>
                <p:cNvPr id="408" name=""/>
                <p:cNvGrpSpPr/>
                <p:nvPr/>
              </p:nvGrpSpPr>
              <p:grpSpPr>
                <a:xfrm>
                  <a:off x="8034480" y="4788000"/>
                  <a:ext cx="279360" cy="83880"/>
                  <a:chOff x="8034480" y="4788000"/>
                  <a:chExt cx="279360" cy="8388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8034480" y="4819680"/>
                    <a:ext cx="179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229">
                        <a:moveTo>
                          <a:pt x="0" y="0"/>
                        </a:moveTo>
                        <a:lnTo>
                          <a:pt x="0" y="69"/>
                        </a:lnTo>
                        <a:lnTo>
                          <a:pt x="338" y="229"/>
                        </a:lnTo>
                        <a:lnTo>
                          <a:pt x="338" y="15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213760" y="4788000"/>
                    <a:ext cx="1000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368">
                        <a:moveTo>
                          <a:pt x="0" y="296"/>
                        </a:moveTo>
                        <a:lnTo>
                          <a:pt x="0" y="368"/>
                        </a:lnTo>
                        <a:lnTo>
                          <a:pt x="190" y="58"/>
                        </a:lnTo>
                        <a:lnTo>
                          <a:pt x="190" y="0"/>
                        </a:lnTo>
                        <a:lnTo>
                          <a:pt x="0" y="296"/>
                        </a:lnTo>
                        <a:close/>
                      </a:path>
                    </a:pathLst>
                  </a:custGeom>
                  <a:solidFill>
                    <a:srgbClr val="001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>
                  <a:off x="7993080" y="4732200"/>
                  <a:ext cx="360360" cy="128880"/>
                </a:xfrm>
                <a:custGeom>
                  <a:avLst/>
                  <a:gdLst/>
                  <a:ahLst/>
                  <a:rect l="l" t="t" r="r" b="b"/>
                  <a:pathLst>
                    <a:path w="681" h="567">
                      <a:moveTo>
                        <a:pt x="0" y="356"/>
                      </a:moveTo>
                      <a:lnTo>
                        <a:pt x="452" y="567"/>
                      </a:lnTo>
                      <a:lnTo>
                        <a:pt x="681" y="192"/>
                      </a:lnTo>
                      <a:lnTo>
                        <a:pt x="248" y="0"/>
                      </a:lnTo>
                      <a:lnTo>
                        <a:pt x="0" y="356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026560" y="4653000"/>
                  <a:ext cx="284040" cy="73080"/>
                </a:xfrm>
                <a:custGeom>
                  <a:avLst/>
                  <a:gdLst/>
                  <a:ahLst/>
                  <a:rect l="l" t="t" r="r" b="b"/>
                  <a:pathLst>
                    <a:path w="537" h="323">
                      <a:moveTo>
                        <a:pt x="353" y="323"/>
                      </a:moveTo>
                      <a:lnTo>
                        <a:pt x="537" y="112"/>
                      </a:lnTo>
                      <a:lnTo>
                        <a:pt x="203" y="0"/>
                      </a:lnTo>
                      <a:lnTo>
                        <a:pt x="0" y="206"/>
                      </a:lnTo>
                      <a:lnTo>
                        <a:pt x="353" y="323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169120" y="4532400"/>
                  <a:ext cx="98640" cy="85680"/>
                </a:xfrm>
                <a:custGeom>
                  <a:avLst/>
                  <a:gdLst/>
                  <a:ahLst/>
                  <a:rect l="l" t="t" r="r" b="b"/>
                  <a:pathLst>
                    <a:path w="186" h="379">
                      <a:moveTo>
                        <a:pt x="0" y="0"/>
                      </a:moveTo>
                      <a:lnTo>
                        <a:pt x="45" y="379"/>
                      </a:lnTo>
                      <a:lnTo>
                        <a:pt x="186" y="25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083440" y="4532400"/>
                  <a:ext cx="109800" cy="85680"/>
                </a:xfrm>
                <a:custGeom>
                  <a:avLst/>
                  <a:gdLst/>
                  <a:ahLst/>
                  <a:rect l="l" t="t" r="r" b="b"/>
                  <a:pathLst>
                    <a:path w="206" h="381">
                      <a:moveTo>
                        <a:pt x="162" y="0"/>
                      </a:moveTo>
                      <a:lnTo>
                        <a:pt x="206" y="381"/>
                      </a:lnTo>
                      <a:lnTo>
                        <a:pt x="0" y="340"/>
                      </a:lnTo>
                      <a:lnTo>
                        <a:pt x="162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083440" y="4610160"/>
                  <a:ext cx="108000" cy="102960"/>
                </a:xfrm>
                <a:custGeom>
                  <a:avLst/>
                  <a:gdLst/>
                  <a:ahLst/>
                  <a:rect l="l" t="t" r="r" b="b"/>
                  <a:pathLst>
                    <a:path w="205" h="461">
                      <a:moveTo>
                        <a:pt x="0" y="0"/>
                      </a:moveTo>
                      <a:lnTo>
                        <a:pt x="205" y="40"/>
                      </a:lnTo>
                      <a:lnTo>
                        <a:pt x="205" y="461"/>
                      </a:lnTo>
                      <a:lnTo>
                        <a:pt x="0" y="3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191440" y="4589640"/>
                  <a:ext cx="74520" cy="125280"/>
                </a:xfrm>
                <a:custGeom>
                  <a:avLst/>
                  <a:gdLst/>
                  <a:ahLst/>
                  <a:rect l="l" t="t" r="r" b="b"/>
                  <a:pathLst>
                    <a:path w="141" h="548">
                      <a:moveTo>
                        <a:pt x="0" y="126"/>
                      </a:moveTo>
                      <a:lnTo>
                        <a:pt x="141" y="0"/>
                      </a:lnTo>
                      <a:lnTo>
                        <a:pt x="141" y="391"/>
                      </a:lnTo>
                      <a:lnTo>
                        <a:pt x="0" y="548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026560" y="4699080"/>
                  <a:ext cx="185400" cy="139680"/>
                </a:xfrm>
                <a:custGeom>
                  <a:avLst/>
                  <a:gdLst/>
                  <a:ahLst/>
                  <a:rect l="l" t="t" r="r" b="b"/>
                  <a:pathLst>
                    <a:path w="351" h="617">
                      <a:moveTo>
                        <a:pt x="0" y="0"/>
                      </a:moveTo>
                      <a:lnTo>
                        <a:pt x="351" y="117"/>
                      </a:lnTo>
                      <a:lnTo>
                        <a:pt x="351" y="617"/>
                      </a:lnTo>
                      <a:lnTo>
                        <a:pt x="0" y="4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11960" y="4678200"/>
                  <a:ext cx="98640" cy="160560"/>
                </a:xfrm>
                <a:custGeom>
                  <a:avLst/>
                  <a:gdLst/>
                  <a:ahLst/>
                  <a:rect l="l" t="t" r="r" b="b"/>
                  <a:pathLst>
                    <a:path w="185" h="712">
                      <a:moveTo>
                        <a:pt x="0" y="212"/>
                      </a:moveTo>
                      <a:lnTo>
                        <a:pt x="185" y="0"/>
                      </a:lnTo>
                      <a:lnTo>
                        <a:pt x="185" y="426"/>
                      </a:lnTo>
                      <a:lnTo>
                        <a:pt x="0" y="712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8061480" y="4621320"/>
                <a:ext cx="115560" cy="195120"/>
                <a:chOff x="8061480" y="4621320"/>
                <a:chExt cx="115560" cy="19512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8118360" y="4621320"/>
                  <a:ext cx="37800" cy="55440"/>
                  <a:chOff x="8118360" y="4621320"/>
                  <a:chExt cx="37800" cy="55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8128080" y="4621320"/>
                    <a:ext cx="280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60198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601987"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8120160" y="4621320"/>
                    <a:ext cx="248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0" y="9572"/>
                        </a:moveTo>
                        <a:arcTo wR="10800" hR="10800" stAng="-10408159" swAng="50081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0" y="9572"/>
                        </a:moveTo>
                        <a:arcTo wR="10800" hR="10800" stAng="-10408159" swAng="5008159"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8118360" y="4648320"/>
                    <a:ext cx="129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9">
                        <a:moveTo>
                          <a:pt x="0" y="0"/>
                        </a:moveTo>
                        <a:lnTo>
                          <a:pt x="0" y="101"/>
                        </a:lnTo>
                        <a:lnTo>
                          <a:pt x="24" y="109"/>
                        </a:lnTo>
                        <a:lnTo>
                          <a:pt x="24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142120" y="4651200"/>
                    <a:ext cx="12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9">
                        <a:moveTo>
                          <a:pt x="0" y="0"/>
                        </a:moveTo>
                        <a:lnTo>
                          <a:pt x="0" y="100"/>
                        </a:lnTo>
                        <a:lnTo>
                          <a:pt x="24" y="109"/>
                        </a:lnTo>
                        <a:lnTo>
                          <a:pt x="24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8061480" y="4729320"/>
                  <a:ext cx="115560" cy="87120"/>
                  <a:chOff x="8061480" y="4729320"/>
                  <a:chExt cx="115560" cy="871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8061480" y="4759200"/>
                    <a:ext cx="115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48">
                        <a:moveTo>
                          <a:pt x="0" y="0"/>
                        </a:moveTo>
                        <a:lnTo>
                          <a:pt x="0" y="155"/>
                        </a:lnTo>
                        <a:lnTo>
                          <a:pt x="217" y="248"/>
                        </a:lnTo>
                        <a:lnTo>
                          <a:pt x="217" y="9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062920" y="4729320"/>
                    <a:ext cx="108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86">
                        <a:moveTo>
                          <a:pt x="0" y="0"/>
                        </a:moveTo>
                        <a:lnTo>
                          <a:pt x="0" y="108"/>
                        </a:lnTo>
                        <a:lnTo>
                          <a:pt x="204" y="186"/>
                        </a:lnTo>
                        <a:lnTo>
                          <a:pt x="204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28" name=""/>
          <p:cNvGrpSpPr/>
          <p:nvPr/>
        </p:nvGrpSpPr>
        <p:grpSpPr>
          <a:xfrm>
            <a:off x="5942160" y="4678200"/>
            <a:ext cx="1463400" cy="536760"/>
            <a:chOff x="5942160" y="4678200"/>
            <a:chExt cx="1463400" cy="536760"/>
          </a:xfrm>
        </p:grpSpPr>
        <p:sp>
          <p:nvSpPr>
            <p:cNvPr id="429" name=""/>
            <p:cNvSpPr/>
            <p:nvPr/>
          </p:nvSpPr>
          <p:spPr>
            <a:xfrm>
              <a:off x="5942160" y="4678200"/>
              <a:ext cx="1363680" cy="492120"/>
            </a:xfrm>
            <a:custGeom>
              <a:avLst/>
              <a:gdLst/>
              <a:ahLst/>
              <a:rect l="l" t="t" r="r" b="b"/>
              <a:pathLst>
                <a:path w="1719" h="621">
                  <a:moveTo>
                    <a:pt x="17" y="0"/>
                  </a:moveTo>
                  <a:lnTo>
                    <a:pt x="0" y="50"/>
                  </a:lnTo>
                  <a:lnTo>
                    <a:pt x="1702" y="621"/>
                  </a:lnTo>
                  <a:lnTo>
                    <a:pt x="1719" y="57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18360" y="5054760"/>
              <a:ext cx="187200" cy="160200"/>
            </a:xfrm>
            <a:custGeom>
              <a:avLst/>
              <a:gdLst/>
              <a:ahLst/>
              <a:rect l="l" t="t" r="r" b="b"/>
              <a:pathLst>
                <a:path w="236" h="202">
                  <a:moveTo>
                    <a:pt x="0" y="202"/>
                  </a:moveTo>
                  <a:lnTo>
                    <a:pt x="236" y="170"/>
                  </a:lnTo>
                  <a:lnTo>
                    <a:pt x="69" y="0"/>
                  </a:lnTo>
                  <a:lnTo>
                    <a:pt x="99" y="12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253120" y="4384800"/>
            <a:ext cx="585720" cy="411120"/>
          </a:xfrm>
          <a:prstGeom prst="rect">
            <a:avLst/>
          </a:prstGeom>
          <a:solidFill>
            <a:srgbClr val="ff7c80"/>
          </a:solidFill>
          <a:ln w="11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54640" y="4459320"/>
            <a:ext cx="422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359080" y="5199120"/>
            <a:ext cx="4863960" cy="168120"/>
            <a:chOff x="2359080" y="5199120"/>
            <a:chExt cx="4863960" cy="168120"/>
          </a:xfrm>
        </p:grpSpPr>
        <p:sp>
          <p:nvSpPr>
            <p:cNvPr id="434" name=""/>
            <p:cNvSpPr/>
            <p:nvPr/>
          </p:nvSpPr>
          <p:spPr>
            <a:xfrm>
              <a:off x="2359080" y="5261040"/>
              <a:ext cx="4751280" cy="428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54920" y="5199120"/>
              <a:ext cx="168120" cy="168120"/>
            </a:xfrm>
            <a:custGeom>
              <a:avLst/>
              <a:gdLst/>
              <a:ahLst/>
              <a:rect l="l" t="t" r="r" b="b"/>
              <a:pathLst>
                <a:path w="212" h="212">
                  <a:moveTo>
                    <a:pt x="0" y="212"/>
                  </a:moveTo>
                  <a:lnTo>
                    <a:pt x="212" y="105"/>
                  </a:lnTo>
                  <a:lnTo>
                    <a:pt x="0" y="0"/>
                  </a:lnTo>
                  <a:lnTo>
                    <a:pt x="67" y="105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282840" y="3062160"/>
            <a:ext cx="155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054080" y="1676520"/>
            <a:ext cx="2222640" cy="4343400"/>
            <a:chOff x="1054080" y="1676520"/>
            <a:chExt cx="2222640" cy="4343400"/>
          </a:xfrm>
        </p:grpSpPr>
        <p:sp>
          <p:nvSpPr>
            <p:cNvPr id="438" name=""/>
            <p:cNvSpPr/>
            <p:nvPr/>
          </p:nvSpPr>
          <p:spPr>
            <a:xfrm>
              <a:off x="2065320" y="4605480"/>
              <a:ext cx="708120" cy="50292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16240" y="5130720"/>
              <a:ext cx="41040" cy="1461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73240" y="2695680"/>
              <a:ext cx="696960" cy="49356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08240" y="2746440"/>
              <a:ext cx="39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41440" y="27939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84000" y="291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35080" y="3649680"/>
              <a:ext cx="735120" cy="457200"/>
            </a:xfrm>
            <a:custGeom>
              <a:avLst/>
              <a:gdLst/>
              <a:ahLst/>
              <a:rect l="l" t="t" r="r" b="b"/>
              <a:pathLst>
                <a:path w="924" h="578">
                  <a:moveTo>
                    <a:pt x="71" y="0"/>
                  </a:moveTo>
                  <a:lnTo>
                    <a:pt x="56" y="2"/>
                  </a:lnTo>
                  <a:lnTo>
                    <a:pt x="43" y="5"/>
                  </a:lnTo>
                  <a:lnTo>
                    <a:pt x="31" y="12"/>
                  </a:lnTo>
                  <a:lnTo>
                    <a:pt x="21" y="22"/>
                  </a:lnTo>
                  <a:lnTo>
                    <a:pt x="11" y="32"/>
                  </a:lnTo>
                  <a:lnTo>
                    <a:pt x="5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06"/>
                  </a:lnTo>
                  <a:lnTo>
                    <a:pt x="1" y="521"/>
                  </a:lnTo>
                  <a:lnTo>
                    <a:pt x="5" y="534"/>
                  </a:lnTo>
                  <a:lnTo>
                    <a:pt x="11" y="546"/>
                  </a:lnTo>
                  <a:lnTo>
                    <a:pt x="21" y="558"/>
                  </a:lnTo>
                  <a:lnTo>
                    <a:pt x="31" y="566"/>
                  </a:lnTo>
                  <a:lnTo>
                    <a:pt x="43" y="573"/>
                  </a:lnTo>
                  <a:lnTo>
                    <a:pt x="56" y="576"/>
                  </a:lnTo>
                  <a:lnTo>
                    <a:pt x="71" y="578"/>
                  </a:lnTo>
                  <a:lnTo>
                    <a:pt x="852" y="578"/>
                  </a:lnTo>
                  <a:lnTo>
                    <a:pt x="867" y="576"/>
                  </a:lnTo>
                  <a:lnTo>
                    <a:pt x="881" y="573"/>
                  </a:lnTo>
                  <a:lnTo>
                    <a:pt x="892" y="566"/>
                  </a:lnTo>
                  <a:lnTo>
                    <a:pt x="904" y="558"/>
                  </a:lnTo>
                  <a:lnTo>
                    <a:pt x="912" y="546"/>
                  </a:lnTo>
                  <a:lnTo>
                    <a:pt x="919" y="534"/>
                  </a:lnTo>
                  <a:lnTo>
                    <a:pt x="922" y="521"/>
                  </a:lnTo>
                  <a:lnTo>
                    <a:pt x="924" y="506"/>
                  </a:lnTo>
                  <a:lnTo>
                    <a:pt x="924" y="72"/>
                  </a:lnTo>
                  <a:lnTo>
                    <a:pt x="922" y="57"/>
                  </a:lnTo>
                  <a:lnTo>
                    <a:pt x="919" y="44"/>
                  </a:lnTo>
                  <a:lnTo>
                    <a:pt x="912" y="32"/>
                  </a:lnTo>
                  <a:lnTo>
                    <a:pt x="904" y="22"/>
                  </a:lnTo>
                  <a:lnTo>
                    <a:pt x="892" y="12"/>
                  </a:lnTo>
                  <a:lnTo>
                    <a:pt x="881" y="5"/>
                  </a:lnTo>
                  <a:lnTo>
                    <a:pt x="867" y="2"/>
                  </a:lnTo>
                  <a:lnTo>
                    <a:pt x="85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c9900"/>
            </a:solidFill>
            <a:ln w="1116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63600" y="3760920"/>
              <a:ext cx="59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CDE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871640" y="3144960"/>
              <a:ext cx="333360" cy="485640"/>
              <a:chOff x="1871640" y="3144960"/>
              <a:chExt cx="333360" cy="485640"/>
            </a:xfrm>
          </p:grpSpPr>
          <p:sp>
            <p:nvSpPr>
              <p:cNvPr id="447" name=""/>
              <p:cNvSpPr/>
              <p:nvPr/>
            </p:nvSpPr>
            <p:spPr>
              <a:xfrm>
                <a:off x="1871640" y="35877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9" y="9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9" y="45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5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9" y="7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919160" y="3517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7" y="7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967040" y="34480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6" y="6"/>
                    </a:moveTo>
                    <a:lnTo>
                      <a:pt x="1" y="16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6" y="45"/>
                    </a:lnTo>
                    <a:lnTo>
                      <a:pt x="15" y="51"/>
                    </a:lnTo>
                    <a:lnTo>
                      <a:pt x="26" y="53"/>
                    </a:lnTo>
                    <a:lnTo>
                      <a:pt x="36" y="51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0" y="36"/>
                    </a:lnTo>
                    <a:lnTo>
                      <a:pt x="53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6" y="1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13120" y="337824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7"/>
                    </a:moveTo>
                    <a:lnTo>
                      <a:pt x="3" y="17"/>
                    </a:lnTo>
                    <a:lnTo>
                      <a:pt x="0" y="27"/>
                    </a:lnTo>
                    <a:lnTo>
                      <a:pt x="3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8" y="52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lnTo>
                      <a:pt x="47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62080" y="3306600"/>
                <a:ext cx="41400" cy="432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6"/>
                    </a:move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5"/>
                    </a:ln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109960" y="323676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7" y="7"/>
                    </a:moveTo>
                    <a:lnTo>
                      <a:pt x="2" y="15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0"/>
                    </a:lnTo>
                    <a:lnTo>
                      <a:pt x="27" y="54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5"/>
                    </a:lnTo>
                    <a:lnTo>
                      <a:pt x="45" y="7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41560" y="3144960"/>
                <a:ext cx="163440" cy="187200"/>
              </a:xfrm>
              <a:custGeom>
                <a:avLst/>
                <a:gdLst/>
                <a:ahLst/>
                <a:rect l="l" t="t" r="r" b="b"/>
                <a:pathLst>
                  <a:path w="207" h="237">
                    <a:moveTo>
                      <a:pt x="179" y="237"/>
                    </a:moveTo>
                    <a:lnTo>
                      <a:pt x="207" y="0"/>
                    </a:lnTo>
                    <a:lnTo>
                      <a:pt x="0" y="119"/>
                    </a:lnTo>
                    <a:lnTo>
                      <a:pt x="127" y="121"/>
                    </a:lnTo>
                    <a:lnTo>
                      <a:pt x="179" y="23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1973160" y="4165560"/>
              <a:ext cx="285840" cy="460440"/>
              <a:chOff x="1973160" y="4165560"/>
              <a:chExt cx="285840" cy="460440"/>
            </a:xfrm>
          </p:grpSpPr>
          <p:sp>
            <p:nvSpPr>
              <p:cNvPr id="455" name=""/>
              <p:cNvSpPr/>
              <p:nvPr/>
            </p:nvSpPr>
            <p:spPr>
              <a:xfrm>
                <a:off x="1973160" y="41655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7"/>
                    </a:move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17800" y="42386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062080" y="431172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5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04920" y="43830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8"/>
                    </a:lnTo>
                    <a:lnTo>
                      <a:pt x="37" y="3"/>
                    </a:lnTo>
                    <a:lnTo>
                      <a:pt x="27" y="0"/>
                    </a:lnTo>
                    <a:lnTo>
                      <a:pt x="17" y="3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6"/>
                    </a:lnTo>
                    <a:lnTo>
                      <a:pt x="17" y="51"/>
                    </a:lnTo>
                    <a:lnTo>
                      <a:pt x="27" y="53"/>
                    </a:lnTo>
                    <a:lnTo>
                      <a:pt x="37" y="51"/>
                    </a:lnTo>
                    <a:lnTo>
                      <a:pt x="45" y="46"/>
                    </a:lnTo>
                    <a:lnTo>
                      <a:pt x="52" y="38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149560" y="44560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2" y="17"/>
                    </a:moveTo>
                    <a:lnTo>
                      <a:pt x="47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9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7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98800" y="4435560"/>
                <a:ext cx="160200" cy="190440"/>
              </a:xfrm>
              <a:custGeom>
                <a:avLst/>
                <a:gdLst/>
                <a:ahLst/>
                <a:rect l="l" t="t" r="r" b="b"/>
                <a:pathLst>
                  <a:path w="202" h="239">
                    <a:moveTo>
                      <a:pt x="0" y="111"/>
                    </a:moveTo>
                    <a:lnTo>
                      <a:pt x="202" y="239"/>
                    </a:lnTo>
                    <a:lnTo>
                      <a:pt x="183" y="0"/>
                    </a:lnTo>
                    <a:lnTo>
                      <a:pt x="125" y="11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228760" y="3240000"/>
              <a:ext cx="176400" cy="1355760"/>
              <a:chOff x="2228760" y="3240000"/>
              <a:chExt cx="176400" cy="1355760"/>
            </a:xfrm>
          </p:grpSpPr>
          <p:sp>
            <p:nvSpPr>
              <p:cNvPr id="462" name=""/>
              <p:cNvSpPr/>
              <p:nvPr/>
            </p:nvSpPr>
            <p:spPr>
              <a:xfrm>
                <a:off x="2290680" y="3403440"/>
                <a:ext cx="50760" cy="1025640"/>
              </a:xfrm>
              <a:custGeom>
                <a:avLst/>
                <a:gdLst/>
                <a:ahLst/>
                <a:rect l="l" t="t" r="r" b="b"/>
                <a:pathLst>
                  <a:path w="63" h="1292">
                    <a:moveTo>
                      <a:pt x="0" y="1292"/>
                    </a:moveTo>
                    <a:lnTo>
                      <a:pt x="53" y="129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228760" y="4425840"/>
                <a:ext cx="168480" cy="169920"/>
              </a:xfrm>
              <a:custGeom>
                <a:avLst/>
                <a:gdLst/>
                <a:ahLst/>
                <a:rect l="l" t="t" r="r" b="b"/>
                <a:pathLst>
                  <a:path w="214" h="215">
                    <a:moveTo>
                      <a:pt x="0" y="0"/>
                    </a:moveTo>
                    <a:lnTo>
                      <a:pt x="105" y="215"/>
                    </a:lnTo>
                    <a:lnTo>
                      <a:pt x="2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35240" y="32400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213" h="213">
                    <a:moveTo>
                      <a:pt x="213" y="213"/>
                    </a:moveTo>
                    <a:lnTo>
                      <a:pt x="110" y="0"/>
                    </a:lnTo>
                    <a:lnTo>
                      <a:pt x="0" y="211"/>
                    </a:lnTo>
                    <a:lnTo>
                      <a:pt x="213" y="21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293840" y="2259000"/>
              <a:ext cx="1592280" cy="331920"/>
            </a:xfrm>
            <a:prstGeom prst="rect">
              <a:avLst/>
            </a:prstGeom>
            <a:solidFill>
              <a:srgbClr val="66ff66"/>
            </a:solidFill>
            <a:ln w="79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36760" y="2308320"/>
              <a:ext cx="143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292929"/>
                  </a:solidFill>
                  <a:latin typeface="Times New Roman"/>
                </a:rPr>
                <a:t>GENERAC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00320" y="4673520"/>
              <a:ext cx="415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33520" y="4721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72840" y="484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79840" y="372600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82080" y="3772080"/>
              <a:ext cx="37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500" spc="-1" strike="noStrike">
                  <a:solidFill>
                    <a:srgbClr val="cc9900"/>
                  </a:solidFill>
                  <a:latin typeface="Times New Roman"/>
                </a:rPr>
                <a:t>Cm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1973160" y="3794040"/>
              <a:ext cx="550800" cy="168480"/>
              <a:chOff x="1973160" y="3794040"/>
              <a:chExt cx="550800" cy="168480"/>
            </a:xfrm>
          </p:grpSpPr>
          <p:sp>
            <p:nvSpPr>
              <p:cNvPr id="473" name=""/>
              <p:cNvSpPr/>
              <p:nvPr/>
            </p:nvSpPr>
            <p:spPr>
              <a:xfrm>
                <a:off x="1973160" y="3855960"/>
                <a:ext cx="436680" cy="44640"/>
              </a:xfrm>
              <a:custGeom>
                <a:avLst/>
                <a:gdLst/>
                <a:ahLst/>
                <a:rect l="l" t="t" r="r" b="b"/>
                <a:pathLst>
                  <a:path w="549" h="56">
                    <a:moveTo>
                      <a:pt x="0" y="3"/>
                    </a:moveTo>
                    <a:lnTo>
                      <a:pt x="0" y="56"/>
                    </a:lnTo>
                    <a:lnTo>
                      <a:pt x="549" y="53"/>
                    </a:lnTo>
                    <a:lnTo>
                      <a:pt x="54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52600" y="3794040"/>
                <a:ext cx="171360" cy="168480"/>
              </a:xfrm>
              <a:custGeom>
                <a:avLst/>
                <a:gdLst/>
                <a:ahLst/>
                <a:rect l="l" t="t" r="r" b="b"/>
                <a:pathLst>
                  <a:path w="215" h="214">
                    <a:moveTo>
                      <a:pt x="2" y="214"/>
                    </a:moveTo>
                    <a:lnTo>
                      <a:pt x="215" y="104"/>
                    </a:lnTo>
                    <a:lnTo>
                      <a:pt x="0" y="0"/>
                    </a:lnTo>
                    <a:lnTo>
                      <a:pt x="68" y="107"/>
                    </a:lnTo>
                    <a:lnTo>
                      <a:pt x="2" y="21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070000" y="4610160"/>
              <a:ext cx="698760" cy="49356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16240" y="5130720"/>
              <a:ext cx="41040" cy="1461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73240" y="2695680"/>
              <a:ext cx="696960" cy="49356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08240" y="2746440"/>
              <a:ext cx="39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41440" y="27939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84000" y="291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35080" y="3649680"/>
              <a:ext cx="735120" cy="457200"/>
            </a:xfrm>
            <a:custGeom>
              <a:avLst/>
              <a:gdLst/>
              <a:ahLst/>
              <a:rect l="l" t="t" r="r" b="b"/>
              <a:pathLst>
                <a:path w="924" h="578">
                  <a:moveTo>
                    <a:pt x="71" y="0"/>
                  </a:moveTo>
                  <a:lnTo>
                    <a:pt x="56" y="2"/>
                  </a:lnTo>
                  <a:lnTo>
                    <a:pt x="43" y="5"/>
                  </a:lnTo>
                  <a:lnTo>
                    <a:pt x="31" y="12"/>
                  </a:lnTo>
                  <a:lnTo>
                    <a:pt x="21" y="22"/>
                  </a:lnTo>
                  <a:lnTo>
                    <a:pt x="11" y="32"/>
                  </a:lnTo>
                  <a:lnTo>
                    <a:pt x="5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06"/>
                  </a:lnTo>
                  <a:lnTo>
                    <a:pt x="1" y="521"/>
                  </a:lnTo>
                  <a:lnTo>
                    <a:pt x="5" y="534"/>
                  </a:lnTo>
                  <a:lnTo>
                    <a:pt x="11" y="546"/>
                  </a:lnTo>
                  <a:lnTo>
                    <a:pt x="21" y="558"/>
                  </a:lnTo>
                  <a:lnTo>
                    <a:pt x="31" y="566"/>
                  </a:lnTo>
                  <a:lnTo>
                    <a:pt x="43" y="573"/>
                  </a:lnTo>
                  <a:lnTo>
                    <a:pt x="56" y="576"/>
                  </a:lnTo>
                  <a:lnTo>
                    <a:pt x="71" y="578"/>
                  </a:lnTo>
                  <a:lnTo>
                    <a:pt x="852" y="578"/>
                  </a:lnTo>
                  <a:lnTo>
                    <a:pt x="867" y="576"/>
                  </a:lnTo>
                  <a:lnTo>
                    <a:pt x="881" y="573"/>
                  </a:lnTo>
                  <a:lnTo>
                    <a:pt x="892" y="566"/>
                  </a:lnTo>
                  <a:lnTo>
                    <a:pt x="904" y="558"/>
                  </a:lnTo>
                  <a:lnTo>
                    <a:pt x="912" y="546"/>
                  </a:lnTo>
                  <a:lnTo>
                    <a:pt x="919" y="534"/>
                  </a:lnTo>
                  <a:lnTo>
                    <a:pt x="922" y="521"/>
                  </a:lnTo>
                  <a:lnTo>
                    <a:pt x="924" y="506"/>
                  </a:lnTo>
                  <a:lnTo>
                    <a:pt x="924" y="72"/>
                  </a:lnTo>
                  <a:lnTo>
                    <a:pt x="922" y="57"/>
                  </a:lnTo>
                  <a:lnTo>
                    <a:pt x="919" y="44"/>
                  </a:lnTo>
                  <a:lnTo>
                    <a:pt x="912" y="32"/>
                  </a:lnTo>
                  <a:lnTo>
                    <a:pt x="904" y="22"/>
                  </a:lnTo>
                  <a:lnTo>
                    <a:pt x="892" y="12"/>
                  </a:lnTo>
                  <a:lnTo>
                    <a:pt x="881" y="5"/>
                  </a:lnTo>
                  <a:lnTo>
                    <a:pt x="867" y="2"/>
                  </a:lnTo>
                  <a:lnTo>
                    <a:pt x="85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c9900"/>
            </a:solidFill>
            <a:ln w="1116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99160" y="3760920"/>
              <a:ext cx="616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cc3300"/>
                  </a:solidFill>
                  <a:latin typeface="Times New Roman"/>
                </a:rPr>
                <a:t>CDE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871640" y="3144960"/>
              <a:ext cx="333360" cy="485640"/>
              <a:chOff x="1871640" y="3144960"/>
              <a:chExt cx="333360" cy="485640"/>
            </a:xfrm>
          </p:grpSpPr>
          <p:sp>
            <p:nvSpPr>
              <p:cNvPr id="484" name=""/>
              <p:cNvSpPr/>
              <p:nvPr/>
            </p:nvSpPr>
            <p:spPr>
              <a:xfrm>
                <a:off x="1871640" y="35877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9" y="9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9" y="45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5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9" y="7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19160" y="3517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7" y="7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67040" y="34480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6" y="6"/>
                    </a:moveTo>
                    <a:lnTo>
                      <a:pt x="1" y="16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6" y="45"/>
                    </a:lnTo>
                    <a:lnTo>
                      <a:pt x="15" y="51"/>
                    </a:lnTo>
                    <a:lnTo>
                      <a:pt x="26" y="53"/>
                    </a:lnTo>
                    <a:lnTo>
                      <a:pt x="36" y="51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0" y="36"/>
                    </a:lnTo>
                    <a:lnTo>
                      <a:pt x="53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6" y="1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013120" y="337824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7"/>
                    </a:moveTo>
                    <a:lnTo>
                      <a:pt x="3" y="17"/>
                    </a:lnTo>
                    <a:lnTo>
                      <a:pt x="0" y="27"/>
                    </a:lnTo>
                    <a:lnTo>
                      <a:pt x="3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8" y="52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lnTo>
                      <a:pt x="47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062080" y="3306600"/>
                <a:ext cx="41400" cy="432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6"/>
                    </a:move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5"/>
                    </a:ln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109960" y="323676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7" y="7"/>
                    </a:moveTo>
                    <a:lnTo>
                      <a:pt x="2" y="15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0"/>
                    </a:lnTo>
                    <a:lnTo>
                      <a:pt x="27" y="54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5"/>
                    </a:lnTo>
                    <a:lnTo>
                      <a:pt x="45" y="7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041560" y="3144960"/>
                <a:ext cx="163440" cy="187200"/>
              </a:xfrm>
              <a:custGeom>
                <a:avLst/>
                <a:gdLst/>
                <a:ahLst/>
                <a:rect l="l" t="t" r="r" b="b"/>
                <a:pathLst>
                  <a:path w="207" h="237">
                    <a:moveTo>
                      <a:pt x="179" y="237"/>
                    </a:moveTo>
                    <a:lnTo>
                      <a:pt x="207" y="0"/>
                    </a:lnTo>
                    <a:lnTo>
                      <a:pt x="0" y="119"/>
                    </a:lnTo>
                    <a:lnTo>
                      <a:pt x="127" y="121"/>
                    </a:lnTo>
                    <a:lnTo>
                      <a:pt x="179" y="23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973160" y="4165560"/>
              <a:ext cx="285840" cy="460440"/>
              <a:chOff x="1973160" y="4165560"/>
              <a:chExt cx="285840" cy="460440"/>
            </a:xfrm>
          </p:grpSpPr>
          <p:sp>
            <p:nvSpPr>
              <p:cNvPr id="492" name=""/>
              <p:cNvSpPr/>
              <p:nvPr/>
            </p:nvSpPr>
            <p:spPr>
              <a:xfrm>
                <a:off x="1973160" y="41655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7"/>
                    </a:move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17800" y="42386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62080" y="431172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5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104920" y="43830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8"/>
                    </a:lnTo>
                    <a:lnTo>
                      <a:pt x="37" y="3"/>
                    </a:lnTo>
                    <a:lnTo>
                      <a:pt x="27" y="0"/>
                    </a:lnTo>
                    <a:lnTo>
                      <a:pt x="17" y="3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6"/>
                    </a:lnTo>
                    <a:lnTo>
                      <a:pt x="17" y="51"/>
                    </a:lnTo>
                    <a:lnTo>
                      <a:pt x="27" y="53"/>
                    </a:lnTo>
                    <a:lnTo>
                      <a:pt x="37" y="51"/>
                    </a:lnTo>
                    <a:lnTo>
                      <a:pt x="45" y="46"/>
                    </a:lnTo>
                    <a:lnTo>
                      <a:pt x="52" y="38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49560" y="44560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2" y="17"/>
                    </a:moveTo>
                    <a:lnTo>
                      <a:pt x="47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9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7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98800" y="4435560"/>
                <a:ext cx="160200" cy="190440"/>
              </a:xfrm>
              <a:custGeom>
                <a:avLst/>
                <a:gdLst/>
                <a:ahLst/>
                <a:rect l="l" t="t" r="r" b="b"/>
                <a:pathLst>
                  <a:path w="202" h="239">
                    <a:moveTo>
                      <a:pt x="0" y="111"/>
                    </a:moveTo>
                    <a:lnTo>
                      <a:pt x="202" y="239"/>
                    </a:lnTo>
                    <a:lnTo>
                      <a:pt x="183" y="0"/>
                    </a:lnTo>
                    <a:lnTo>
                      <a:pt x="125" y="11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228760" y="3240000"/>
              <a:ext cx="176400" cy="1355760"/>
              <a:chOff x="2228760" y="3240000"/>
              <a:chExt cx="176400" cy="1355760"/>
            </a:xfrm>
          </p:grpSpPr>
          <p:sp>
            <p:nvSpPr>
              <p:cNvPr id="499" name=""/>
              <p:cNvSpPr/>
              <p:nvPr/>
            </p:nvSpPr>
            <p:spPr>
              <a:xfrm>
                <a:off x="2290680" y="3403440"/>
                <a:ext cx="50760" cy="1025640"/>
              </a:xfrm>
              <a:custGeom>
                <a:avLst/>
                <a:gdLst/>
                <a:ahLst/>
                <a:rect l="l" t="t" r="r" b="b"/>
                <a:pathLst>
                  <a:path w="63" h="1292">
                    <a:moveTo>
                      <a:pt x="0" y="1292"/>
                    </a:moveTo>
                    <a:lnTo>
                      <a:pt x="53" y="129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228760" y="4425840"/>
                <a:ext cx="168480" cy="169920"/>
              </a:xfrm>
              <a:custGeom>
                <a:avLst/>
                <a:gdLst/>
                <a:ahLst/>
                <a:rect l="l" t="t" r="r" b="b"/>
                <a:pathLst>
                  <a:path w="214" h="215">
                    <a:moveTo>
                      <a:pt x="0" y="0"/>
                    </a:moveTo>
                    <a:lnTo>
                      <a:pt x="105" y="215"/>
                    </a:lnTo>
                    <a:lnTo>
                      <a:pt x="2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235240" y="32400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213" h="213">
                    <a:moveTo>
                      <a:pt x="213" y="213"/>
                    </a:moveTo>
                    <a:lnTo>
                      <a:pt x="110" y="0"/>
                    </a:lnTo>
                    <a:lnTo>
                      <a:pt x="0" y="211"/>
                    </a:lnTo>
                    <a:lnTo>
                      <a:pt x="213" y="21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1293840" y="2259000"/>
              <a:ext cx="1592280" cy="331920"/>
            </a:xfrm>
            <a:prstGeom prst="rect">
              <a:avLst/>
            </a:prstGeom>
            <a:solidFill>
              <a:srgbClr val="66ff66"/>
            </a:solidFill>
            <a:ln w="79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68000" y="230832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292929"/>
                  </a:solidFill>
                  <a:latin typeface="Times New Roman"/>
                </a:rPr>
                <a:t>Gene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0320" y="4673520"/>
              <a:ext cx="415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33520" y="4721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72840" y="484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679840" y="372600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82080" y="3772080"/>
              <a:ext cx="37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500" spc="-1" strike="noStrike">
                  <a:solidFill>
                    <a:srgbClr val="cc9900"/>
                  </a:solidFill>
                  <a:latin typeface="Times New Roman"/>
                </a:rPr>
                <a:t>Cm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1973160" y="3794040"/>
              <a:ext cx="550800" cy="168480"/>
              <a:chOff x="1973160" y="3794040"/>
              <a:chExt cx="550800" cy="168480"/>
            </a:xfrm>
          </p:grpSpPr>
          <p:sp>
            <p:nvSpPr>
              <p:cNvPr id="510" name=""/>
              <p:cNvSpPr/>
              <p:nvPr/>
            </p:nvSpPr>
            <p:spPr>
              <a:xfrm>
                <a:off x="1973160" y="3855960"/>
                <a:ext cx="436680" cy="44640"/>
              </a:xfrm>
              <a:custGeom>
                <a:avLst/>
                <a:gdLst/>
                <a:ahLst/>
                <a:rect l="l" t="t" r="r" b="b"/>
                <a:pathLst>
                  <a:path w="549" h="56">
                    <a:moveTo>
                      <a:pt x="0" y="3"/>
                    </a:moveTo>
                    <a:lnTo>
                      <a:pt x="0" y="56"/>
                    </a:lnTo>
                    <a:lnTo>
                      <a:pt x="549" y="53"/>
                    </a:lnTo>
                    <a:lnTo>
                      <a:pt x="54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352600" y="3794040"/>
                <a:ext cx="171360" cy="168480"/>
              </a:xfrm>
              <a:custGeom>
                <a:avLst/>
                <a:gdLst/>
                <a:ahLst/>
                <a:rect l="l" t="t" r="r" b="b"/>
                <a:pathLst>
                  <a:path w="215" h="214">
                    <a:moveTo>
                      <a:pt x="2" y="214"/>
                    </a:moveTo>
                    <a:lnTo>
                      <a:pt x="215" y="104"/>
                    </a:lnTo>
                    <a:lnTo>
                      <a:pt x="0" y="0"/>
                    </a:lnTo>
                    <a:lnTo>
                      <a:pt x="68" y="107"/>
                    </a:lnTo>
                    <a:lnTo>
                      <a:pt x="2" y="21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1078200" y="5410080"/>
              <a:ext cx="1253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Times New Roman"/>
                </a:rPr>
                <a:t>Mercado sp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54080" y="1676520"/>
              <a:ext cx="2222640" cy="434340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691000" y="1714680"/>
            <a:ext cx="6224400" cy="4006800"/>
            <a:chOff x="2691000" y="1714680"/>
            <a:chExt cx="6224400" cy="4006800"/>
          </a:xfrm>
        </p:grpSpPr>
        <p:grpSp>
          <p:nvGrpSpPr>
            <p:cNvPr id="515" name=""/>
            <p:cNvGrpSpPr/>
            <p:nvPr/>
          </p:nvGrpSpPr>
          <p:grpSpPr>
            <a:xfrm>
              <a:off x="2797200" y="4707000"/>
              <a:ext cx="2391840" cy="168120"/>
              <a:chOff x="2797200" y="4707000"/>
              <a:chExt cx="2391840" cy="168120"/>
            </a:xfrm>
          </p:grpSpPr>
          <p:sp>
            <p:nvSpPr>
              <p:cNvPr id="516" name=""/>
              <p:cNvSpPr/>
              <p:nvPr/>
            </p:nvSpPr>
            <p:spPr>
              <a:xfrm>
                <a:off x="2797200" y="4765680"/>
                <a:ext cx="2277720" cy="46080"/>
              </a:xfrm>
              <a:custGeom>
                <a:avLst/>
                <a:gdLst/>
                <a:ahLst/>
                <a:rect l="l" t="t" r="r" b="b"/>
                <a:pathLst>
                  <a:path w="2872" h="58">
                    <a:moveTo>
                      <a:pt x="0" y="0"/>
                    </a:moveTo>
                    <a:lnTo>
                      <a:pt x="0" y="53"/>
                    </a:lnTo>
                    <a:lnTo>
                      <a:pt x="2872" y="58"/>
                    </a:lnTo>
                    <a:lnTo>
                      <a:pt x="287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19480" y="4707000"/>
                <a:ext cx="169560" cy="168120"/>
              </a:xfrm>
              <a:custGeom>
                <a:avLst/>
                <a:gdLst/>
                <a:ahLst/>
                <a:rect l="l" t="t" r="r" b="b"/>
                <a:pathLst>
                  <a:path w="213" h="211">
                    <a:moveTo>
                      <a:pt x="0" y="211"/>
                    </a:moveTo>
                    <a:lnTo>
                      <a:pt x="213" y="106"/>
                    </a:lnTo>
                    <a:lnTo>
                      <a:pt x="0" y="0"/>
                    </a:lnTo>
                    <a:lnTo>
                      <a:pt x="67" y="10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321680" y="4871880"/>
              <a:ext cx="1042920" cy="719280"/>
              <a:chOff x="7321680" y="4871880"/>
              <a:chExt cx="1042920" cy="71928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7745400" y="5178600"/>
                <a:ext cx="619200" cy="385560"/>
                <a:chOff x="7745400" y="5178600"/>
                <a:chExt cx="619200" cy="385560"/>
              </a:xfrm>
            </p:grpSpPr>
            <p:grpSp>
              <p:nvGrpSpPr>
                <p:cNvPr id="520" name=""/>
                <p:cNvGrpSpPr/>
                <p:nvPr/>
              </p:nvGrpSpPr>
              <p:grpSpPr>
                <a:xfrm>
                  <a:off x="8163000" y="5273640"/>
                  <a:ext cx="201600" cy="263520"/>
                  <a:chOff x="8163000" y="5273640"/>
                  <a:chExt cx="201600" cy="2635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8163000" y="5273640"/>
                    <a:ext cx="2016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63" h="827">
                        <a:moveTo>
                          <a:pt x="229" y="36"/>
                        </a:moveTo>
                        <a:lnTo>
                          <a:pt x="257" y="23"/>
                        </a:lnTo>
                        <a:lnTo>
                          <a:pt x="293" y="12"/>
                        </a:lnTo>
                        <a:lnTo>
                          <a:pt x="335" y="2"/>
                        </a:lnTo>
                        <a:lnTo>
                          <a:pt x="377" y="0"/>
                        </a:lnTo>
                        <a:lnTo>
                          <a:pt x="420" y="0"/>
                        </a:lnTo>
                        <a:lnTo>
                          <a:pt x="456" y="2"/>
                        </a:lnTo>
                        <a:lnTo>
                          <a:pt x="484" y="7"/>
                        </a:lnTo>
                        <a:lnTo>
                          <a:pt x="517" y="17"/>
                        </a:lnTo>
                        <a:lnTo>
                          <a:pt x="548" y="29"/>
                        </a:lnTo>
                        <a:lnTo>
                          <a:pt x="562" y="39"/>
                        </a:lnTo>
                        <a:lnTo>
                          <a:pt x="555" y="86"/>
                        </a:lnTo>
                        <a:lnTo>
                          <a:pt x="551" y="133"/>
                        </a:lnTo>
                        <a:lnTo>
                          <a:pt x="551" y="178"/>
                        </a:lnTo>
                        <a:lnTo>
                          <a:pt x="551" y="214"/>
                        </a:lnTo>
                        <a:lnTo>
                          <a:pt x="554" y="249"/>
                        </a:lnTo>
                        <a:lnTo>
                          <a:pt x="559" y="275"/>
                        </a:lnTo>
                        <a:lnTo>
                          <a:pt x="564" y="300"/>
                        </a:lnTo>
                        <a:lnTo>
                          <a:pt x="569" y="320"/>
                        </a:lnTo>
                        <a:lnTo>
                          <a:pt x="577" y="345"/>
                        </a:lnTo>
                        <a:lnTo>
                          <a:pt x="585" y="366"/>
                        </a:lnTo>
                        <a:lnTo>
                          <a:pt x="593" y="384"/>
                        </a:lnTo>
                        <a:lnTo>
                          <a:pt x="609" y="421"/>
                        </a:lnTo>
                        <a:lnTo>
                          <a:pt x="627" y="461"/>
                        </a:lnTo>
                        <a:lnTo>
                          <a:pt x="654" y="515"/>
                        </a:lnTo>
                        <a:lnTo>
                          <a:pt x="682" y="568"/>
                        </a:lnTo>
                        <a:lnTo>
                          <a:pt x="714" y="620"/>
                        </a:lnTo>
                        <a:lnTo>
                          <a:pt x="732" y="651"/>
                        </a:lnTo>
                        <a:lnTo>
                          <a:pt x="763" y="685"/>
                        </a:lnTo>
                        <a:lnTo>
                          <a:pt x="763" y="787"/>
                        </a:lnTo>
                        <a:lnTo>
                          <a:pt x="717" y="801"/>
                        </a:lnTo>
                        <a:lnTo>
                          <a:pt x="668" y="808"/>
                        </a:lnTo>
                        <a:lnTo>
                          <a:pt x="598" y="818"/>
                        </a:lnTo>
                        <a:lnTo>
                          <a:pt x="516" y="825"/>
                        </a:lnTo>
                        <a:lnTo>
                          <a:pt x="427" y="827"/>
                        </a:lnTo>
                        <a:lnTo>
                          <a:pt x="321" y="827"/>
                        </a:lnTo>
                        <a:lnTo>
                          <a:pt x="233" y="821"/>
                        </a:lnTo>
                        <a:lnTo>
                          <a:pt x="144" y="815"/>
                        </a:lnTo>
                        <a:lnTo>
                          <a:pt x="83" y="805"/>
                        </a:lnTo>
                        <a:lnTo>
                          <a:pt x="45" y="800"/>
                        </a:lnTo>
                        <a:lnTo>
                          <a:pt x="0" y="784"/>
                        </a:lnTo>
                        <a:lnTo>
                          <a:pt x="0" y="685"/>
                        </a:lnTo>
                        <a:lnTo>
                          <a:pt x="20" y="665"/>
                        </a:lnTo>
                        <a:lnTo>
                          <a:pt x="41" y="634"/>
                        </a:lnTo>
                        <a:lnTo>
                          <a:pt x="62" y="608"/>
                        </a:lnTo>
                        <a:lnTo>
                          <a:pt x="98" y="558"/>
                        </a:lnTo>
                        <a:lnTo>
                          <a:pt x="122" y="517"/>
                        </a:lnTo>
                        <a:lnTo>
                          <a:pt x="144" y="478"/>
                        </a:lnTo>
                        <a:lnTo>
                          <a:pt x="168" y="435"/>
                        </a:lnTo>
                        <a:lnTo>
                          <a:pt x="186" y="391"/>
                        </a:lnTo>
                        <a:lnTo>
                          <a:pt x="208" y="334"/>
                        </a:lnTo>
                        <a:lnTo>
                          <a:pt x="222" y="288"/>
                        </a:lnTo>
                        <a:lnTo>
                          <a:pt x="232" y="244"/>
                        </a:lnTo>
                        <a:lnTo>
                          <a:pt x="239" y="202"/>
                        </a:lnTo>
                        <a:lnTo>
                          <a:pt x="243" y="156"/>
                        </a:lnTo>
                        <a:lnTo>
                          <a:pt x="243" y="113"/>
                        </a:lnTo>
                        <a:lnTo>
                          <a:pt x="239" y="76"/>
                        </a:lnTo>
                        <a:lnTo>
                          <a:pt x="229" y="36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163000" y="5273640"/>
                    <a:ext cx="15876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8" h="827">
                        <a:moveTo>
                          <a:pt x="229" y="36"/>
                        </a:moveTo>
                        <a:lnTo>
                          <a:pt x="257" y="23"/>
                        </a:lnTo>
                        <a:lnTo>
                          <a:pt x="293" y="12"/>
                        </a:lnTo>
                        <a:lnTo>
                          <a:pt x="335" y="2"/>
                        </a:lnTo>
                        <a:lnTo>
                          <a:pt x="377" y="0"/>
                        </a:lnTo>
                        <a:lnTo>
                          <a:pt x="420" y="0"/>
                        </a:lnTo>
                        <a:lnTo>
                          <a:pt x="456" y="2"/>
                        </a:lnTo>
                        <a:lnTo>
                          <a:pt x="484" y="7"/>
                        </a:lnTo>
                        <a:lnTo>
                          <a:pt x="481" y="46"/>
                        </a:lnTo>
                        <a:lnTo>
                          <a:pt x="479" y="84"/>
                        </a:lnTo>
                        <a:lnTo>
                          <a:pt x="477" y="129"/>
                        </a:lnTo>
                        <a:lnTo>
                          <a:pt x="476" y="175"/>
                        </a:lnTo>
                        <a:lnTo>
                          <a:pt x="476" y="216"/>
                        </a:lnTo>
                        <a:lnTo>
                          <a:pt x="474" y="260"/>
                        </a:lnTo>
                        <a:lnTo>
                          <a:pt x="476" y="303"/>
                        </a:lnTo>
                        <a:lnTo>
                          <a:pt x="478" y="336"/>
                        </a:lnTo>
                        <a:lnTo>
                          <a:pt x="481" y="373"/>
                        </a:lnTo>
                        <a:lnTo>
                          <a:pt x="485" y="407"/>
                        </a:lnTo>
                        <a:lnTo>
                          <a:pt x="488" y="437"/>
                        </a:lnTo>
                        <a:lnTo>
                          <a:pt x="494" y="469"/>
                        </a:lnTo>
                        <a:lnTo>
                          <a:pt x="498" y="498"/>
                        </a:lnTo>
                        <a:lnTo>
                          <a:pt x="504" y="528"/>
                        </a:lnTo>
                        <a:lnTo>
                          <a:pt x="513" y="559"/>
                        </a:lnTo>
                        <a:lnTo>
                          <a:pt x="526" y="587"/>
                        </a:lnTo>
                        <a:lnTo>
                          <a:pt x="547" y="631"/>
                        </a:lnTo>
                        <a:lnTo>
                          <a:pt x="572" y="687"/>
                        </a:lnTo>
                        <a:lnTo>
                          <a:pt x="590" y="716"/>
                        </a:lnTo>
                        <a:lnTo>
                          <a:pt x="598" y="741"/>
                        </a:lnTo>
                        <a:lnTo>
                          <a:pt x="598" y="818"/>
                        </a:lnTo>
                        <a:lnTo>
                          <a:pt x="516" y="825"/>
                        </a:lnTo>
                        <a:lnTo>
                          <a:pt x="427" y="827"/>
                        </a:lnTo>
                        <a:lnTo>
                          <a:pt x="321" y="827"/>
                        </a:lnTo>
                        <a:lnTo>
                          <a:pt x="233" y="821"/>
                        </a:lnTo>
                        <a:lnTo>
                          <a:pt x="144" y="815"/>
                        </a:lnTo>
                        <a:lnTo>
                          <a:pt x="83" y="805"/>
                        </a:lnTo>
                        <a:lnTo>
                          <a:pt x="45" y="800"/>
                        </a:lnTo>
                        <a:lnTo>
                          <a:pt x="0" y="784"/>
                        </a:lnTo>
                        <a:lnTo>
                          <a:pt x="0" y="685"/>
                        </a:lnTo>
                        <a:lnTo>
                          <a:pt x="20" y="665"/>
                        </a:lnTo>
                        <a:lnTo>
                          <a:pt x="41" y="634"/>
                        </a:lnTo>
                        <a:lnTo>
                          <a:pt x="62" y="608"/>
                        </a:lnTo>
                        <a:lnTo>
                          <a:pt x="98" y="558"/>
                        </a:lnTo>
                        <a:lnTo>
                          <a:pt x="122" y="517"/>
                        </a:lnTo>
                        <a:lnTo>
                          <a:pt x="144" y="478"/>
                        </a:lnTo>
                        <a:lnTo>
                          <a:pt x="168" y="435"/>
                        </a:lnTo>
                        <a:lnTo>
                          <a:pt x="186" y="391"/>
                        </a:lnTo>
                        <a:lnTo>
                          <a:pt x="208" y="334"/>
                        </a:lnTo>
                        <a:lnTo>
                          <a:pt x="222" y="288"/>
                        </a:lnTo>
                        <a:lnTo>
                          <a:pt x="232" y="244"/>
                        </a:lnTo>
                        <a:lnTo>
                          <a:pt x="239" y="202"/>
                        </a:lnTo>
                        <a:lnTo>
                          <a:pt x="243" y="156"/>
                        </a:lnTo>
                        <a:lnTo>
                          <a:pt x="243" y="113"/>
                        </a:lnTo>
                        <a:lnTo>
                          <a:pt x="239" y="76"/>
                        </a:lnTo>
                        <a:lnTo>
                          <a:pt x="229" y="36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7978680" y="5222880"/>
                  <a:ext cx="252360" cy="328680"/>
                  <a:chOff x="7978680" y="5222880"/>
                  <a:chExt cx="252360" cy="32868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7978680" y="5222880"/>
                    <a:ext cx="25236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1032">
                        <a:moveTo>
                          <a:pt x="286" y="46"/>
                        </a:moveTo>
                        <a:lnTo>
                          <a:pt x="322" y="30"/>
                        </a:lnTo>
                        <a:lnTo>
                          <a:pt x="366" y="17"/>
                        </a:lnTo>
                        <a:lnTo>
                          <a:pt x="418" y="5"/>
                        </a:lnTo>
                        <a:lnTo>
                          <a:pt x="471" y="0"/>
                        </a:lnTo>
                        <a:lnTo>
                          <a:pt x="524" y="0"/>
                        </a:lnTo>
                        <a:lnTo>
                          <a:pt x="569" y="4"/>
                        </a:lnTo>
                        <a:lnTo>
                          <a:pt x="603" y="10"/>
                        </a:lnTo>
                        <a:lnTo>
                          <a:pt x="646" y="23"/>
                        </a:lnTo>
                        <a:lnTo>
                          <a:pt x="684" y="37"/>
                        </a:lnTo>
                        <a:lnTo>
                          <a:pt x="702" y="50"/>
                        </a:lnTo>
                        <a:lnTo>
                          <a:pt x="693" y="108"/>
                        </a:lnTo>
                        <a:lnTo>
                          <a:pt x="688" y="166"/>
                        </a:lnTo>
                        <a:lnTo>
                          <a:pt x="688" y="223"/>
                        </a:lnTo>
                        <a:lnTo>
                          <a:pt x="688" y="268"/>
                        </a:lnTo>
                        <a:lnTo>
                          <a:pt x="691" y="311"/>
                        </a:lnTo>
                        <a:lnTo>
                          <a:pt x="697" y="344"/>
                        </a:lnTo>
                        <a:lnTo>
                          <a:pt x="703" y="374"/>
                        </a:lnTo>
                        <a:lnTo>
                          <a:pt x="711" y="399"/>
                        </a:lnTo>
                        <a:lnTo>
                          <a:pt x="721" y="430"/>
                        </a:lnTo>
                        <a:lnTo>
                          <a:pt x="730" y="456"/>
                        </a:lnTo>
                        <a:lnTo>
                          <a:pt x="740" y="480"/>
                        </a:lnTo>
                        <a:lnTo>
                          <a:pt x="759" y="526"/>
                        </a:lnTo>
                        <a:lnTo>
                          <a:pt x="782" y="576"/>
                        </a:lnTo>
                        <a:lnTo>
                          <a:pt x="816" y="641"/>
                        </a:lnTo>
                        <a:lnTo>
                          <a:pt x="852" y="708"/>
                        </a:lnTo>
                        <a:lnTo>
                          <a:pt x="890" y="774"/>
                        </a:lnTo>
                        <a:lnTo>
                          <a:pt x="913" y="811"/>
                        </a:lnTo>
                        <a:lnTo>
                          <a:pt x="952" y="853"/>
                        </a:lnTo>
                        <a:lnTo>
                          <a:pt x="952" y="981"/>
                        </a:lnTo>
                        <a:lnTo>
                          <a:pt x="895" y="999"/>
                        </a:lnTo>
                        <a:lnTo>
                          <a:pt x="834" y="1007"/>
                        </a:lnTo>
                        <a:lnTo>
                          <a:pt x="745" y="1019"/>
                        </a:lnTo>
                        <a:lnTo>
                          <a:pt x="644" y="1027"/>
                        </a:lnTo>
                        <a:lnTo>
                          <a:pt x="533" y="1032"/>
                        </a:lnTo>
                        <a:lnTo>
                          <a:pt x="401" y="1032"/>
                        </a:lnTo>
                        <a:lnTo>
                          <a:pt x="290" y="1023"/>
                        </a:lnTo>
                        <a:lnTo>
                          <a:pt x="181" y="1015"/>
                        </a:lnTo>
                        <a:lnTo>
                          <a:pt x="105" y="1003"/>
                        </a:lnTo>
                        <a:lnTo>
                          <a:pt x="56" y="998"/>
                        </a:lnTo>
                        <a:lnTo>
                          <a:pt x="0" y="977"/>
                        </a:lnTo>
                        <a:lnTo>
                          <a:pt x="0" y="853"/>
                        </a:lnTo>
                        <a:lnTo>
                          <a:pt x="26" y="828"/>
                        </a:lnTo>
                        <a:lnTo>
                          <a:pt x="52" y="790"/>
                        </a:lnTo>
                        <a:lnTo>
                          <a:pt x="79" y="757"/>
                        </a:lnTo>
                        <a:lnTo>
                          <a:pt x="123" y="696"/>
                        </a:lnTo>
                        <a:lnTo>
                          <a:pt x="153" y="645"/>
                        </a:lnTo>
                        <a:lnTo>
                          <a:pt x="181" y="596"/>
                        </a:lnTo>
                        <a:lnTo>
                          <a:pt x="210" y="543"/>
                        </a:lnTo>
                        <a:lnTo>
                          <a:pt x="233" y="489"/>
                        </a:lnTo>
                        <a:lnTo>
                          <a:pt x="260" y="418"/>
                        </a:lnTo>
                        <a:lnTo>
                          <a:pt x="279" y="359"/>
                        </a:lnTo>
                        <a:lnTo>
                          <a:pt x="289" y="305"/>
                        </a:lnTo>
                        <a:lnTo>
                          <a:pt x="298" y="254"/>
                        </a:lnTo>
                        <a:lnTo>
                          <a:pt x="304" y="196"/>
                        </a:lnTo>
                        <a:lnTo>
                          <a:pt x="304" y="141"/>
                        </a:lnTo>
                        <a:lnTo>
                          <a:pt x="299" y="95"/>
                        </a:lnTo>
                        <a:lnTo>
                          <a:pt x="286" y="46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7978680" y="5222880"/>
                    <a:ext cx="1969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1032">
                        <a:moveTo>
                          <a:pt x="286" y="46"/>
                        </a:moveTo>
                        <a:lnTo>
                          <a:pt x="322" y="30"/>
                        </a:lnTo>
                        <a:lnTo>
                          <a:pt x="366" y="17"/>
                        </a:lnTo>
                        <a:lnTo>
                          <a:pt x="418" y="5"/>
                        </a:lnTo>
                        <a:lnTo>
                          <a:pt x="471" y="0"/>
                        </a:lnTo>
                        <a:lnTo>
                          <a:pt x="524" y="0"/>
                        </a:lnTo>
                        <a:lnTo>
                          <a:pt x="569" y="4"/>
                        </a:lnTo>
                        <a:lnTo>
                          <a:pt x="603" y="10"/>
                        </a:lnTo>
                        <a:lnTo>
                          <a:pt x="600" y="59"/>
                        </a:lnTo>
                        <a:lnTo>
                          <a:pt x="598" y="106"/>
                        </a:lnTo>
                        <a:lnTo>
                          <a:pt x="594" y="162"/>
                        </a:lnTo>
                        <a:lnTo>
                          <a:pt x="592" y="219"/>
                        </a:lnTo>
                        <a:lnTo>
                          <a:pt x="592" y="272"/>
                        </a:lnTo>
                        <a:lnTo>
                          <a:pt x="592" y="325"/>
                        </a:lnTo>
                        <a:lnTo>
                          <a:pt x="594" y="377"/>
                        </a:lnTo>
                        <a:lnTo>
                          <a:pt x="597" y="419"/>
                        </a:lnTo>
                        <a:lnTo>
                          <a:pt x="601" y="466"/>
                        </a:lnTo>
                        <a:lnTo>
                          <a:pt x="604" y="508"/>
                        </a:lnTo>
                        <a:lnTo>
                          <a:pt x="608" y="545"/>
                        </a:lnTo>
                        <a:lnTo>
                          <a:pt x="616" y="586"/>
                        </a:lnTo>
                        <a:lnTo>
                          <a:pt x="621" y="621"/>
                        </a:lnTo>
                        <a:lnTo>
                          <a:pt x="629" y="658"/>
                        </a:lnTo>
                        <a:lnTo>
                          <a:pt x="641" y="697"/>
                        </a:lnTo>
                        <a:lnTo>
                          <a:pt x="656" y="731"/>
                        </a:lnTo>
                        <a:lnTo>
                          <a:pt x="682" y="787"/>
                        </a:lnTo>
                        <a:lnTo>
                          <a:pt x="713" y="855"/>
                        </a:lnTo>
                        <a:lnTo>
                          <a:pt x="736" y="893"/>
                        </a:lnTo>
                        <a:lnTo>
                          <a:pt x="745" y="923"/>
                        </a:lnTo>
                        <a:lnTo>
                          <a:pt x="745" y="1019"/>
                        </a:lnTo>
                        <a:lnTo>
                          <a:pt x="644" y="1027"/>
                        </a:lnTo>
                        <a:lnTo>
                          <a:pt x="533" y="1032"/>
                        </a:lnTo>
                        <a:lnTo>
                          <a:pt x="401" y="1032"/>
                        </a:lnTo>
                        <a:lnTo>
                          <a:pt x="290" y="1023"/>
                        </a:lnTo>
                        <a:lnTo>
                          <a:pt x="181" y="1015"/>
                        </a:lnTo>
                        <a:lnTo>
                          <a:pt x="105" y="1003"/>
                        </a:lnTo>
                        <a:lnTo>
                          <a:pt x="56" y="998"/>
                        </a:lnTo>
                        <a:lnTo>
                          <a:pt x="0" y="977"/>
                        </a:lnTo>
                        <a:lnTo>
                          <a:pt x="0" y="853"/>
                        </a:lnTo>
                        <a:lnTo>
                          <a:pt x="26" y="828"/>
                        </a:lnTo>
                        <a:lnTo>
                          <a:pt x="52" y="790"/>
                        </a:lnTo>
                        <a:lnTo>
                          <a:pt x="79" y="757"/>
                        </a:lnTo>
                        <a:lnTo>
                          <a:pt x="123" y="696"/>
                        </a:lnTo>
                        <a:lnTo>
                          <a:pt x="153" y="645"/>
                        </a:lnTo>
                        <a:lnTo>
                          <a:pt x="181" y="596"/>
                        </a:lnTo>
                        <a:lnTo>
                          <a:pt x="210" y="543"/>
                        </a:lnTo>
                        <a:lnTo>
                          <a:pt x="233" y="489"/>
                        </a:lnTo>
                        <a:lnTo>
                          <a:pt x="260" y="418"/>
                        </a:lnTo>
                        <a:lnTo>
                          <a:pt x="279" y="359"/>
                        </a:lnTo>
                        <a:lnTo>
                          <a:pt x="289" y="305"/>
                        </a:lnTo>
                        <a:lnTo>
                          <a:pt x="298" y="254"/>
                        </a:lnTo>
                        <a:lnTo>
                          <a:pt x="304" y="196"/>
                        </a:lnTo>
                        <a:lnTo>
                          <a:pt x="304" y="141"/>
                        </a:lnTo>
                        <a:lnTo>
                          <a:pt x="299" y="95"/>
                        </a:lnTo>
                        <a:lnTo>
                          <a:pt x="286" y="46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7745400" y="5178600"/>
                  <a:ext cx="298440" cy="385560"/>
                  <a:chOff x="7745400" y="5178600"/>
                  <a:chExt cx="298440" cy="38556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7745400" y="5178600"/>
                    <a:ext cx="298440" cy="38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0" h="1219">
                        <a:moveTo>
                          <a:pt x="340" y="54"/>
                        </a:moveTo>
                        <a:lnTo>
                          <a:pt x="382" y="35"/>
                        </a:lnTo>
                        <a:lnTo>
                          <a:pt x="434" y="19"/>
                        </a:lnTo>
                        <a:lnTo>
                          <a:pt x="497" y="5"/>
                        </a:lnTo>
                        <a:lnTo>
                          <a:pt x="559" y="0"/>
                        </a:lnTo>
                        <a:lnTo>
                          <a:pt x="622" y="0"/>
                        </a:lnTo>
                        <a:lnTo>
                          <a:pt x="674" y="4"/>
                        </a:lnTo>
                        <a:lnTo>
                          <a:pt x="716" y="11"/>
                        </a:lnTo>
                        <a:lnTo>
                          <a:pt x="767" y="26"/>
                        </a:lnTo>
                        <a:lnTo>
                          <a:pt x="811" y="44"/>
                        </a:lnTo>
                        <a:lnTo>
                          <a:pt x="832" y="58"/>
                        </a:lnTo>
                        <a:lnTo>
                          <a:pt x="821" y="127"/>
                        </a:lnTo>
                        <a:lnTo>
                          <a:pt x="816" y="195"/>
                        </a:lnTo>
                        <a:lnTo>
                          <a:pt x="816" y="264"/>
                        </a:lnTo>
                        <a:lnTo>
                          <a:pt x="816" y="316"/>
                        </a:lnTo>
                        <a:lnTo>
                          <a:pt x="820" y="367"/>
                        </a:lnTo>
                        <a:lnTo>
                          <a:pt x="827" y="407"/>
                        </a:lnTo>
                        <a:lnTo>
                          <a:pt x="834" y="442"/>
                        </a:lnTo>
                        <a:lnTo>
                          <a:pt x="843" y="472"/>
                        </a:lnTo>
                        <a:lnTo>
                          <a:pt x="855" y="509"/>
                        </a:lnTo>
                        <a:lnTo>
                          <a:pt x="867" y="539"/>
                        </a:lnTo>
                        <a:lnTo>
                          <a:pt x="877" y="566"/>
                        </a:lnTo>
                        <a:lnTo>
                          <a:pt x="900" y="621"/>
                        </a:lnTo>
                        <a:lnTo>
                          <a:pt x="926" y="680"/>
                        </a:lnTo>
                        <a:lnTo>
                          <a:pt x="967" y="758"/>
                        </a:lnTo>
                        <a:lnTo>
                          <a:pt x="1010" y="837"/>
                        </a:lnTo>
                        <a:lnTo>
                          <a:pt x="1056" y="915"/>
                        </a:lnTo>
                        <a:lnTo>
                          <a:pt x="1082" y="959"/>
                        </a:lnTo>
                        <a:lnTo>
                          <a:pt x="1130" y="1008"/>
                        </a:lnTo>
                        <a:lnTo>
                          <a:pt x="1130" y="1160"/>
                        </a:lnTo>
                        <a:lnTo>
                          <a:pt x="1062" y="1181"/>
                        </a:lnTo>
                        <a:lnTo>
                          <a:pt x="989" y="1190"/>
                        </a:lnTo>
                        <a:lnTo>
                          <a:pt x="884" y="1205"/>
                        </a:lnTo>
                        <a:lnTo>
                          <a:pt x="764" y="1215"/>
                        </a:lnTo>
                        <a:lnTo>
                          <a:pt x="633" y="1219"/>
                        </a:lnTo>
                        <a:lnTo>
                          <a:pt x="476" y="1219"/>
                        </a:lnTo>
                        <a:lnTo>
                          <a:pt x="344" y="1209"/>
                        </a:lnTo>
                        <a:lnTo>
                          <a:pt x="213" y="1200"/>
                        </a:lnTo>
                        <a:lnTo>
                          <a:pt x="125" y="1185"/>
                        </a:lnTo>
                        <a:lnTo>
                          <a:pt x="68" y="1179"/>
                        </a:lnTo>
                        <a:lnTo>
                          <a:pt x="0" y="1155"/>
                        </a:lnTo>
                        <a:lnTo>
                          <a:pt x="0" y="1008"/>
                        </a:lnTo>
                        <a:lnTo>
                          <a:pt x="30" y="978"/>
                        </a:lnTo>
                        <a:lnTo>
                          <a:pt x="62" y="934"/>
                        </a:lnTo>
                        <a:lnTo>
                          <a:pt x="94" y="896"/>
                        </a:lnTo>
                        <a:lnTo>
                          <a:pt x="147" y="822"/>
                        </a:lnTo>
                        <a:lnTo>
                          <a:pt x="182" y="763"/>
                        </a:lnTo>
                        <a:lnTo>
                          <a:pt x="213" y="705"/>
                        </a:lnTo>
                        <a:lnTo>
                          <a:pt x="250" y="640"/>
                        </a:lnTo>
                        <a:lnTo>
                          <a:pt x="277" y="577"/>
                        </a:lnTo>
                        <a:lnTo>
                          <a:pt x="308" y="494"/>
                        </a:lnTo>
                        <a:lnTo>
                          <a:pt x="331" y="424"/>
                        </a:lnTo>
                        <a:lnTo>
                          <a:pt x="343" y="361"/>
                        </a:lnTo>
                        <a:lnTo>
                          <a:pt x="353" y="300"/>
                        </a:lnTo>
                        <a:lnTo>
                          <a:pt x="360" y="231"/>
                        </a:lnTo>
                        <a:lnTo>
                          <a:pt x="360" y="167"/>
                        </a:lnTo>
                        <a:lnTo>
                          <a:pt x="356" y="112"/>
                        </a:lnTo>
                        <a:lnTo>
                          <a:pt x="340" y="54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745400" y="5178600"/>
                    <a:ext cx="233280" cy="38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4" h="1219">
                        <a:moveTo>
                          <a:pt x="340" y="54"/>
                        </a:moveTo>
                        <a:lnTo>
                          <a:pt x="382" y="35"/>
                        </a:lnTo>
                        <a:lnTo>
                          <a:pt x="434" y="19"/>
                        </a:lnTo>
                        <a:lnTo>
                          <a:pt x="497" y="5"/>
                        </a:lnTo>
                        <a:lnTo>
                          <a:pt x="559" y="0"/>
                        </a:lnTo>
                        <a:lnTo>
                          <a:pt x="622" y="0"/>
                        </a:lnTo>
                        <a:lnTo>
                          <a:pt x="674" y="4"/>
                        </a:lnTo>
                        <a:lnTo>
                          <a:pt x="716" y="11"/>
                        </a:lnTo>
                        <a:lnTo>
                          <a:pt x="712" y="69"/>
                        </a:lnTo>
                        <a:lnTo>
                          <a:pt x="708" y="124"/>
                        </a:lnTo>
                        <a:lnTo>
                          <a:pt x="706" y="191"/>
                        </a:lnTo>
                        <a:lnTo>
                          <a:pt x="703" y="259"/>
                        </a:lnTo>
                        <a:lnTo>
                          <a:pt x="702" y="320"/>
                        </a:lnTo>
                        <a:lnTo>
                          <a:pt x="702" y="385"/>
                        </a:lnTo>
                        <a:lnTo>
                          <a:pt x="702" y="445"/>
                        </a:lnTo>
                        <a:lnTo>
                          <a:pt x="707" y="495"/>
                        </a:lnTo>
                        <a:lnTo>
                          <a:pt x="713" y="550"/>
                        </a:lnTo>
                        <a:lnTo>
                          <a:pt x="716" y="600"/>
                        </a:lnTo>
                        <a:lnTo>
                          <a:pt x="721" y="644"/>
                        </a:lnTo>
                        <a:lnTo>
                          <a:pt x="730" y="692"/>
                        </a:lnTo>
                        <a:lnTo>
                          <a:pt x="737" y="734"/>
                        </a:lnTo>
                        <a:lnTo>
                          <a:pt x="746" y="778"/>
                        </a:lnTo>
                        <a:lnTo>
                          <a:pt x="760" y="823"/>
                        </a:lnTo>
                        <a:lnTo>
                          <a:pt x="778" y="863"/>
                        </a:lnTo>
                        <a:lnTo>
                          <a:pt x="810" y="930"/>
                        </a:lnTo>
                        <a:lnTo>
                          <a:pt x="845" y="1011"/>
                        </a:lnTo>
                        <a:lnTo>
                          <a:pt x="872" y="1056"/>
                        </a:lnTo>
                        <a:lnTo>
                          <a:pt x="884" y="1091"/>
                        </a:lnTo>
                        <a:lnTo>
                          <a:pt x="884" y="1205"/>
                        </a:lnTo>
                        <a:lnTo>
                          <a:pt x="764" y="1215"/>
                        </a:lnTo>
                        <a:lnTo>
                          <a:pt x="633" y="1219"/>
                        </a:lnTo>
                        <a:lnTo>
                          <a:pt x="476" y="1219"/>
                        </a:lnTo>
                        <a:lnTo>
                          <a:pt x="344" y="1209"/>
                        </a:lnTo>
                        <a:lnTo>
                          <a:pt x="213" y="1200"/>
                        </a:lnTo>
                        <a:lnTo>
                          <a:pt x="125" y="1185"/>
                        </a:lnTo>
                        <a:lnTo>
                          <a:pt x="68" y="1179"/>
                        </a:lnTo>
                        <a:lnTo>
                          <a:pt x="0" y="1155"/>
                        </a:lnTo>
                        <a:lnTo>
                          <a:pt x="0" y="1008"/>
                        </a:lnTo>
                        <a:lnTo>
                          <a:pt x="30" y="978"/>
                        </a:lnTo>
                        <a:lnTo>
                          <a:pt x="62" y="934"/>
                        </a:lnTo>
                        <a:lnTo>
                          <a:pt x="94" y="896"/>
                        </a:lnTo>
                        <a:lnTo>
                          <a:pt x="147" y="822"/>
                        </a:lnTo>
                        <a:lnTo>
                          <a:pt x="182" y="763"/>
                        </a:lnTo>
                        <a:lnTo>
                          <a:pt x="213" y="705"/>
                        </a:lnTo>
                        <a:lnTo>
                          <a:pt x="250" y="640"/>
                        </a:lnTo>
                        <a:lnTo>
                          <a:pt x="277" y="577"/>
                        </a:lnTo>
                        <a:lnTo>
                          <a:pt x="308" y="494"/>
                        </a:lnTo>
                        <a:lnTo>
                          <a:pt x="331" y="424"/>
                        </a:lnTo>
                        <a:lnTo>
                          <a:pt x="343" y="361"/>
                        </a:lnTo>
                        <a:lnTo>
                          <a:pt x="353" y="300"/>
                        </a:lnTo>
                        <a:lnTo>
                          <a:pt x="360" y="231"/>
                        </a:lnTo>
                        <a:lnTo>
                          <a:pt x="360" y="167"/>
                        </a:lnTo>
                        <a:lnTo>
                          <a:pt x="356" y="112"/>
                        </a:lnTo>
                        <a:lnTo>
                          <a:pt x="340" y="54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7975440" y="4871880"/>
                <a:ext cx="54000" cy="679680"/>
                <a:chOff x="7975440" y="4871880"/>
                <a:chExt cx="54000" cy="6796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975440" y="4871880"/>
                  <a:ext cx="54000" cy="27000"/>
                </a:xfrm>
                <a:prstGeom prst="ellips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975440" y="4884840"/>
                  <a:ext cx="54000" cy="6667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2" name=""/>
                <p:cNvGrpSpPr/>
                <p:nvPr/>
              </p:nvGrpSpPr>
              <p:grpSpPr>
                <a:xfrm>
                  <a:off x="7975440" y="4871880"/>
                  <a:ext cx="54000" cy="679680"/>
                  <a:chOff x="7975440" y="4871880"/>
                  <a:chExt cx="54000" cy="679680"/>
                </a:xfrm>
              </p:grpSpPr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7975440" y="4871880"/>
                    <a:ext cx="54000" cy="679680"/>
                    <a:chOff x="7975440" y="4871880"/>
                    <a:chExt cx="54000" cy="67968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7975440" y="4871880"/>
                      <a:ext cx="54000" cy="2700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7975440" y="4884840"/>
                      <a:ext cx="54000" cy="66672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7983360" y="4871880"/>
                    <a:ext cx="30240" cy="677880"/>
                    <a:chOff x="7983360" y="4871880"/>
                    <a:chExt cx="30240" cy="67788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7983360" y="4871880"/>
                      <a:ext cx="30240" cy="27000"/>
                    </a:xfrm>
                    <a:prstGeom prst="ellipse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7983360" y="4884840"/>
                      <a:ext cx="30240" cy="664920"/>
                    </a:xfrm>
                    <a:prstGeom prst="rect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9" name=""/>
              <p:cNvGrpSpPr/>
              <p:nvPr/>
            </p:nvGrpSpPr>
            <p:grpSpPr>
              <a:xfrm>
                <a:off x="7321680" y="5245200"/>
                <a:ext cx="828720" cy="345960"/>
                <a:chOff x="7321680" y="5245200"/>
                <a:chExt cx="828720" cy="3459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7321680" y="5519880"/>
                  <a:ext cx="37800" cy="45720"/>
                </a:xfrm>
                <a:custGeom>
                  <a:avLst/>
                  <a:gdLst/>
                  <a:ahLst/>
                  <a:rect l="l" t="t" r="r" b="b"/>
                  <a:pathLst>
                    <a:path w="147" h="145">
                      <a:moveTo>
                        <a:pt x="147" y="0"/>
                      </a:moveTo>
                      <a:lnTo>
                        <a:pt x="0" y="30"/>
                      </a:lnTo>
                      <a:lnTo>
                        <a:pt x="0" y="81"/>
                      </a:lnTo>
                      <a:lnTo>
                        <a:pt x="23" y="81"/>
                      </a:lnTo>
                      <a:lnTo>
                        <a:pt x="23" y="145"/>
                      </a:lnTo>
                      <a:lnTo>
                        <a:pt x="61" y="145"/>
                      </a:lnTo>
                      <a:lnTo>
                        <a:pt x="61" y="81"/>
                      </a:lnTo>
                      <a:lnTo>
                        <a:pt x="143" y="81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1" name=""/>
                <p:cNvGrpSpPr/>
                <p:nvPr/>
              </p:nvGrpSpPr>
              <p:grpSpPr>
                <a:xfrm>
                  <a:off x="7358040" y="5253120"/>
                  <a:ext cx="766800" cy="328680"/>
                  <a:chOff x="7358040" y="5253120"/>
                  <a:chExt cx="766800" cy="328680"/>
                </a:xfrm>
              </p:grpSpPr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7696080" y="5315040"/>
                    <a:ext cx="428760" cy="263520"/>
                    <a:chOff x="7696080" y="5315040"/>
                    <a:chExt cx="428760" cy="26352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8045280" y="5504040"/>
                      <a:ext cx="7956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2" h="165">
                          <a:moveTo>
                            <a:pt x="0" y="41"/>
                          </a:moveTo>
                          <a:lnTo>
                            <a:pt x="93" y="41"/>
                          </a:lnTo>
                          <a:lnTo>
                            <a:pt x="93" y="5"/>
                          </a:lnTo>
                          <a:lnTo>
                            <a:pt x="155" y="0"/>
                          </a:lnTo>
                          <a:lnTo>
                            <a:pt x="155" y="41"/>
                          </a:lnTo>
                          <a:lnTo>
                            <a:pt x="194" y="48"/>
                          </a:lnTo>
                          <a:lnTo>
                            <a:pt x="194" y="20"/>
                          </a:lnTo>
                          <a:lnTo>
                            <a:pt x="248" y="20"/>
                          </a:lnTo>
                          <a:lnTo>
                            <a:pt x="248" y="56"/>
                          </a:lnTo>
                          <a:lnTo>
                            <a:pt x="302" y="71"/>
                          </a:lnTo>
                          <a:lnTo>
                            <a:pt x="302" y="165"/>
                          </a:lnTo>
                          <a:lnTo>
                            <a:pt x="0" y="165"/>
                          </a:lnTo>
                          <a:lnTo>
                            <a:pt x="0" y="41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7696080" y="5315040"/>
                      <a:ext cx="358920" cy="263520"/>
                      <a:chOff x="7696080" y="5315040"/>
                      <a:chExt cx="358920" cy="263520"/>
                    </a:xfrm>
                  </p:grpSpPr>
                  <p:grpSp>
                    <p:nvGrpSpPr>
                      <p:cNvPr id="545" name=""/>
                      <p:cNvGrpSpPr/>
                      <p:nvPr/>
                    </p:nvGrpSpPr>
                    <p:grpSpPr>
                      <a:xfrm>
                        <a:off x="7991640" y="5411880"/>
                        <a:ext cx="63360" cy="160200"/>
                        <a:chOff x="7991640" y="5411880"/>
                        <a:chExt cx="63360" cy="160200"/>
                      </a:xfrm>
                    </p:grpSpPr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7991640" y="5411880"/>
                          <a:ext cx="63360" cy="160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1" h="506">
                              <a:moveTo>
                                <a:pt x="0" y="0"/>
                              </a:moveTo>
                              <a:lnTo>
                                <a:pt x="86" y="35"/>
                              </a:lnTo>
                              <a:lnTo>
                                <a:pt x="86" y="101"/>
                              </a:lnTo>
                              <a:lnTo>
                                <a:pt x="186" y="129"/>
                              </a:lnTo>
                              <a:lnTo>
                                <a:pt x="186" y="93"/>
                              </a:lnTo>
                              <a:lnTo>
                                <a:pt x="241" y="108"/>
                              </a:lnTo>
                              <a:lnTo>
                                <a:pt x="241" y="460"/>
                              </a:lnTo>
                              <a:lnTo>
                                <a:pt x="0" y="50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>
                          <a:off x="7991640" y="5465880"/>
                          <a:ext cx="29880" cy="10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" h="317">
                              <a:moveTo>
                                <a:pt x="0" y="0"/>
                              </a:moveTo>
                              <a:lnTo>
                                <a:pt x="117" y="43"/>
                              </a:lnTo>
                              <a:lnTo>
                                <a:pt x="117" y="310"/>
                              </a:lnTo>
                              <a:lnTo>
                                <a:pt x="78" y="317"/>
                              </a:lnTo>
                              <a:lnTo>
                                <a:pt x="78" y="49"/>
                              </a:lnTo>
                              <a:lnTo>
                                <a:pt x="0" y="2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5f5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8" name=""/>
                      <p:cNvGrpSpPr/>
                      <p:nvPr/>
                    </p:nvGrpSpPr>
                    <p:grpSpPr>
                      <a:xfrm>
                        <a:off x="7696080" y="5315040"/>
                        <a:ext cx="317520" cy="263520"/>
                        <a:chOff x="7696080" y="5315040"/>
                        <a:chExt cx="317520" cy="263520"/>
                      </a:xfrm>
                    </p:grpSpPr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>
                          <a:off x="7696080" y="5315040"/>
                          <a:ext cx="247680" cy="263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7" h="829">
                              <a:moveTo>
                                <a:pt x="0" y="179"/>
                              </a:moveTo>
                              <a:lnTo>
                                <a:pt x="937" y="0"/>
                              </a:lnTo>
                              <a:lnTo>
                                <a:pt x="937" y="829"/>
                              </a:lnTo>
                              <a:lnTo>
                                <a:pt x="0" y="829"/>
                              </a:lnTo>
                              <a:lnTo>
                                <a:pt x="0" y="1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>
                          <a:off x="7943760" y="5315040"/>
                          <a:ext cx="69840" cy="263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4" h="827">
                              <a:moveTo>
                                <a:pt x="170" y="3"/>
                              </a:moveTo>
                              <a:lnTo>
                                <a:pt x="170" y="39"/>
                              </a:lnTo>
                              <a:lnTo>
                                <a:pt x="0" y="0"/>
                              </a:lnTo>
                              <a:lnTo>
                                <a:pt x="0" y="827"/>
                              </a:lnTo>
                              <a:lnTo>
                                <a:pt x="178" y="806"/>
                              </a:lnTo>
                              <a:lnTo>
                                <a:pt x="178" y="177"/>
                              </a:lnTo>
                              <a:lnTo>
                                <a:pt x="264" y="191"/>
                              </a:lnTo>
                              <a:lnTo>
                                <a:pt x="264" y="25"/>
                              </a:lnTo>
                              <a:lnTo>
                                <a:pt x="17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1" name=""/>
                      <p:cNvGrpSpPr/>
                      <p:nvPr/>
                    </p:nvGrpSpPr>
                    <p:grpSpPr>
                      <a:xfrm>
                        <a:off x="7805880" y="5332320"/>
                        <a:ext cx="54000" cy="193680"/>
                        <a:chOff x="7805880" y="5332320"/>
                        <a:chExt cx="54000" cy="193680"/>
                      </a:xfrm>
                    </p:grpSpPr>
                    <p:sp>
                      <p:nvSpPr>
                        <p:cNvPr id="552" name=""/>
                        <p:cNvSpPr/>
                        <p:nvPr/>
                      </p:nvSpPr>
                      <p:spPr>
                        <a:xfrm>
                          <a:off x="7805880" y="5332320"/>
                          <a:ext cx="37800" cy="15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7" h="492">
                              <a:moveTo>
                                <a:pt x="147" y="0"/>
                              </a:moveTo>
                              <a:lnTo>
                                <a:pt x="147" y="485"/>
                              </a:lnTo>
                              <a:lnTo>
                                <a:pt x="0" y="492"/>
                              </a:lnTo>
                              <a:lnTo>
                                <a:pt x="0" y="22"/>
                              </a:lnTo>
                              <a:lnTo>
                                <a:pt x="14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>
                          <a:off x="7805880" y="5486400"/>
                          <a:ext cx="5076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3" h="111">
                              <a:moveTo>
                                <a:pt x="0" y="7"/>
                              </a:moveTo>
                              <a:lnTo>
                                <a:pt x="147" y="0"/>
                              </a:lnTo>
                              <a:lnTo>
                                <a:pt x="193" y="109"/>
                              </a:lnTo>
                              <a:lnTo>
                                <a:pt x="64" y="111"/>
                              </a:lnTo>
                              <a:lnTo>
                                <a:pt x="0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>
                          <a:off x="7843680" y="5332320"/>
                          <a:ext cx="16200" cy="19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" h="608">
                              <a:moveTo>
                                <a:pt x="0" y="0"/>
                              </a:moveTo>
                              <a:lnTo>
                                <a:pt x="59" y="5"/>
                              </a:lnTo>
                              <a:lnTo>
                                <a:pt x="59" y="608"/>
                              </a:lnTo>
                              <a:lnTo>
                                <a:pt x="0" y="48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5" name=""/>
                      <p:cNvGrpSpPr/>
                      <p:nvPr/>
                    </p:nvGrpSpPr>
                    <p:grpSpPr>
                      <a:xfrm>
                        <a:off x="7718400" y="5353200"/>
                        <a:ext cx="60480" cy="174600"/>
                        <a:chOff x="7718400" y="5353200"/>
                        <a:chExt cx="60480" cy="174600"/>
                      </a:xfrm>
                    </p:grpSpPr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>
                          <a:off x="7758000" y="5353200"/>
                          <a:ext cx="20880" cy="174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" h="546">
                              <a:moveTo>
                                <a:pt x="0" y="0"/>
                              </a:moveTo>
                              <a:lnTo>
                                <a:pt x="0" y="434"/>
                              </a:lnTo>
                              <a:lnTo>
                                <a:pt x="78" y="546"/>
                              </a:lnTo>
                              <a:lnTo>
                                <a:pt x="78" y="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>
                          <a:off x="7719840" y="5353200"/>
                          <a:ext cx="36720" cy="14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9" h="448">
                              <a:moveTo>
                                <a:pt x="0" y="22"/>
                              </a:moveTo>
                              <a:lnTo>
                                <a:pt x="139" y="0"/>
                              </a:lnTo>
                              <a:lnTo>
                                <a:pt x="139" y="441"/>
                              </a:lnTo>
                              <a:lnTo>
                                <a:pt x="0" y="448"/>
                              </a:lnTo>
                              <a:lnTo>
                                <a:pt x="0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7718400" y="5491080"/>
                          <a:ext cx="58680" cy="3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5" h="116">
                              <a:moveTo>
                                <a:pt x="0" y="7"/>
                              </a:moveTo>
                              <a:lnTo>
                                <a:pt x="147" y="0"/>
                              </a:lnTo>
                              <a:lnTo>
                                <a:pt x="225" y="116"/>
                              </a:lnTo>
                              <a:lnTo>
                                <a:pt x="77" y="116"/>
                              </a:lnTo>
                              <a:lnTo>
                                <a:pt x="0" y="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9" name=""/>
                      <p:cNvGrpSpPr/>
                      <p:nvPr/>
                    </p:nvGrpSpPr>
                    <p:grpSpPr>
                      <a:xfrm>
                        <a:off x="7883640" y="5316480"/>
                        <a:ext cx="55440" cy="155520"/>
                        <a:chOff x="7883640" y="5316480"/>
                        <a:chExt cx="55440" cy="155520"/>
                      </a:xfrm>
                    </p:grpSpPr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>
                          <a:off x="7885080" y="5419800"/>
                          <a:ext cx="5400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5" h="162">
                              <a:moveTo>
                                <a:pt x="0" y="3"/>
                              </a:moveTo>
                              <a:lnTo>
                                <a:pt x="135" y="0"/>
                              </a:lnTo>
                              <a:lnTo>
                                <a:pt x="205" y="162"/>
                              </a:lnTo>
                              <a:lnTo>
                                <a:pt x="73" y="162"/>
                              </a:lnTo>
                              <a:lnTo>
                                <a:pt x="0" y="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>
                          <a:off x="7883640" y="5316480"/>
                          <a:ext cx="38160" cy="1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9" h="332">
                              <a:moveTo>
                                <a:pt x="0" y="332"/>
                              </a:moveTo>
                              <a:lnTo>
                                <a:pt x="139" y="318"/>
                              </a:lnTo>
                              <a:lnTo>
                                <a:pt x="139" y="0"/>
                              </a:lnTo>
                              <a:lnTo>
                                <a:pt x="0" y="20"/>
                              </a:lnTo>
                              <a:lnTo>
                                <a:pt x="0" y="3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>
                          <a:off x="7920000" y="5316480"/>
                          <a:ext cx="19080" cy="155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489">
                              <a:moveTo>
                                <a:pt x="0" y="0"/>
                              </a:moveTo>
                              <a:lnTo>
                                <a:pt x="0" y="322"/>
                              </a:lnTo>
                              <a:lnTo>
                                <a:pt x="74" y="489"/>
                              </a:lnTo>
                              <a:lnTo>
                                <a:pt x="74" y="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3" name=""/>
                      <p:cNvGrpSpPr/>
                      <p:nvPr/>
                    </p:nvGrpSpPr>
                    <p:grpSpPr>
                      <a:xfrm>
                        <a:off x="7797960" y="5345280"/>
                        <a:ext cx="42840" cy="131760"/>
                        <a:chOff x="7797960" y="5345280"/>
                        <a:chExt cx="42840" cy="131760"/>
                      </a:xfrm>
                    </p:grpSpPr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7797960" y="5345280"/>
                          <a:ext cx="21960" cy="8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263">
                              <a:moveTo>
                                <a:pt x="0" y="10"/>
                              </a:moveTo>
                              <a:lnTo>
                                <a:pt x="85" y="0"/>
                              </a:lnTo>
                              <a:lnTo>
                                <a:pt x="85" y="263"/>
                              </a:lnTo>
                              <a:lnTo>
                                <a:pt x="0" y="26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080" bIns="37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7797960" y="5429160"/>
                          <a:ext cx="4284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9" h="148">
                              <a:moveTo>
                                <a:pt x="0" y="0"/>
                              </a:moveTo>
                              <a:lnTo>
                                <a:pt x="85" y="0"/>
                              </a:lnTo>
                              <a:lnTo>
                                <a:pt x="159" y="148"/>
                              </a:lnTo>
                              <a:lnTo>
                                <a:pt x="78" y="14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>
                          <a:off x="7819920" y="5345280"/>
                          <a:ext cx="20880" cy="13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" h="412">
                              <a:moveTo>
                                <a:pt x="78" y="412"/>
                              </a:moveTo>
                              <a:lnTo>
                                <a:pt x="78" y="17"/>
                              </a:lnTo>
                              <a:lnTo>
                                <a:pt x="0" y="0"/>
                              </a:lnTo>
                              <a:lnTo>
                                <a:pt x="0" y="271"/>
                              </a:lnTo>
                              <a:lnTo>
                                <a:pt x="78" y="4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7" name=""/>
                      <p:cNvGrpSpPr/>
                      <p:nvPr/>
                    </p:nvGrpSpPr>
                    <p:grpSpPr>
                      <a:xfrm>
                        <a:off x="7713720" y="5376960"/>
                        <a:ext cx="39600" cy="102960"/>
                        <a:chOff x="7713720" y="5376960"/>
                        <a:chExt cx="39600" cy="102960"/>
                      </a:xfrm>
                    </p:grpSpPr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>
                          <a:off x="7713720" y="5435640"/>
                          <a:ext cx="3960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7" h="138">
                              <a:moveTo>
                                <a:pt x="63" y="138"/>
                              </a:moveTo>
                              <a:lnTo>
                                <a:pt x="147" y="138"/>
                              </a:lnTo>
                              <a:lnTo>
                                <a:pt x="85" y="0"/>
                              </a:lnTo>
                              <a:lnTo>
                                <a:pt x="0" y="0"/>
                              </a:lnTo>
                              <a:lnTo>
                                <a:pt x="63" y="1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" name=""/>
                        <p:cNvSpPr/>
                        <p:nvPr/>
                      </p:nvSpPr>
                      <p:spPr>
                        <a:xfrm>
                          <a:off x="7713720" y="5376960"/>
                          <a:ext cx="23760" cy="58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0" h="184">
                              <a:moveTo>
                                <a:pt x="0" y="184"/>
                              </a:moveTo>
                              <a:lnTo>
                                <a:pt x="85" y="184"/>
                              </a:lnTo>
                              <a:lnTo>
                                <a:pt x="90" y="0"/>
                              </a:lnTo>
                              <a:lnTo>
                                <a:pt x="0" y="11"/>
                              </a:lnTo>
                              <a:lnTo>
                                <a:pt x="0" y="18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>
                          <a:off x="7736040" y="5378400"/>
                          <a:ext cx="17280" cy="10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" h="322">
                              <a:moveTo>
                                <a:pt x="0" y="0"/>
                              </a:moveTo>
                              <a:lnTo>
                                <a:pt x="0" y="181"/>
                              </a:lnTo>
                              <a:lnTo>
                                <a:pt x="67" y="322"/>
                              </a:lnTo>
                              <a:lnTo>
                                <a:pt x="62" y="4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7372440" y="5253120"/>
                    <a:ext cx="331560" cy="328680"/>
                    <a:chOff x="7372440" y="5253120"/>
                    <a:chExt cx="331560" cy="328680"/>
                  </a:xfrm>
                </p:grpSpPr>
                <p:grpSp>
                  <p:nvGrpSpPr>
                    <p:cNvPr id="572" name=""/>
                    <p:cNvGrpSpPr/>
                    <p:nvPr/>
                  </p:nvGrpSpPr>
                  <p:grpSpPr>
                    <a:xfrm>
                      <a:off x="7372440" y="5253120"/>
                      <a:ext cx="331560" cy="328680"/>
                      <a:chOff x="7372440" y="5253120"/>
                      <a:chExt cx="331560" cy="328680"/>
                    </a:xfrm>
                  </p:grpSpPr>
                  <p:sp>
                    <p:nvSpPr>
                      <p:cNvPr id="573" name=""/>
                      <p:cNvSpPr/>
                      <p:nvPr/>
                    </p:nvSpPr>
                    <p:spPr>
                      <a:xfrm>
                        <a:off x="7639200" y="5342040"/>
                        <a:ext cx="6480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7" h="738">
                            <a:moveTo>
                              <a:pt x="69" y="0"/>
                            </a:moveTo>
                            <a:lnTo>
                              <a:pt x="69" y="87"/>
                            </a:lnTo>
                            <a:lnTo>
                              <a:pt x="0" y="73"/>
                            </a:lnTo>
                            <a:lnTo>
                              <a:pt x="0" y="738"/>
                            </a:lnTo>
                            <a:lnTo>
                              <a:pt x="247" y="730"/>
                            </a:lnTo>
                            <a:lnTo>
                              <a:pt x="247" y="87"/>
                            </a:lnTo>
                            <a:lnTo>
                              <a:pt x="69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>
                        <a:off x="7628040" y="5342040"/>
                        <a:ext cx="284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23">
                            <a:moveTo>
                              <a:pt x="108" y="0"/>
                            </a:moveTo>
                            <a:lnTo>
                              <a:pt x="0" y="22"/>
                            </a:lnTo>
                            <a:lnTo>
                              <a:pt x="0" y="123"/>
                            </a:lnTo>
                            <a:lnTo>
                              <a:pt x="108" y="123"/>
                            </a:lnTo>
                            <a:lnTo>
                              <a:pt x="108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5" name=""/>
                      <p:cNvSpPr/>
                      <p:nvPr/>
                    </p:nvSpPr>
                    <p:spPr>
                      <a:xfrm>
                        <a:off x="7372440" y="5253120"/>
                        <a:ext cx="177840" cy="32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4" h="1035">
                            <a:moveTo>
                              <a:pt x="0" y="191"/>
                            </a:moveTo>
                            <a:lnTo>
                              <a:pt x="674" y="0"/>
                            </a:lnTo>
                            <a:lnTo>
                              <a:pt x="674" y="1035"/>
                            </a:lnTo>
                            <a:lnTo>
                              <a:pt x="1" y="1016"/>
                            </a:lnTo>
                            <a:lnTo>
                              <a:pt x="0" y="191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6" name=""/>
                      <p:cNvSpPr/>
                      <p:nvPr/>
                    </p:nvSpPr>
                    <p:spPr>
                      <a:xfrm>
                        <a:off x="7550280" y="5254560"/>
                        <a:ext cx="90360" cy="32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0" h="1032">
                            <a:moveTo>
                              <a:pt x="0" y="0"/>
                            </a:moveTo>
                            <a:lnTo>
                              <a:pt x="54" y="15"/>
                            </a:lnTo>
                            <a:lnTo>
                              <a:pt x="131" y="8"/>
                            </a:lnTo>
                            <a:lnTo>
                              <a:pt x="209" y="23"/>
                            </a:lnTo>
                            <a:lnTo>
                              <a:pt x="209" y="59"/>
                            </a:lnTo>
                            <a:lnTo>
                              <a:pt x="340" y="105"/>
                            </a:lnTo>
                            <a:lnTo>
                              <a:pt x="340" y="995"/>
                            </a:lnTo>
                            <a:lnTo>
                              <a:pt x="0" y="103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7664400" y="5353200"/>
                      <a:ext cx="334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09">
                          <a:moveTo>
                            <a:pt x="0" y="0"/>
                          </a:moveTo>
                          <a:lnTo>
                            <a:pt x="0" y="58"/>
                          </a:lnTo>
                          <a:lnTo>
                            <a:pt x="123" y="109"/>
                          </a:lnTo>
                          <a:lnTo>
                            <a:pt x="123" y="6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7358040" y="5361120"/>
                    <a:ext cx="39600" cy="215640"/>
                    <a:chOff x="7358040" y="5361120"/>
                    <a:chExt cx="39600" cy="215640"/>
                  </a:xfrm>
                </p:grpSpPr>
                <p:grpSp>
                  <p:nvGrpSpPr>
                    <p:cNvPr id="579" name=""/>
                    <p:cNvGrpSpPr/>
                    <p:nvPr/>
                  </p:nvGrpSpPr>
                  <p:grpSpPr>
                    <a:xfrm>
                      <a:off x="7358040" y="5361120"/>
                      <a:ext cx="39600" cy="215640"/>
                      <a:chOff x="7358040" y="5361120"/>
                      <a:chExt cx="39600" cy="215640"/>
                    </a:xfrm>
                  </p:grpSpPr>
                  <p:sp>
                    <p:nvSpPr>
                      <p:cNvPr id="580" name=""/>
                      <p:cNvSpPr/>
                      <p:nvPr/>
                    </p:nvSpPr>
                    <p:spPr>
                      <a:xfrm>
                        <a:off x="7358040" y="5361120"/>
                        <a:ext cx="22320" cy="21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" h="680">
                            <a:moveTo>
                              <a:pt x="0" y="21"/>
                            </a:moveTo>
                            <a:lnTo>
                              <a:pt x="85" y="0"/>
                            </a:lnTo>
                            <a:lnTo>
                              <a:pt x="85" y="680"/>
                            </a:lnTo>
                            <a:lnTo>
                              <a:pt x="0" y="680"/>
                            </a:lnTo>
                            <a:lnTo>
                              <a:pt x="0" y="21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"/>
                      <p:cNvSpPr/>
                      <p:nvPr/>
                    </p:nvSpPr>
                    <p:spPr>
                      <a:xfrm>
                        <a:off x="7381800" y="5362560"/>
                        <a:ext cx="15840" cy="212760"/>
                      </a:xfrm>
                      <a:prstGeom prst="rect">
                        <a:avLst/>
                      </a:prstGeom>
                      <a:solidFill>
                        <a:srgbClr val="00dfb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82" name=""/>
                    <p:cNvGrpSpPr/>
                    <p:nvPr/>
                  </p:nvGrpSpPr>
                  <p:grpSpPr>
                    <a:xfrm>
                      <a:off x="7388280" y="5370480"/>
                      <a:ext cx="1440" cy="90360"/>
                      <a:chOff x="7388280" y="5370480"/>
                      <a:chExt cx="1440" cy="90360"/>
                    </a:xfrm>
                  </p:grpSpPr>
                  <p:grpSp>
                    <p:nvGrpSpPr>
                      <p:cNvPr id="583" name=""/>
                      <p:cNvGrpSpPr/>
                      <p:nvPr/>
                    </p:nvGrpSpPr>
                    <p:grpSpPr>
                      <a:xfrm>
                        <a:off x="7388280" y="5370480"/>
                        <a:ext cx="1440" cy="39600"/>
                        <a:chOff x="7388280" y="5370480"/>
                        <a:chExt cx="1440" cy="39600"/>
                      </a:xfrm>
                    </p:grpSpPr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>
                          <a:off x="7388280" y="5370480"/>
                          <a:ext cx="1440" cy="158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7388280" y="5394240"/>
                          <a:ext cx="1440" cy="158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86" name=""/>
                      <p:cNvGrpSpPr/>
                      <p:nvPr/>
                    </p:nvGrpSpPr>
                    <p:grpSpPr>
                      <a:xfrm>
                        <a:off x="7388280" y="5421240"/>
                        <a:ext cx="1440" cy="39600"/>
                        <a:chOff x="7388280" y="5421240"/>
                        <a:chExt cx="1440" cy="39600"/>
                      </a:xfrm>
                    </p:grpSpPr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>
                          <a:off x="7388280" y="5421240"/>
                          <a:ext cx="1440" cy="158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7388280" y="5445000"/>
                          <a:ext cx="1440" cy="158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7407360" y="5245200"/>
                  <a:ext cx="118800" cy="56880"/>
                  <a:chOff x="7407360" y="5245200"/>
                  <a:chExt cx="118800" cy="5688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7407360" y="528156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5">
                        <a:moveTo>
                          <a:pt x="0" y="0"/>
                        </a:moveTo>
                        <a:lnTo>
                          <a:pt x="0" y="65"/>
                        </a:lnTo>
                        <a:lnTo>
                          <a:pt x="37" y="55"/>
                        </a:lnTo>
                        <a:lnTo>
                          <a:pt x="3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7475400" y="5257800"/>
                    <a:ext cx="97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7">
                        <a:moveTo>
                          <a:pt x="0" y="0"/>
                        </a:moveTo>
                        <a:lnTo>
                          <a:pt x="0" y="67"/>
                        </a:lnTo>
                        <a:lnTo>
                          <a:pt x="36" y="55"/>
                        </a:lnTo>
                        <a:lnTo>
                          <a:pt x="3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7442280" y="5270400"/>
                    <a:ext cx="93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7">
                        <a:moveTo>
                          <a:pt x="0" y="0"/>
                        </a:moveTo>
                        <a:lnTo>
                          <a:pt x="0" y="67"/>
                        </a:lnTo>
                        <a:lnTo>
                          <a:pt x="36" y="55"/>
                        </a:lnTo>
                        <a:lnTo>
                          <a:pt x="3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7515360" y="5245200"/>
                    <a:ext cx="10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6">
                        <a:moveTo>
                          <a:pt x="0" y="0"/>
                        </a:moveTo>
                        <a:lnTo>
                          <a:pt x="0" y="66"/>
                        </a:lnTo>
                        <a:lnTo>
                          <a:pt x="36" y="55"/>
                        </a:lnTo>
                        <a:lnTo>
                          <a:pt x="3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585200" y="5349960"/>
                  <a:ext cx="68040" cy="231840"/>
                  <a:chOff x="7585200" y="5349960"/>
                  <a:chExt cx="68040" cy="231840"/>
                </a:xfrm>
              </p:grpSpPr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7585200" y="5349960"/>
                    <a:ext cx="68040" cy="231840"/>
                    <a:chOff x="7585200" y="5349960"/>
                    <a:chExt cx="68040" cy="23184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7605720" y="5349960"/>
                      <a:ext cx="47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9" h="731">
                          <a:moveTo>
                            <a:pt x="0" y="0"/>
                          </a:moveTo>
                          <a:lnTo>
                            <a:pt x="179" y="36"/>
                          </a:lnTo>
                          <a:lnTo>
                            <a:pt x="179" y="714"/>
                          </a:lnTo>
                          <a:lnTo>
                            <a:pt x="0" y="7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7585200" y="5349960"/>
                      <a:ext cx="2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732">
                          <a:moveTo>
                            <a:pt x="81" y="0"/>
                          </a:moveTo>
                          <a:lnTo>
                            <a:pt x="81" y="732"/>
                          </a:lnTo>
                          <a:lnTo>
                            <a:pt x="0" y="719"/>
                          </a:lnTo>
                          <a:lnTo>
                            <a:pt x="0" y="15"/>
                          </a:lnTo>
                          <a:lnTo>
                            <a:pt x="81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7623000" y="5383080"/>
                    <a:ext cx="1800" cy="90720"/>
                    <a:chOff x="7623000" y="5383080"/>
                    <a:chExt cx="1800" cy="90720"/>
                  </a:xfrm>
                </p:grpSpPr>
                <p:grpSp>
                  <p:nvGrpSpPr>
                    <p:cNvPr id="599" name=""/>
                    <p:cNvGrpSpPr/>
                    <p:nvPr/>
                  </p:nvGrpSpPr>
                  <p:grpSpPr>
                    <a:xfrm>
                      <a:off x="7623000" y="5383080"/>
                      <a:ext cx="1800" cy="39960"/>
                      <a:chOff x="7623000" y="5383080"/>
                      <a:chExt cx="1800" cy="39960"/>
                    </a:xfrm>
                  </p:grpSpPr>
                  <p:sp>
                    <p:nvSpPr>
                      <p:cNvPr id="600" name=""/>
                      <p:cNvSpPr/>
                      <p:nvPr/>
                    </p:nvSpPr>
                    <p:spPr>
                      <a:xfrm>
                        <a:off x="7623000" y="5383080"/>
                        <a:ext cx="1800" cy="15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1" name=""/>
                      <p:cNvSpPr/>
                      <p:nvPr/>
                    </p:nvSpPr>
                    <p:spPr>
                      <a:xfrm>
                        <a:off x="7623000" y="5407200"/>
                        <a:ext cx="1800" cy="15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2" name=""/>
                    <p:cNvGrpSpPr/>
                    <p:nvPr/>
                  </p:nvGrpSpPr>
                  <p:grpSpPr>
                    <a:xfrm>
                      <a:off x="7623000" y="5432400"/>
                      <a:ext cx="1800" cy="41400"/>
                      <a:chOff x="7623000" y="5432400"/>
                      <a:chExt cx="1800" cy="41400"/>
                    </a:xfrm>
                  </p:grpSpPr>
                  <p:sp>
                    <p:nvSpPr>
                      <p:cNvPr id="603" name=""/>
                      <p:cNvSpPr/>
                      <p:nvPr/>
                    </p:nvSpPr>
                    <p:spPr>
                      <a:xfrm>
                        <a:off x="7623000" y="5432400"/>
                        <a:ext cx="1800" cy="176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4" name=""/>
                      <p:cNvSpPr/>
                      <p:nvPr/>
                    </p:nvSpPr>
                    <p:spPr>
                      <a:xfrm>
                        <a:off x="7623000" y="5457960"/>
                        <a:ext cx="1800" cy="158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"/>
                <p:cNvSpPr/>
                <p:nvPr/>
              </p:nvSpPr>
              <p:spPr>
                <a:xfrm>
                  <a:off x="7639200" y="5424480"/>
                  <a:ext cx="106200" cy="152280"/>
                </a:xfrm>
                <a:custGeom>
                  <a:avLst/>
                  <a:gdLst/>
                  <a:ahLst/>
                  <a:rect l="l" t="t" r="r" b="b"/>
                  <a:pathLst>
                    <a:path w="403" h="477">
                      <a:moveTo>
                        <a:pt x="0" y="477"/>
                      </a:moveTo>
                      <a:lnTo>
                        <a:pt x="403" y="477"/>
                      </a:lnTo>
                      <a:lnTo>
                        <a:pt x="403" y="0"/>
                      </a:lnTo>
                      <a:lnTo>
                        <a:pt x="155" y="13"/>
                      </a:lnTo>
                      <a:lnTo>
                        <a:pt x="155" y="354"/>
                      </a:lnTo>
                      <a:lnTo>
                        <a:pt x="0" y="383"/>
                      </a:lnTo>
                      <a:lnTo>
                        <a:pt x="0" y="477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086680" y="5481720"/>
                  <a:ext cx="20520" cy="87120"/>
                </a:xfrm>
                <a:custGeom>
                  <a:avLst/>
                  <a:gdLst/>
                  <a:ahLst/>
                  <a:rect l="l" t="t" r="r" b="b"/>
                  <a:pathLst>
                    <a:path w="72" h="275">
                      <a:moveTo>
                        <a:pt x="0" y="46"/>
                      </a:moveTo>
                      <a:lnTo>
                        <a:pt x="1" y="32"/>
                      </a:lnTo>
                      <a:lnTo>
                        <a:pt x="6" y="18"/>
                      </a:lnTo>
                      <a:lnTo>
                        <a:pt x="16" y="6"/>
                      </a:lnTo>
                      <a:lnTo>
                        <a:pt x="28" y="0"/>
                      </a:lnTo>
                      <a:lnTo>
                        <a:pt x="43" y="0"/>
                      </a:lnTo>
                      <a:lnTo>
                        <a:pt x="52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1" y="30"/>
                      </a:lnTo>
                      <a:lnTo>
                        <a:pt x="72" y="37"/>
                      </a:lnTo>
                      <a:lnTo>
                        <a:pt x="72" y="48"/>
                      </a:lnTo>
                      <a:lnTo>
                        <a:pt x="59" y="48"/>
                      </a:lnTo>
                      <a:lnTo>
                        <a:pt x="59" y="32"/>
                      </a:lnTo>
                      <a:lnTo>
                        <a:pt x="53" y="20"/>
                      </a:lnTo>
                      <a:lnTo>
                        <a:pt x="45" y="15"/>
                      </a:lnTo>
                      <a:lnTo>
                        <a:pt x="34" y="15"/>
                      </a:lnTo>
                      <a:lnTo>
                        <a:pt x="25" y="19"/>
                      </a:lnTo>
                      <a:lnTo>
                        <a:pt x="17" y="28"/>
                      </a:lnTo>
                      <a:lnTo>
                        <a:pt x="15" y="38"/>
                      </a:lnTo>
                      <a:lnTo>
                        <a:pt x="15" y="52"/>
                      </a:lnTo>
                      <a:lnTo>
                        <a:pt x="15" y="275"/>
                      </a:lnTo>
                      <a:lnTo>
                        <a:pt x="0" y="275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7689960" y="5548320"/>
                  <a:ext cx="242640" cy="34920"/>
                  <a:chOff x="7689960" y="5548320"/>
                  <a:chExt cx="242640" cy="34920"/>
                </a:xfrm>
              </p:grpSpPr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7689960" y="5548320"/>
                    <a:ext cx="122040" cy="34920"/>
                    <a:chOff x="7689960" y="5548320"/>
                    <a:chExt cx="122040" cy="34920"/>
                  </a:xfrm>
                </p:grpSpPr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7689960" y="5548320"/>
                      <a:ext cx="29880" cy="34920"/>
                      <a:chOff x="7689960" y="5548320"/>
                      <a:chExt cx="29880" cy="34920"/>
                    </a:xfrm>
                  </p:grpSpPr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7691400" y="5549760"/>
                        <a:ext cx="27000" cy="3204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7689960" y="5548320"/>
                        <a:ext cx="298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08">
                            <a:moveTo>
                              <a:pt x="0" y="0"/>
                            </a:moveTo>
                            <a:lnTo>
                              <a:pt x="113" y="108"/>
                            </a:lnTo>
                            <a:lnTo>
                              <a:pt x="113" y="0"/>
                            </a:lnTo>
                            <a:lnTo>
                              <a:pt x="0" y="10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2" name=""/>
                    <p:cNvGrpSpPr/>
                    <p:nvPr/>
                  </p:nvGrpSpPr>
                  <p:grpSpPr>
                    <a:xfrm>
                      <a:off x="7719840" y="5548320"/>
                      <a:ext cx="30240" cy="34920"/>
                      <a:chOff x="7719840" y="5548320"/>
                      <a:chExt cx="30240" cy="34920"/>
                    </a:xfrm>
                  </p:grpSpPr>
                  <p:sp>
                    <p:nvSpPr>
                      <p:cNvPr id="613" name=""/>
                      <p:cNvSpPr/>
                      <p:nvPr/>
                    </p:nvSpPr>
                    <p:spPr>
                      <a:xfrm>
                        <a:off x="7721640" y="5549760"/>
                        <a:ext cx="27000" cy="3204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4" name=""/>
                      <p:cNvSpPr/>
                      <p:nvPr/>
                    </p:nvSpPr>
                    <p:spPr>
                      <a:xfrm>
                        <a:off x="7719840" y="5548320"/>
                        <a:ext cx="3024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" h="108">
                            <a:moveTo>
                              <a:pt x="0" y="0"/>
                            </a:moveTo>
                            <a:lnTo>
                              <a:pt x="115" y="108"/>
                            </a:lnTo>
                            <a:lnTo>
                              <a:pt x="115" y="0"/>
                            </a:lnTo>
                            <a:lnTo>
                              <a:pt x="0" y="10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5" name=""/>
                    <p:cNvGrpSpPr/>
                    <p:nvPr/>
                  </p:nvGrpSpPr>
                  <p:grpSpPr>
                    <a:xfrm>
                      <a:off x="7750080" y="5548320"/>
                      <a:ext cx="31680" cy="34920"/>
                      <a:chOff x="7750080" y="5548320"/>
                      <a:chExt cx="31680" cy="34920"/>
                    </a:xfrm>
                  </p:grpSpPr>
                  <p:sp>
                    <p:nvSpPr>
                      <p:cNvPr id="616" name=""/>
                      <p:cNvSpPr/>
                      <p:nvPr/>
                    </p:nvSpPr>
                    <p:spPr>
                      <a:xfrm>
                        <a:off x="7751880" y="5549760"/>
                        <a:ext cx="28440" cy="3204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7" name=""/>
                      <p:cNvSpPr/>
                      <p:nvPr/>
                    </p:nvSpPr>
                    <p:spPr>
                      <a:xfrm>
                        <a:off x="7750080" y="5548320"/>
                        <a:ext cx="316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108">
                            <a:moveTo>
                              <a:pt x="0" y="0"/>
                            </a:moveTo>
                            <a:lnTo>
                              <a:pt x="116" y="108"/>
                            </a:lnTo>
                            <a:lnTo>
                              <a:pt x="116" y="0"/>
                            </a:lnTo>
                            <a:lnTo>
                              <a:pt x="0" y="10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8" name=""/>
                    <p:cNvGrpSpPr/>
                    <p:nvPr/>
                  </p:nvGrpSpPr>
                  <p:grpSpPr>
                    <a:xfrm>
                      <a:off x="7781760" y="5548320"/>
                      <a:ext cx="30240" cy="34920"/>
                      <a:chOff x="7781760" y="5548320"/>
                      <a:chExt cx="30240" cy="34920"/>
                    </a:xfrm>
                  </p:grpSpPr>
                  <p:sp>
                    <p:nvSpPr>
                      <p:cNvPr id="619" name=""/>
                      <p:cNvSpPr/>
                      <p:nvPr/>
                    </p:nvSpPr>
                    <p:spPr>
                      <a:xfrm>
                        <a:off x="7783560" y="5549760"/>
                        <a:ext cx="27000" cy="3204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0" name=""/>
                      <p:cNvSpPr/>
                      <p:nvPr/>
                    </p:nvSpPr>
                    <p:spPr>
                      <a:xfrm>
                        <a:off x="7781760" y="5548320"/>
                        <a:ext cx="3024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108">
                            <a:moveTo>
                              <a:pt x="0" y="0"/>
                            </a:moveTo>
                            <a:lnTo>
                              <a:pt x="114" y="108"/>
                            </a:lnTo>
                            <a:lnTo>
                              <a:pt x="114" y="0"/>
                            </a:lnTo>
                            <a:lnTo>
                              <a:pt x="0" y="10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21" name=""/>
                  <p:cNvGrpSpPr/>
                  <p:nvPr/>
                </p:nvGrpSpPr>
                <p:grpSpPr>
                  <a:xfrm>
                    <a:off x="7812000" y="5548320"/>
                    <a:ext cx="120600" cy="34920"/>
                    <a:chOff x="7812000" y="5548320"/>
                    <a:chExt cx="120600" cy="34920"/>
                  </a:xfrm>
                </p:grpSpPr>
                <p:grpSp>
                  <p:nvGrpSpPr>
                    <p:cNvPr id="622" name=""/>
                    <p:cNvGrpSpPr/>
                    <p:nvPr/>
                  </p:nvGrpSpPr>
                  <p:grpSpPr>
                    <a:xfrm>
                      <a:off x="7812000" y="5548320"/>
                      <a:ext cx="30240" cy="34920"/>
                      <a:chOff x="7812000" y="5548320"/>
                      <a:chExt cx="30240" cy="34920"/>
                    </a:xfrm>
                  </p:grpSpPr>
                  <p:sp>
                    <p:nvSpPr>
                      <p:cNvPr id="623" name=""/>
                      <p:cNvSpPr/>
                      <p:nvPr/>
                    </p:nvSpPr>
                    <p:spPr>
                      <a:xfrm>
                        <a:off x="7813800" y="5549760"/>
                        <a:ext cx="27000" cy="3204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4" name=""/>
                      <p:cNvSpPr/>
                      <p:nvPr/>
                    </p:nvSpPr>
                    <p:spPr>
                      <a:xfrm>
                        <a:off x="7812000" y="5548320"/>
                        <a:ext cx="3024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108">
                            <a:moveTo>
                              <a:pt x="0" y="0"/>
                            </a:moveTo>
                            <a:lnTo>
                              <a:pt x="114" y="108"/>
                            </a:lnTo>
                            <a:lnTo>
                              <a:pt x="114" y="0"/>
                            </a:lnTo>
                            <a:lnTo>
                              <a:pt x="0" y="10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5" name=""/>
                    <p:cNvGrpSpPr/>
                    <p:nvPr/>
                  </p:nvGrpSpPr>
                  <p:grpSpPr>
                    <a:xfrm>
                      <a:off x="7842240" y="5548320"/>
                      <a:ext cx="30240" cy="34920"/>
                      <a:chOff x="7842240" y="5548320"/>
                      <a:chExt cx="30240" cy="34920"/>
                    </a:xfrm>
                  </p:grpSpPr>
                  <p:sp>
                    <p:nvSpPr>
                      <p:cNvPr id="626" name=""/>
                      <p:cNvSpPr/>
                      <p:nvPr/>
                    </p:nvSpPr>
                    <p:spPr>
                      <a:xfrm>
                        <a:off x="7843680" y="5549760"/>
                        <a:ext cx="27000" cy="3204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7" name=""/>
                      <p:cNvSpPr/>
                      <p:nvPr/>
                    </p:nvSpPr>
                    <p:spPr>
                      <a:xfrm>
                        <a:off x="7842240" y="5548320"/>
                        <a:ext cx="3024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" h="108">
                            <a:moveTo>
                              <a:pt x="0" y="0"/>
                            </a:moveTo>
                            <a:lnTo>
                              <a:pt x="115" y="108"/>
                            </a:lnTo>
                            <a:lnTo>
                              <a:pt x="115" y="0"/>
                            </a:lnTo>
                            <a:lnTo>
                              <a:pt x="0" y="10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8" name=""/>
                    <p:cNvGrpSpPr/>
                    <p:nvPr/>
                  </p:nvGrpSpPr>
                  <p:grpSpPr>
                    <a:xfrm>
                      <a:off x="7872480" y="5548320"/>
                      <a:ext cx="30240" cy="34920"/>
                      <a:chOff x="7872480" y="5548320"/>
                      <a:chExt cx="30240" cy="34920"/>
                    </a:xfrm>
                  </p:grpSpPr>
                  <p:sp>
                    <p:nvSpPr>
                      <p:cNvPr id="629" name=""/>
                      <p:cNvSpPr/>
                      <p:nvPr/>
                    </p:nvSpPr>
                    <p:spPr>
                      <a:xfrm>
                        <a:off x="7873920" y="5549760"/>
                        <a:ext cx="27000" cy="3204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0" name=""/>
                      <p:cNvSpPr/>
                      <p:nvPr/>
                    </p:nvSpPr>
                    <p:spPr>
                      <a:xfrm>
                        <a:off x="7872480" y="5548320"/>
                        <a:ext cx="3024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" h="108">
                            <a:moveTo>
                              <a:pt x="0" y="0"/>
                            </a:moveTo>
                            <a:lnTo>
                              <a:pt x="115" y="108"/>
                            </a:lnTo>
                            <a:lnTo>
                              <a:pt x="115" y="0"/>
                            </a:lnTo>
                            <a:lnTo>
                              <a:pt x="0" y="10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31" name=""/>
                    <p:cNvGrpSpPr/>
                    <p:nvPr/>
                  </p:nvGrpSpPr>
                  <p:grpSpPr>
                    <a:xfrm>
                      <a:off x="7902720" y="5548320"/>
                      <a:ext cx="29880" cy="34920"/>
                      <a:chOff x="7902720" y="5548320"/>
                      <a:chExt cx="29880" cy="34920"/>
                    </a:xfrm>
                  </p:grpSpPr>
                  <p:sp>
                    <p:nvSpPr>
                      <p:cNvPr id="632" name=""/>
                      <p:cNvSpPr/>
                      <p:nvPr/>
                    </p:nvSpPr>
                    <p:spPr>
                      <a:xfrm>
                        <a:off x="7904160" y="5549760"/>
                        <a:ext cx="27000" cy="3204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3" name=""/>
                      <p:cNvSpPr/>
                      <p:nvPr/>
                    </p:nvSpPr>
                    <p:spPr>
                      <a:xfrm>
                        <a:off x="7902720" y="5548320"/>
                        <a:ext cx="298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" h="108">
                            <a:moveTo>
                              <a:pt x="0" y="0"/>
                            </a:moveTo>
                            <a:lnTo>
                              <a:pt x="115" y="108"/>
                            </a:lnTo>
                            <a:lnTo>
                              <a:pt x="115" y="0"/>
                            </a:lnTo>
                            <a:lnTo>
                              <a:pt x="0" y="10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34" name=""/>
                  <p:cNvSpPr/>
                  <p:nvPr/>
                </p:nvSpPr>
                <p:spPr>
                  <a:xfrm>
                    <a:off x="7765920" y="5548320"/>
                    <a:ext cx="1800" cy="3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7856640" y="5548320"/>
                    <a:ext cx="1440" cy="3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7796160" y="5548320"/>
                    <a:ext cx="1800" cy="3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7826400" y="5548320"/>
                    <a:ext cx="1440" cy="3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7736040" y="5548320"/>
                    <a:ext cx="1440" cy="3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7705800" y="5548320"/>
                    <a:ext cx="1440" cy="3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7886880" y="5548320"/>
                    <a:ext cx="1440" cy="3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7916760" y="5548320"/>
                    <a:ext cx="1800" cy="349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>
                  <a:off x="7643880" y="5532480"/>
                  <a:ext cx="264960" cy="15840"/>
                </a:xfrm>
                <a:custGeom>
                  <a:avLst/>
                  <a:gdLst/>
                  <a:ahLst/>
                  <a:rect l="l" t="t" r="r" b="b"/>
                  <a:pathLst>
                    <a:path w="1005" h="50">
                      <a:moveTo>
                        <a:pt x="0" y="43"/>
                      </a:moveTo>
                      <a:lnTo>
                        <a:pt x="62" y="0"/>
                      </a:lnTo>
                      <a:lnTo>
                        <a:pt x="999" y="0"/>
                      </a:lnTo>
                      <a:lnTo>
                        <a:pt x="1005" y="5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031240" y="5467320"/>
                  <a:ext cx="25200" cy="115920"/>
                </a:xfrm>
                <a:custGeom>
                  <a:avLst/>
                  <a:gdLst/>
                  <a:ahLst/>
                  <a:rect l="l" t="t" r="r" b="b"/>
                  <a:pathLst>
                    <a:path w="97" h="361">
                      <a:moveTo>
                        <a:pt x="0" y="60"/>
                      </a:moveTo>
                      <a:lnTo>
                        <a:pt x="1" y="41"/>
                      </a:lnTo>
                      <a:lnTo>
                        <a:pt x="8" y="23"/>
                      </a:lnTo>
                      <a:lnTo>
                        <a:pt x="21" y="8"/>
                      </a:lnTo>
                      <a:lnTo>
                        <a:pt x="38" y="0"/>
                      </a:lnTo>
                      <a:lnTo>
                        <a:pt x="58" y="0"/>
                      </a:lnTo>
                      <a:lnTo>
                        <a:pt x="70" y="5"/>
                      </a:lnTo>
                      <a:lnTo>
                        <a:pt x="84" y="15"/>
                      </a:lnTo>
                      <a:lnTo>
                        <a:pt x="91" y="26"/>
                      </a:lnTo>
                      <a:lnTo>
                        <a:pt x="95" y="39"/>
                      </a:lnTo>
                      <a:lnTo>
                        <a:pt x="96" y="48"/>
                      </a:lnTo>
                      <a:lnTo>
                        <a:pt x="97" y="62"/>
                      </a:lnTo>
                      <a:lnTo>
                        <a:pt x="79" y="62"/>
                      </a:lnTo>
                      <a:lnTo>
                        <a:pt x="79" y="41"/>
                      </a:lnTo>
                      <a:lnTo>
                        <a:pt x="72" y="26"/>
                      </a:lnTo>
                      <a:lnTo>
                        <a:pt x="60" y="20"/>
                      </a:lnTo>
                      <a:lnTo>
                        <a:pt x="46" y="20"/>
                      </a:lnTo>
                      <a:lnTo>
                        <a:pt x="34" y="24"/>
                      </a:lnTo>
                      <a:lnTo>
                        <a:pt x="23" y="36"/>
                      </a:lnTo>
                      <a:lnTo>
                        <a:pt x="20" y="51"/>
                      </a:lnTo>
                      <a:lnTo>
                        <a:pt x="20" y="67"/>
                      </a:lnTo>
                      <a:lnTo>
                        <a:pt x="20" y="361"/>
                      </a:lnTo>
                      <a:lnTo>
                        <a:pt x="0" y="361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7975440" y="5554800"/>
                  <a:ext cx="49320" cy="28440"/>
                  <a:chOff x="7975440" y="5554800"/>
                  <a:chExt cx="49320" cy="2844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7975440" y="5554800"/>
                    <a:ext cx="367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2">
                        <a:moveTo>
                          <a:pt x="0" y="92"/>
                        </a:moveTo>
                        <a:lnTo>
                          <a:pt x="139" y="92"/>
                        </a:lnTo>
                        <a:lnTo>
                          <a:pt x="139" y="0"/>
                        </a:lnTo>
                        <a:lnTo>
                          <a:pt x="1" y="0"/>
                        </a:lnTo>
                        <a:lnTo>
                          <a:pt x="0" y="92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8012160" y="5554800"/>
                    <a:ext cx="12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1">
                        <a:moveTo>
                          <a:pt x="0" y="0"/>
                        </a:moveTo>
                        <a:lnTo>
                          <a:pt x="0" y="91"/>
                        </a:lnTo>
                        <a:lnTo>
                          <a:pt x="45" y="87"/>
                        </a:lnTo>
                        <a:lnTo>
                          <a:pt x="45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7" name=""/>
                <p:cNvSpPr/>
                <p:nvPr/>
              </p:nvSpPr>
              <p:spPr>
                <a:xfrm>
                  <a:off x="8137440" y="5497560"/>
                  <a:ext cx="12960" cy="60120"/>
                </a:xfrm>
                <a:custGeom>
                  <a:avLst/>
                  <a:gdLst/>
                  <a:ahLst/>
                  <a:rect l="l" t="t" r="r" b="b"/>
                  <a:pathLst>
                    <a:path w="48" h="187">
                      <a:moveTo>
                        <a:pt x="0" y="31"/>
                      </a:moveTo>
                      <a:lnTo>
                        <a:pt x="1" y="21"/>
                      </a:lnTo>
                      <a:lnTo>
                        <a:pt x="3" y="11"/>
                      </a:lnTo>
                      <a:lnTo>
                        <a:pt x="10" y="4"/>
                      </a:lnTo>
                      <a:lnTo>
                        <a:pt x="19" y="0"/>
                      </a:lnTo>
                      <a:lnTo>
                        <a:pt x="28" y="0"/>
                      </a:lnTo>
                      <a:lnTo>
                        <a:pt x="35" y="3"/>
                      </a:lnTo>
                      <a:lnTo>
                        <a:pt x="42" y="7"/>
                      </a:lnTo>
                      <a:lnTo>
                        <a:pt x="45" y="14"/>
                      </a:lnTo>
                      <a:lnTo>
                        <a:pt x="47" y="20"/>
                      </a:lnTo>
                      <a:lnTo>
                        <a:pt x="47" y="25"/>
                      </a:lnTo>
                      <a:lnTo>
                        <a:pt x="48" y="31"/>
                      </a:lnTo>
                      <a:lnTo>
                        <a:pt x="39" y="31"/>
                      </a:lnTo>
                      <a:lnTo>
                        <a:pt x="39" y="21"/>
                      </a:lnTo>
                      <a:lnTo>
                        <a:pt x="36" y="14"/>
                      </a:lnTo>
                      <a:lnTo>
                        <a:pt x="29" y="10"/>
                      </a:lnTo>
                      <a:lnTo>
                        <a:pt x="22" y="10"/>
                      </a:lnTo>
                      <a:lnTo>
                        <a:pt x="17" y="12"/>
                      </a:lnTo>
                      <a:lnTo>
                        <a:pt x="11" y="19"/>
                      </a:lnTo>
                      <a:lnTo>
                        <a:pt x="10" y="26"/>
                      </a:lnTo>
                      <a:lnTo>
                        <a:pt x="10" y="36"/>
                      </a:lnTo>
                      <a:lnTo>
                        <a:pt x="10" y="187"/>
                      </a:lnTo>
                      <a:lnTo>
                        <a:pt x="0" y="187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8" name=""/>
                <p:cNvGrpSpPr/>
                <p:nvPr/>
              </p:nvGrpSpPr>
              <p:grpSpPr>
                <a:xfrm>
                  <a:off x="7972560" y="5470560"/>
                  <a:ext cx="15840" cy="111240"/>
                  <a:chOff x="7972560" y="5470560"/>
                  <a:chExt cx="15840" cy="111240"/>
                </a:xfrm>
              </p:grpSpPr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7972560" y="5545080"/>
                    <a:ext cx="15840" cy="36720"/>
                    <a:chOff x="7972560" y="5545080"/>
                    <a:chExt cx="15840" cy="3672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7972560" y="5562720"/>
                      <a:ext cx="14040" cy="190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7972560" y="556272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57">
                          <a:moveTo>
                            <a:pt x="0" y="0"/>
                          </a:moveTo>
                          <a:lnTo>
                            <a:pt x="59" y="57"/>
                          </a:lnTo>
                          <a:lnTo>
                            <a:pt x="59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7974000" y="5546880"/>
                      <a:ext cx="12600" cy="140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7972560" y="5545080"/>
                      <a:ext cx="1584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58">
                          <a:moveTo>
                            <a:pt x="0" y="0"/>
                          </a:moveTo>
                          <a:lnTo>
                            <a:pt x="59" y="58"/>
                          </a:lnTo>
                          <a:lnTo>
                            <a:pt x="59" y="0"/>
                          </a:lnTo>
                          <a:lnTo>
                            <a:pt x="0" y="5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7972560" y="5506920"/>
                    <a:ext cx="15840" cy="38160"/>
                    <a:chOff x="7972560" y="5506920"/>
                    <a:chExt cx="15840" cy="38160"/>
                  </a:xfrm>
                </p:grpSpPr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7972560" y="5526000"/>
                      <a:ext cx="14040" cy="176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7972560" y="552600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58">
                          <a:moveTo>
                            <a:pt x="0" y="0"/>
                          </a:moveTo>
                          <a:lnTo>
                            <a:pt x="59" y="58"/>
                          </a:lnTo>
                          <a:lnTo>
                            <a:pt x="59" y="0"/>
                          </a:lnTo>
                          <a:lnTo>
                            <a:pt x="0" y="5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7974000" y="5508720"/>
                      <a:ext cx="12600" cy="158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7972560" y="550692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59">
                          <a:moveTo>
                            <a:pt x="0" y="0"/>
                          </a:moveTo>
                          <a:lnTo>
                            <a:pt x="59" y="59"/>
                          </a:lnTo>
                          <a:lnTo>
                            <a:pt x="59" y="0"/>
                          </a:lnTo>
                          <a:lnTo>
                            <a:pt x="0" y="59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7972560" y="5470560"/>
                    <a:ext cx="15840" cy="36360"/>
                    <a:chOff x="7972560" y="5470560"/>
                    <a:chExt cx="15840" cy="36360"/>
                  </a:xfrm>
                </p:grpSpPr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7972560" y="5489640"/>
                      <a:ext cx="14040" cy="1728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7972560" y="5489640"/>
                      <a:ext cx="1584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58">
                          <a:moveTo>
                            <a:pt x="0" y="0"/>
                          </a:moveTo>
                          <a:lnTo>
                            <a:pt x="59" y="58"/>
                          </a:lnTo>
                          <a:lnTo>
                            <a:pt x="59" y="0"/>
                          </a:lnTo>
                          <a:lnTo>
                            <a:pt x="0" y="58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7974000" y="5472000"/>
                      <a:ext cx="12600" cy="1584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7972560" y="547056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57">
                          <a:moveTo>
                            <a:pt x="0" y="0"/>
                          </a:moveTo>
                          <a:lnTo>
                            <a:pt x="59" y="57"/>
                          </a:lnTo>
                          <a:lnTo>
                            <a:pt x="59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64" name=""/>
                <p:cNvSpPr/>
                <p:nvPr/>
              </p:nvSpPr>
              <p:spPr>
                <a:xfrm>
                  <a:off x="7348680" y="5389560"/>
                  <a:ext cx="561960" cy="136440"/>
                </a:xfrm>
                <a:custGeom>
                  <a:avLst/>
                  <a:gdLst/>
                  <a:ahLst/>
                  <a:rect l="l" t="t" r="r" b="b"/>
                  <a:pathLst>
                    <a:path w="2122" h="427">
                      <a:moveTo>
                        <a:pt x="2122" y="0"/>
                      </a:moveTo>
                      <a:lnTo>
                        <a:pt x="2122" y="80"/>
                      </a:lnTo>
                      <a:lnTo>
                        <a:pt x="1294" y="145"/>
                      </a:lnTo>
                      <a:lnTo>
                        <a:pt x="1099" y="405"/>
                      </a:lnTo>
                      <a:lnTo>
                        <a:pt x="0" y="427"/>
                      </a:lnTo>
                      <a:lnTo>
                        <a:pt x="0" y="377"/>
                      </a:lnTo>
                      <a:lnTo>
                        <a:pt x="1030" y="340"/>
                      </a:lnTo>
                      <a:lnTo>
                        <a:pt x="1247" y="73"/>
                      </a:lnTo>
                      <a:lnTo>
                        <a:pt x="2122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5" name=""/>
                <p:cNvGrpSpPr/>
                <p:nvPr/>
              </p:nvGrpSpPr>
              <p:grpSpPr>
                <a:xfrm>
                  <a:off x="7753320" y="5343480"/>
                  <a:ext cx="63360" cy="76320"/>
                  <a:chOff x="7753320" y="5343480"/>
                  <a:chExt cx="63360" cy="7632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7773840" y="5345280"/>
                    <a:ext cx="4284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236">
                        <a:moveTo>
                          <a:pt x="83" y="0"/>
                        </a:moveTo>
                        <a:lnTo>
                          <a:pt x="162" y="34"/>
                        </a:lnTo>
                        <a:lnTo>
                          <a:pt x="162" y="103"/>
                        </a:lnTo>
                        <a:lnTo>
                          <a:pt x="92" y="107"/>
                        </a:lnTo>
                        <a:lnTo>
                          <a:pt x="54" y="222"/>
                        </a:lnTo>
                        <a:lnTo>
                          <a:pt x="0" y="236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7753320" y="5343480"/>
                    <a:ext cx="446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240">
                        <a:moveTo>
                          <a:pt x="86" y="21"/>
                        </a:moveTo>
                        <a:lnTo>
                          <a:pt x="164" y="0"/>
                        </a:lnTo>
                        <a:lnTo>
                          <a:pt x="78" y="235"/>
                        </a:lnTo>
                        <a:lnTo>
                          <a:pt x="0" y="240"/>
                        </a:lnTo>
                        <a:lnTo>
                          <a:pt x="86" y="21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7843680" y="5322960"/>
                  <a:ext cx="73080" cy="87120"/>
                  <a:chOff x="7843680" y="5322960"/>
                  <a:chExt cx="73080" cy="871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7843680" y="5322960"/>
                    <a:ext cx="525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76">
                        <a:moveTo>
                          <a:pt x="104" y="14"/>
                        </a:moveTo>
                        <a:lnTo>
                          <a:pt x="193" y="0"/>
                        </a:lnTo>
                        <a:lnTo>
                          <a:pt x="100" y="270"/>
                        </a:lnTo>
                        <a:lnTo>
                          <a:pt x="0" y="276"/>
                        </a:lnTo>
                        <a:lnTo>
                          <a:pt x="104" y="14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7870680" y="5322960"/>
                    <a:ext cx="460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266">
                        <a:moveTo>
                          <a:pt x="95" y="0"/>
                        </a:moveTo>
                        <a:lnTo>
                          <a:pt x="0" y="266"/>
                        </a:lnTo>
                        <a:lnTo>
                          <a:pt x="60" y="240"/>
                        </a:lnTo>
                        <a:lnTo>
                          <a:pt x="99" y="125"/>
                        </a:lnTo>
                        <a:lnTo>
                          <a:pt x="176" y="118"/>
                        </a:lnTo>
                        <a:lnTo>
                          <a:pt x="176" y="45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7913520" y="5551560"/>
                  <a:ext cx="66960" cy="39600"/>
                  <a:chOff x="7913520" y="5551560"/>
                  <a:chExt cx="66960" cy="3960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7913520" y="5553000"/>
                    <a:ext cx="49320" cy="36720"/>
                  </a:xfrm>
                  <a:prstGeom prst="rect">
                    <a:avLst/>
                  </a:prstGeom>
                  <a:solidFill>
                    <a:srgbClr val="009f9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7964640" y="5551560"/>
                    <a:ext cx="1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28">
                        <a:moveTo>
                          <a:pt x="0" y="0"/>
                        </a:moveTo>
                        <a:lnTo>
                          <a:pt x="0" y="128"/>
                        </a:lnTo>
                        <a:lnTo>
                          <a:pt x="65" y="122"/>
                        </a:lnTo>
                        <a:lnTo>
                          <a:pt x="65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7689960" y="5438880"/>
                  <a:ext cx="176040" cy="149040"/>
                  <a:chOff x="7689960" y="5438880"/>
                  <a:chExt cx="176040" cy="14904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7689960" y="5445000"/>
                    <a:ext cx="82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33">
                        <a:moveTo>
                          <a:pt x="0" y="15"/>
                        </a:moveTo>
                        <a:lnTo>
                          <a:pt x="279" y="0"/>
                        </a:lnTo>
                        <a:lnTo>
                          <a:pt x="310" y="25"/>
                        </a:lnTo>
                        <a:lnTo>
                          <a:pt x="27" y="33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7689960" y="5448240"/>
                    <a:ext cx="79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6">
                        <a:moveTo>
                          <a:pt x="0" y="426"/>
                        </a:moveTo>
                        <a:lnTo>
                          <a:pt x="0" y="0"/>
                        </a:lnTo>
                        <a:lnTo>
                          <a:pt x="30" y="21"/>
                        </a:lnTo>
                        <a:lnTo>
                          <a:pt x="30" y="426"/>
                        </a:lnTo>
                        <a:lnTo>
                          <a:pt x="0" y="426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7763040" y="5443560"/>
                    <a:ext cx="7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49">
                        <a:moveTo>
                          <a:pt x="0" y="449"/>
                        </a:moveTo>
                        <a:lnTo>
                          <a:pt x="0" y="0"/>
                        </a:lnTo>
                        <a:lnTo>
                          <a:pt x="30" y="24"/>
                        </a:lnTo>
                        <a:lnTo>
                          <a:pt x="30" y="449"/>
                        </a:lnTo>
                        <a:lnTo>
                          <a:pt x="0" y="449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7763040" y="5440320"/>
                    <a:ext cx="10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86" h="40">
                        <a:moveTo>
                          <a:pt x="0" y="15"/>
                        </a:moveTo>
                        <a:lnTo>
                          <a:pt x="337" y="0"/>
                        </a:lnTo>
                        <a:lnTo>
                          <a:pt x="386" y="26"/>
                        </a:lnTo>
                        <a:lnTo>
                          <a:pt x="34" y="4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7854840" y="5438880"/>
                    <a:ext cx="111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67">
                        <a:moveTo>
                          <a:pt x="0" y="467"/>
                        </a:moveTo>
                        <a:lnTo>
                          <a:pt x="0" y="0"/>
                        </a:lnTo>
                        <a:lnTo>
                          <a:pt x="38" y="25"/>
                        </a:lnTo>
                        <a:lnTo>
                          <a:pt x="38" y="467"/>
                        </a:lnTo>
                        <a:lnTo>
                          <a:pt x="0" y="467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7359480" y="5548320"/>
                  <a:ext cx="228600" cy="31680"/>
                  <a:chOff x="7359480" y="5548320"/>
                  <a:chExt cx="228600" cy="31680"/>
                </a:xfrm>
              </p:grpSpPr>
              <p:grpSp>
                <p:nvGrpSpPr>
                  <p:cNvPr id="681" name=""/>
                  <p:cNvGrpSpPr/>
                  <p:nvPr/>
                </p:nvGrpSpPr>
                <p:grpSpPr>
                  <a:xfrm>
                    <a:off x="7359480" y="5548320"/>
                    <a:ext cx="114480" cy="31680"/>
                    <a:chOff x="7359480" y="5548320"/>
                    <a:chExt cx="114480" cy="31680"/>
                  </a:xfrm>
                </p:grpSpPr>
                <p:grpSp>
                  <p:nvGrpSpPr>
                    <p:cNvPr id="682" name=""/>
                    <p:cNvGrpSpPr/>
                    <p:nvPr/>
                  </p:nvGrpSpPr>
                  <p:grpSpPr>
                    <a:xfrm>
                      <a:off x="7359480" y="5548320"/>
                      <a:ext cx="28800" cy="31680"/>
                      <a:chOff x="7359480" y="5548320"/>
                      <a:chExt cx="28800" cy="31680"/>
                    </a:xfrm>
                  </p:grpSpPr>
                  <p:sp>
                    <p:nvSpPr>
                      <p:cNvPr id="683" name=""/>
                      <p:cNvSpPr/>
                      <p:nvPr/>
                    </p:nvSpPr>
                    <p:spPr>
                      <a:xfrm>
                        <a:off x="7361280" y="5549760"/>
                        <a:ext cx="25200" cy="2880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4" name=""/>
                      <p:cNvSpPr/>
                      <p:nvPr/>
                    </p:nvSpPr>
                    <p:spPr>
                      <a:xfrm>
                        <a:off x="7359480" y="5548320"/>
                        <a:ext cx="288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2">
                            <a:moveTo>
                              <a:pt x="0" y="0"/>
                            </a:moveTo>
                            <a:lnTo>
                              <a:pt x="108" y="102"/>
                            </a:lnTo>
                            <a:lnTo>
                              <a:pt x="108" y="0"/>
                            </a:lnTo>
                            <a:lnTo>
                              <a:pt x="0" y="10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5" name=""/>
                    <p:cNvGrpSpPr/>
                    <p:nvPr/>
                  </p:nvGrpSpPr>
                  <p:grpSpPr>
                    <a:xfrm>
                      <a:off x="7388280" y="5548320"/>
                      <a:ext cx="28440" cy="31680"/>
                      <a:chOff x="7388280" y="5548320"/>
                      <a:chExt cx="28440" cy="31680"/>
                    </a:xfrm>
                  </p:grpSpPr>
                  <p:sp>
                    <p:nvSpPr>
                      <p:cNvPr id="686" name=""/>
                      <p:cNvSpPr/>
                      <p:nvPr/>
                    </p:nvSpPr>
                    <p:spPr>
                      <a:xfrm>
                        <a:off x="7389720" y="5549760"/>
                        <a:ext cx="25560" cy="2880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7388280" y="5548320"/>
                        <a:ext cx="284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2">
                            <a:moveTo>
                              <a:pt x="0" y="0"/>
                            </a:moveTo>
                            <a:lnTo>
                              <a:pt x="108" y="102"/>
                            </a:lnTo>
                            <a:lnTo>
                              <a:pt x="108" y="0"/>
                            </a:lnTo>
                            <a:lnTo>
                              <a:pt x="0" y="10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8" name=""/>
                    <p:cNvGrpSpPr/>
                    <p:nvPr/>
                  </p:nvGrpSpPr>
                  <p:grpSpPr>
                    <a:xfrm>
                      <a:off x="7416720" y="5548320"/>
                      <a:ext cx="28800" cy="31680"/>
                      <a:chOff x="7416720" y="5548320"/>
                      <a:chExt cx="28800" cy="31680"/>
                    </a:xfrm>
                  </p:grpSpPr>
                  <p:sp>
                    <p:nvSpPr>
                      <p:cNvPr id="689" name=""/>
                      <p:cNvSpPr/>
                      <p:nvPr/>
                    </p:nvSpPr>
                    <p:spPr>
                      <a:xfrm>
                        <a:off x="7418520" y="5549760"/>
                        <a:ext cx="25200" cy="2880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>
                        <a:off x="7416720" y="5548320"/>
                        <a:ext cx="288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2">
                            <a:moveTo>
                              <a:pt x="0" y="0"/>
                            </a:moveTo>
                            <a:lnTo>
                              <a:pt x="108" y="102"/>
                            </a:lnTo>
                            <a:lnTo>
                              <a:pt x="108" y="0"/>
                            </a:lnTo>
                            <a:lnTo>
                              <a:pt x="0" y="10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7445520" y="5548320"/>
                      <a:ext cx="28440" cy="31680"/>
                      <a:chOff x="7445520" y="5548320"/>
                      <a:chExt cx="28440" cy="31680"/>
                    </a:xfrm>
                  </p:grpSpPr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7446960" y="5549760"/>
                        <a:ext cx="25560" cy="2880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7445520" y="5548320"/>
                        <a:ext cx="284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2">
                            <a:moveTo>
                              <a:pt x="0" y="0"/>
                            </a:moveTo>
                            <a:lnTo>
                              <a:pt x="109" y="102"/>
                            </a:lnTo>
                            <a:lnTo>
                              <a:pt x="109" y="0"/>
                            </a:lnTo>
                            <a:lnTo>
                              <a:pt x="0" y="10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7473960" y="5548320"/>
                    <a:ext cx="114120" cy="31680"/>
                    <a:chOff x="7473960" y="5548320"/>
                    <a:chExt cx="114120" cy="31680"/>
                  </a:xfrm>
                </p:grpSpPr>
                <p:grpSp>
                  <p:nvGrpSpPr>
                    <p:cNvPr id="695" name=""/>
                    <p:cNvGrpSpPr/>
                    <p:nvPr/>
                  </p:nvGrpSpPr>
                  <p:grpSpPr>
                    <a:xfrm>
                      <a:off x="7473960" y="5548320"/>
                      <a:ext cx="28440" cy="31680"/>
                      <a:chOff x="7473960" y="5548320"/>
                      <a:chExt cx="28440" cy="31680"/>
                    </a:xfrm>
                  </p:grpSpPr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7475400" y="5549760"/>
                        <a:ext cx="25560" cy="2880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7473960" y="5548320"/>
                        <a:ext cx="284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2">
                            <a:moveTo>
                              <a:pt x="0" y="0"/>
                            </a:moveTo>
                            <a:lnTo>
                              <a:pt x="108" y="102"/>
                            </a:lnTo>
                            <a:lnTo>
                              <a:pt x="108" y="0"/>
                            </a:lnTo>
                            <a:lnTo>
                              <a:pt x="0" y="10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8" name=""/>
                    <p:cNvGrpSpPr/>
                    <p:nvPr/>
                  </p:nvGrpSpPr>
                  <p:grpSpPr>
                    <a:xfrm>
                      <a:off x="7502400" y="5548320"/>
                      <a:ext cx="28800" cy="31680"/>
                      <a:chOff x="7502400" y="5548320"/>
                      <a:chExt cx="28800" cy="31680"/>
                    </a:xfrm>
                  </p:grpSpPr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7504200" y="5549760"/>
                        <a:ext cx="25200" cy="2880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7502400" y="5548320"/>
                        <a:ext cx="288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2">
                            <a:moveTo>
                              <a:pt x="0" y="0"/>
                            </a:moveTo>
                            <a:lnTo>
                              <a:pt x="109" y="102"/>
                            </a:lnTo>
                            <a:lnTo>
                              <a:pt x="109" y="0"/>
                            </a:lnTo>
                            <a:lnTo>
                              <a:pt x="0" y="10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1" name=""/>
                    <p:cNvGrpSpPr/>
                    <p:nvPr/>
                  </p:nvGrpSpPr>
                  <p:grpSpPr>
                    <a:xfrm>
                      <a:off x="7531200" y="5548320"/>
                      <a:ext cx="28440" cy="31680"/>
                      <a:chOff x="7531200" y="5548320"/>
                      <a:chExt cx="28440" cy="31680"/>
                    </a:xfrm>
                  </p:grpSpPr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7532640" y="5549760"/>
                        <a:ext cx="25560" cy="2880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7531200" y="5548320"/>
                        <a:ext cx="284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2">
                            <a:moveTo>
                              <a:pt x="0" y="0"/>
                            </a:moveTo>
                            <a:lnTo>
                              <a:pt x="108" y="102"/>
                            </a:lnTo>
                            <a:lnTo>
                              <a:pt x="108" y="0"/>
                            </a:lnTo>
                            <a:lnTo>
                              <a:pt x="0" y="10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4" name=""/>
                    <p:cNvGrpSpPr/>
                    <p:nvPr/>
                  </p:nvGrpSpPr>
                  <p:grpSpPr>
                    <a:xfrm>
                      <a:off x="7559640" y="5548320"/>
                      <a:ext cx="28440" cy="31680"/>
                      <a:chOff x="7559640" y="5548320"/>
                      <a:chExt cx="28440" cy="31680"/>
                    </a:xfrm>
                  </p:grpSpPr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7561440" y="5549760"/>
                        <a:ext cx="25200" cy="28800"/>
                      </a:xfrm>
                      <a:prstGeom prst="rect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7559640" y="5548320"/>
                        <a:ext cx="284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2">
                            <a:moveTo>
                              <a:pt x="0" y="0"/>
                            </a:moveTo>
                            <a:lnTo>
                              <a:pt x="109" y="102"/>
                            </a:lnTo>
                            <a:lnTo>
                              <a:pt x="109" y="0"/>
                            </a:lnTo>
                            <a:lnTo>
                              <a:pt x="0" y="10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07" name=""/>
                  <p:cNvSpPr/>
                  <p:nvPr/>
                </p:nvSpPr>
                <p:spPr>
                  <a:xfrm>
                    <a:off x="7431120" y="5548320"/>
                    <a:ext cx="144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516800" y="5548320"/>
                    <a:ext cx="144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459560" y="5548320"/>
                    <a:ext cx="180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488360" y="5548320"/>
                    <a:ext cx="144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402680" y="5548320"/>
                    <a:ext cx="144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7373880" y="5548320"/>
                    <a:ext cx="180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545240" y="5548320"/>
                    <a:ext cx="180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7574040" y="5548320"/>
                    <a:ext cx="1440" cy="31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15" name=""/>
            <p:cNvSpPr/>
            <p:nvPr/>
          </p:nvSpPr>
          <p:spPr>
            <a:xfrm>
              <a:off x="5482080" y="450864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13120" y="463068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945040" y="4417920"/>
              <a:ext cx="1222560" cy="168480"/>
              <a:chOff x="5945040" y="4417920"/>
              <a:chExt cx="1222560" cy="168480"/>
            </a:xfrm>
          </p:grpSpPr>
          <p:sp>
            <p:nvSpPr>
              <p:cNvPr id="718" name=""/>
              <p:cNvSpPr/>
              <p:nvPr/>
            </p:nvSpPr>
            <p:spPr>
              <a:xfrm>
                <a:off x="5945040" y="4473720"/>
                <a:ext cx="1109880" cy="47520"/>
              </a:xfrm>
              <a:custGeom>
                <a:avLst/>
                <a:gdLst/>
                <a:ahLst/>
                <a:rect l="l" t="t" r="r" b="b"/>
                <a:pathLst>
                  <a:path w="1396" h="60">
                    <a:moveTo>
                      <a:pt x="0" y="0"/>
                    </a:moveTo>
                    <a:lnTo>
                      <a:pt x="0" y="53"/>
                    </a:lnTo>
                    <a:lnTo>
                      <a:pt x="1396" y="60"/>
                    </a:lnTo>
                    <a:lnTo>
                      <a:pt x="139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99120" y="4417920"/>
                <a:ext cx="168480" cy="16848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0" y="212"/>
                    </a:moveTo>
                    <a:lnTo>
                      <a:pt x="212" y="105"/>
                    </a:lnTo>
                    <a:lnTo>
                      <a:pt x="0" y="0"/>
                    </a:lnTo>
                    <a:lnTo>
                      <a:pt x="67" y="105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2789280" y="2984400"/>
              <a:ext cx="2342880" cy="1633320"/>
              <a:chOff x="2789280" y="2984400"/>
              <a:chExt cx="2342880" cy="1633320"/>
            </a:xfrm>
          </p:grpSpPr>
          <p:sp>
            <p:nvSpPr>
              <p:cNvPr id="721" name=""/>
              <p:cNvSpPr/>
              <p:nvPr/>
            </p:nvSpPr>
            <p:spPr>
              <a:xfrm>
                <a:off x="2789280" y="2984400"/>
                <a:ext cx="2261520" cy="1585800"/>
              </a:xfrm>
              <a:custGeom>
                <a:avLst/>
                <a:gdLst/>
                <a:ahLst/>
                <a:rect l="l" t="t" r="r" b="b"/>
                <a:pathLst>
                  <a:path w="2835" h="1938">
                    <a:moveTo>
                      <a:pt x="28" y="0"/>
                    </a:moveTo>
                    <a:lnTo>
                      <a:pt x="0" y="44"/>
                    </a:lnTo>
                    <a:lnTo>
                      <a:pt x="2807" y="1938"/>
                    </a:lnTo>
                    <a:lnTo>
                      <a:pt x="2835" y="1895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944240" y="4447440"/>
                <a:ext cx="187920" cy="170280"/>
              </a:xfrm>
              <a:custGeom>
                <a:avLst/>
                <a:gdLst/>
                <a:ahLst/>
                <a:rect l="l" t="t" r="r" b="b"/>
                <a:pathLst>
                  <a:path w="236" h="207">
                    <a:moveTo>
                      <a:pt x="0" y="175"/>
                    </a:moveTo>
                    <a:lnTo>
                      <a:pt x="236" y="207"/>
                    </a:lnTo>
                    <a:lnTo>
                      <a:pt x="121" y="0"/>
                    </a:lnTo>
                    <a:lnTo>
                      <a:pt x="116" y="12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3035160" y="5299200"/>
              <a:ext cx="4008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7459560" y="4348080"/>
              <a:ext cx="990720" cy="523800"/>
              <a:chOff x="7459560" y="4348080"/>
              <a:chExt cx="990720" cy="52380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7684920" y="4379760"/>
                <a:ext cx="309600" cy="235080"/>
                <a:chOff x="7684920" y="4379760"/>
                <a:chExt cx="309600" cy="235080"/>
              </a:xfrm>
            </p:grpSpPr>
            <p:grpSp>
              <p:nvGrpSpPr>
                <p:cNvPr id="726" name=""/>
                <p:cNvGrpSpPr/>
                <p:nvPr/>
              </p:nvGrpSpPr>
              <p:grpSpPr>
                <a:xfrm>
                  <a:off x="7684920" y="4379760"/>
                  <a:ext cx="309600" cy="235080"/>
                  <a:chOff x="7684920" y="4379760"/>
                  <a:chExt cx="309600" cy="23508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7684920" y="4430880"/>
                    <a:ext cx="3096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7" h="147">
                        <a:moveTo>
                          <a:pt x="434" y="147"/>
                        </a:moveTo>
                        <a:lnTo>
                          <a:pt x="587" y="69"/>
                        </a:lnTo>
                        <a:lnTo>
                          <a:pt x="164" y="0"/>
                        </a:lnTo>
                        <a:lnTo>
                          <a:pt x="0" y="80"/>
                        </a:lnTo>
                        <a:lnTo>
                          <a:pt x="434" y="147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701120" y="4379760"/>
                    <a:ext cx="2570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71">
                        <a:moveTo>
                          <a:pt x="0" y="36"/>
                        </a:moveTo>
                        <a:lnTo>
                          <a:pt x="380" y="71"/>
                        </a:lnTo>
                        <a:lnTo>
                          <a:pt x="488" y="39"/>
                        </a:lnTo>
                        <a:lnTo>
                          <a:pt x="116" y="0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7902720" y="4389480"/>
                    <a:ext cx="568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301">
                        <a:moveTo>
                          <a:pt x="0" y="31"/>
                        </a:moveTo>
                        <a:lnTo>
                          <a:pt x="108" y="0"/>
                        </a:lnTo>
                        <a:lnTo>
                          <a:pt x="108" y="252"/>
                        </a:lnTo>
                        <a:lnTo>
                          <a:pt x="0" y="301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699320" y="4387680"/>
                    <a:ext cx="20340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2" h="302">
                        <a:moveTo>
                          <a:pt x="1" y="0"/>
                        </a:moveTo>
                        <a:lnTo>
                          <a:pt x="382" y="35"/>
                        </a:lnTo>
                        <a:lnTo>
                          <a:pt x="382" y="302"/>
                        </a:lnTo>
                        <a:lnTo>
                          <a:pt x="0" y="24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7913520" y="4444920"/>
                    <a:ext cx="810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748">
                        <a:moveTo>
                          <a:pt x="153" y="0"/>
                        </a:moveTo>
                        <a:lnTo>
                          <a:pt x="0" y="79"/>
                        </a:lnTo>
                        <a:lnTo>
                          <a:pt x="0" y="748"/>
                        </a:lnTo>
                        <a:lnTo>
                          <a:pt x="153" y="652"/>
                        </a:lnTo>
                        <a:lnTo>
                          <a:pt x="153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7684920" y="4448160"/>
                    <a:ext cx="2304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737">
                        <a:moveTo>
                          <a:pt x="0" y="0"/>
                        </a:moveTo>
                        <a:lnTo>
                          <a:pt x="436" y="68"/>
                        </a:lnTo>
                        <a:lnTo>
                          <a:pt x="434" y="737"/>
                        </a:lnTo>
                        <a:lnTo>
                          <a:pt x="0" y="6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3" name=""/>
                <p:cNvGrpSpPr/>
                <p:nvPr/>
              </p:nvGrpSpPr>
              <p:grpSpPr>
                <a:xfrm>
                  <a:off x="7709040" y="4390920"/>
                  <a:ext cx="196560" cy="98640"/>
                  <a:chOff x="7709040" y="4390920"/>
                  <a:chExt cx="196560" cy="9864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7709040" y="4390920"/>
                    <a:ext cx="29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7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7746840" y="440064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6">
                        <a:moveTo>
                          <a:pt x="0" y="0"/>
                        </a:moveTo>
                        <a:lnTo>
                          <a:pt x="57" y="6"/>
                        </a:lnTo>
                        <a:lnTo>
                          <a:pt x="57" y="26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7790040" y="4394160"/>
                    <a:ext cx="29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6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26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7834320" y="439596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6">
                        <a:moveTo>
                          <a:pt x="0" y="0"/>
                        </a:moveTo>
                        <a:lnTo>
                          <a:pt x="57" y="6"/>
                        </a:lnTo>
                        <a:lnTo>
                          <a:pt x="57" y="26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7834320" y="4405320"/>
                    <a:ext cx="30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5">
                        <a:moveTo>
                          <a:pt x="0" y="0"/>
                        </a:moveTo>
                        <a:lnTo>
                          <a:pt x="57" y="5"/>
                        </a:lnTo>
                        <a:lnTo>
                          <a:pt x="57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7788240" y="4414680"/>
                    <a:ext cx="30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6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26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7834320" y="4425840"/>
                    <a:ext cx="30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5">
                        <a:moveTo>
                          <a:pt x="0" y="0"/>
                        </a:moveTo>
                        <a:lnTo>
                          <a:pt x="57" y="5"/>
                        </a:lnTo>
                        <a:lnTo>
                          <a:pt x="57" y="25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7873920" y="446580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7">
                        <a:moveTo>
                          <a:pt x="0" y="0"/>
                        </a:moveTo>
                        <a:lnTo>
                          <a:pt x="56" y="7"/>
                        </a:lnTo>
                        <a:lnTo>
                          <a:pt x="56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7875720" y="4484520"/>
                    <a:ext cx="29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5">
                        <a:moveTo>
                          <a:pt x="0" y="0"/>
                        </a:moveTo>
                        <a:lnTo>
                          <a:pt x="56" y="5"/>
                        </a:lnTo>
                        <a:lnTo>
                          <a:pt x="56" y="25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3" name=""/>
              <p:cNvGrpSpPr/>
              <p:nvPr/>
            </p:nvGrpSpPr>
            <p:grpSpPr>
              <a:xfrm>
                <a:off x="7931160" y="4348080"/>
                <a:ext cx="384120" cy="328680"/>
                <a:chOff x="7931160" y="4348080"/>
                <a:chExt cx="384120" cy="328680"/>
              </a:xfrm>
            </p:grpSpPr>
            <p:grpSp>
              <p:nvGrpSpPr>
                <p:cNvPr id="744" name=""/>
                <p:cNvGrpSpPr/>
                <p:nvPr/>
              </p:nvGrpSpPr>
              <p:grpSpPr>
                <a:xfrm>
                  <a:off x="7931160" y="4348080"/>
                  <a:ext cx="384120" cy="328680"/>
                  <a:chOff x="7931160" y="4348080"/>
                  <a:chExt cx="384120" cy="32868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7934400" y="4441680"/>
                    <a:ext cx="38088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721" h="278">
                        <a:moveTo>
                          <a:pt x="0" y="203"/>
                        </a:moveTo>
                        <a:lnTo>
                          <a:pt x="408" y="278"/>
                        </a:lnTo>
                        <a:lnTo>
                          <a:pt x="721" y="54"/>
                        </a:lnTo>
                        <a:lnTo>
                          <a:pt x="329" y="0"/>
                        </a:lnTo>
                        <a:lnTo>
                          <a:pt x="0" y="203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7986600" y="4387680"/>
                    <a:ext cx="1587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472">
                        <a:moveTo>
                          <a:pt x="0" y="0"/>
                        </a:moveTo>
                        <a:lnTo>
                          <a:pt x="301" y="23"/>
                        </a:lnTo>
                        <a:lnTo>
                          <a:pt x="301" y="472"/>
                        </a:lnTo>
                        <a:lnTo>
                          <a:pt x="0" y="40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8143920" y="4370400"/>
                    <a:ext cx="1364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548">
                        <a:moveTo>
                          <a:pt x="0" y="102"/>
                        </a:moveTo>
                        <a:lnTo>
                          <a:pt x="0" y="548"/>
                        </a:lnTo>
                        <a:lnTo>
                          <a:pt x="258" y="369"/>
                        </a:lnTo>
                        <a:lnTo>
                          <a:pt x="258" y="0"/>
                        </a:lnTo>
                        <a:lnTo>
                          <a:pt x="0" y="102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7986600" y="4365720"/>
                    <a:ext cx="293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5" h="123">
                        <a:moveTo>
                          <a:pt x="0" y="100"/>
                        </a:moveTo>
                        <a:lnTo>
                          <a:pt x="297" y="123"/>
                        </a:lnTo>
                        <a:lnTo>
                          <a:pt x="555" y="21"/>
                        </a:lnTo>
                        <a:lnTo>
                          <a:pt x="297" y="0"/>
                        </a:lnTo>
                        <a:lnTo>
                          <a:pt x="0" y="100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8024760" y="4348080"/>
                    <a:ext cx="2142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74">
                        <a:moveTo>
                          <a:pt x="0" y="59"/>
                        </a:moveTo>
                        <a:lnTo>
                          <a:pt x="215" y="74"/>
                        </a:lnTo>
                        <a:lnTo>
                          <a:pt x="405" y="18"/>
                        </a:lnTo>
                        <a:lnTo>
                          <a:pt x="202" y="0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8024760" y="4361040"/>
                    <a:ext cx="111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114">
                        <a:moveTo>
                          <a:pt x="0" y="0"/>
                        </a:moveTo>
                        <a:lnTo>
                          <a:pt x="212" y="14"/>
                        </a:lnTo>
                        <a:lnTo>
                          <a:pt x="212" y="114"/>
                        </a:lnTo>
                        <a:lnTo>
                          <a:pt x="0" y="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8136000" y="4351320"/>
                    <a:ext cx="1029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55">
                        <a:moveTo>
                          <a:pt x="0" y="56"/>
                        </a:moveTo>
                        <a:lnTo>
                          <a:pt x="0" y="155"/>
                        </a:lnTo>
                        <a:lnTo>
                          <a:pt x="193" y="80"/>
                        </a:lnTo>
                        <a:lnTo>
                          <a:pt x="193" y="0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8148600" y="4452840"/>
                    <a:ext cx="16668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983">
                        <a:moveTo>
                          <a:pt x="316" y="0"/>
                        </a:moveTo>
                        <a:lnTo>
                          <a:pt x="2" y="226"/>
                        </a:lnTo>
                        <a:lnTo>
                          <a:pt x="0" y="983"/>
                        </a:lnTo>
                        <a:lnTo>
                          <a:pt x="316" y="687"/>
                        </a:lnTo>
                        <a:lnTo>
                          <a:pt x="316" y="0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7931160" y="4487760"/>
                    <a:ext cx="2174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832">
                        <a:moveTo>
                          <a:pt x="4" y="0"/>
                        </a:moveTo>
                        <a:lnTo>
                          <a:pt x="411" y="75"/>
                        </a:lnTo>
                        <a:lnTo>
                          <a:pt x="411" y="832"/>
                        </a:lnTo>
                        <a:lnTo>
                          <a:pt x="0" y="69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7956720" y="4390920"/>
                  <a:ext cx="171360" cy="139680"/>
                  <a:chOff x="7956720" y="4390920"/>
                  <a:chExt cx="171360" cy="139680"/>
                </a:xfrm>
              </p:grpSpPr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7996320" y="4390920"/>
                    <a:ext cx="131760" cy="31680"/>
                    <a:chOff x="7996320" y="4390920"/>
                    <a:chExt cx="131760" cy="3168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7996320" y="4390920"/>
                      <a:ext cx="270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112">
                          <a:moveTo>
                            <a:pt x="0" y="0"/>
                          </a:moveTo>
                          <a:lnTo>
                            <a:pt x="51" y="5"/>
                          </a:lnTo>
                          <a:lnTo>
                            <a:pt x="51" y="112"/>
                          </a:lnTo>
                          <a:lnTo>
                            <a:pt x="2" y="10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8031240" y="4392720"/>
                      <a:ext cx="270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113">
                          <a:moveTo>
                            <a:pt x="0" y="0"/>
                          </a:moveTo>
                          <a:lnTo>
                            <a:pt x="49" y="4"/>
                          </a:lnTo>
                          <a:lnTo>
                            <a:pt x="49" y="113"/>
                          </a:lnTo>
                          <a:lnTo>
                            <a:pt x="0" y="10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8066160" y="4394160"/>
                      <a:ext cx="28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16">
                          <a:moveTo>
                            <a:pt x="0" y="0"/>
                          </a:moveTo>
                          <a:lnTo>
                            <a:pt x="53" y="5"/>
                          </a:lnTo>
                          <a:lnTo>
                            <a:pt x="51" y="116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8102520" y="4395960"/>
                      <a:ext cx="255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120">
                          <a:moveTo>
                            <a:pt x="0" y="0"/>
                          </a:moveTo>
                          <a:lnTo>
                            <a:pt x="49" y="6"/>
                          </a:lnTo>
                          <a:lnTo>
                            <a:pt x="49" y="120"/>
                          </a:lnTo>
                          <a:lnTo>
                            <a:pt x="0" y="1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0" name=""/>
                  <p:cNvGrpSpPr/>
                  <p:nvPr/>
                </p:nvGrpSpPr>
                <p:grpSpPr>
                  <a:xfrm>
                    <a:off x="7996320" y="4421160"/>
                    <a:ext cx="131760" cy="33480"/>
                    <a:chOff x="7996320" y="4421160"/>
                    <a:chExt cx="131760" cy="33480"/>
                  </a:xfrm>
                </p:grpSpPr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7996320" y="4421160"/>
                      <a:ext cx="270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115">
                          <a:moveTo>
                            <a:pt x="0" y="0"/>
                          </a:moveTo>
                          <a:lnTo>
                            <a:pt x="51" y="8"/>
                          </a:lnTo>
                          <a:lnTo>
                            <a:pt x="51" y="115"/>
                          </a:lnTo>
                          <a:lnTo>
                            <a:pt x="1" y="1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8031240" y="442260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16">
                          <a:moveTo>
                            <a:pt x="1" y="0"/>
                          </a:moveTo>
                          <a:lnTo>
                            <a:pt x="50" y="9"/>
                          </a:lnTo>
                          <a:lnTo>
                            <a:pt x="49" y="116"/>
                          </a:lnTo>
                          <a:lnTo>
                            <a:pt x="0" y="107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8066160" y="4425840"/>
                      <a:ext cx="270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14">
                          <a:moveTo>
                            <a:pt x="0" y="0"/>
                          </a:moveTo>
                          <a:lnTo>
                            <a:pt x="53" y="7"/>
                          </a:lnTo>
                          <a:lnTo>
                            <a:pt x="51" y="114"/>
                          </a:lnTo>
                          <a:lnTo>
                            <a:pt x="0" y="1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8101080" y="44276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115">
                          <a:moveTo>
                            <a:pt x="0" y="0"/>
                          </a:moveTo>
                          <a:lnTo>
                            <a:pt x="49" y="8"/>
                          </a:lnTo>
                          <a:lnTo>
                            <a:pt x="49" y="115"/>
                          </a:lnTo>
                          <a:lnTo>
                            <a:pt x="0" y="10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7956720" y="4494240"/>
                    <a:ext cx="163440" cy="36360"/>
                    <a:chOff x="7956720" y="4494240"/>
                    <a:chExt cx="163440" cy="36360"/>
                  </a:xfrm>
                </p:grpSpPr>
                <p:grpSp>
                  <p:nvGrpSpPr>
                    <p:cNvPr id="766" name=""/>
                    <p:cNvGrpSpPr/>
                    <p:nvPr/>
                  </p:nvGrpSpPr>
                  <p:grpSpPr>
                    <a:xfrm>
                      <a:off x="7956720" y="4494240"/>
                      <a:ext cx="163440" cy="23760"/>
                      <a:chOff x="7956720" y="4494240"/>
                      <a:chExt cx="163440" cy="23760"/>
                    </a:xfrm>
                  </p:grpSpPr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7997760" y="4497480"/>
                        <a:ext cx="367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3">
                            <a:moveTo>
                              <a:pt x="1" y="0"/>
                            </a:moveTo>
                            <a:lnTo>
                              <a:pt x="67" y="12"/>
                            </a:lnTo>
                            <a:lnTo>
                              <a:pt x="67" y="53"/>
                            </a:lnTo>
                            <a:lnTo>
                              <a:pt x="0" y="39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8042400" y="4502160"/>
                        <a:ext cx="349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56">
                            <a:moveTo>
                              <a:pt x="0" y="0"/>
                            </a:moveTo>
                            <a:lnTo>
                              <a:pt x="66" y="13"/>
                            </a:lnTo>
                            <a:lnTo>
                              <a:pt x="66" y="56"/>
                            </a:lnTo>
                            <a:lnTo>
                              <a:pt x="0" y="4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8085240" y="4505400"/>
                        <a:ext cx="349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56">
                            <a:moveTo>
                              <a:pt x="0" y="0"/>
                            </a:moveTo>
                            <a:lnTo>
                              <a:pt x="66" y="14"/>
                            </a:lnTo>
                            <a:lnTo>
                              <a:pt x="66" y="56"/>
                            </a:lnTo>
                            <a:lnTo>
                              <a:pt x="0" y="4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0" name=""/>
                      <p:cNvSpPr/>
                      <p:nvPr/>
                    </p:nvSpPr>
                    <p:spPr>
                      <a:xfrm>
                        <a:off x="7956720" y="4494240"/>
                        <a:ext cx="349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53">
                            <a:moveTo>
                              <a:pt x="0" y="0"/>
                            </a:moveTo>
                            <a:lnTo>
                              <a:pt x="66" y="13"/>
                            </a:lnTo>
                            <a:lnTo>
                              <a:pt x="66" y="53"/>
                            </a:lnTo>
                            <a:lnTo>
                              <a:pt x="0" y="3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1" name=""/>
                    <p:cNvGrpSpPr/>
                    <p:nvPr/>
                  </p:nvGrpSpPr>
                  <p:grpSpPr>
                    <a:xfrm>
                      <a:off x="7956720" y="4506840"/>
                      <a:ext cx="163440" cy="23760"/>
                      <a:chOff x="7956720" y="4506840"/>
                      <a:chExt cx="163440" cy="23760"/>
                    </a:xfrm>
                  </p:grpSpPr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7997760" y="4511520"/>
                        <a:ext cx="367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4">
                            <a:moveTo>
                              <a:pt x="2" y="0"/>
                            </a:moveTo>
                            <a:lnTo>
                              <a:pt x="67" y="13"/>
                            </a:lnTo>
                            <a:lnTo>
                              <a:pt x="67" y="54"/>
                            </a:lnTo>
                            <a:lnTo>
                              <a:pt x="0" y="41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8042400" y="4514760"/>
                        <a:ext cx="3492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53">
                            <a:moveTo>
                              <a:pt x="0" y="0"/>
                            </a:moveTo>
                            <a:lnTo>
                              <a:pt x="66" y="13"/>
                            </a:lnTo>
                            <a:lnTo>
                              <a:pt x="66" y="53"/>
                            </a:lnTo>
                            <a:lnTo>
                              <a:pt x="0" y="4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8085240" y="4519440"/>
                        <a:ext cx="349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53">
                            <a:moveTo>
                              <a:pt x="0" y="0"/>
                            </a:moveTo>
                            <a:lnTo>
                              <a:pt x="66" y="14"/>
                            </a:lnTo>
                            <a:lnTo>
                              <a:pt x="66" y="53"/>
                            </a:lnTo>
                            <a:lnTo>
                              <a:pt x="0" y="3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5" name=""/>
                      <p:cNvSpPr/>
                      <p:nvPr/>
                    </p:nvSpPr>
                    <p:spPr>
                      <a:xfrm>
                        <a:off x="7956720" y="4506840"/>
                        <a:ext cx="349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54">
                            <a:moveTo>
                              <a:pt x="0" y="0"/>
                            </a:moveTo>
                            <a:lnTo>
                              <a:pt x="66" y="13"/>
                            </a:lnTo>
                            <a:lnTo>
                              <a:pt x="66" y="54"/>
                            </a:lnTo>
                            <a:lnTo>
                              <a:pt x="0" y="4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76" name=""/>
              <p:cNvGrpSpPr/>
              <p:nvPr/>
            </p:nvGrpSpPr>
            <p:grpSpPr>
              <a:xfrm>
                <a:off x="8178840" y="4465800"/>
                <a:ext cx="271440" cy="298440"/>
                <a:chOff x="8178840" y="4465800"/>
                <a:chExt cx="271440" cy="298440"/>
              </a:xfrm>
            </p:grpSpPr>
            <p:grpSp>
              <p:nvGrpSpPr>
                <p:cNvPr id="777" name=""/>
                <p:cNvGrpSpPr/>
                <p:nvPr/>
              </p:nvGrpSpPr>
              <p:grpSpPr>
                <a:xfrm>
                  <a:off x="8178840" y="4465800"/>
                  <a:ext cx="271440" cy="298440"/>
                  <a:chOff x="8178840" y="4465800"/>
                  <a:chExt cx="271440" cy="2984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8229600" y="4475160"/>
                    <a:ext cx="158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113">
                        <a:moveTo>
                          <a:pt x="0" y="88"/>
                        </a:moveTo>
                        <a:lnTo>
                          <a:pt x="185" y="113"/>
                        </a:lnTo>
                        <a:lnTo>
                          <a:pt x="301" y="16"/>
                        </a:lnTo>
                        <a:lnTo>
                          <a:pt x="126" y="0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8255160" y="4465800"/>
                    <a:ext cx="110880" cy="31680"/>
                    <a:chOff x="8255160" y="4465800"/>
                    <a:chExt cx="110880" cy="31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8255160" y="4478400"/>
                      <a:ext cx="6660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" h="83">
                          <a:moveTo>
                            <a:pt x="1" y="0"/>
                          </a:moveTo>
                          <a:lnTo>
                            <a:pt x="128" y="13"/>
                          </a:lnTo>
                          <a:lnTo>
                            <a:pt x="128" y="83"/>
                          </a:lnTo>
                          <a:lnTo>
                            <a:pt x="0" y="67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8321760" y="4468680"/>
                      <a:ext cx="4428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25">
                          <a:moveTo>
                            <a:pt x="0" y="57"/>
                          </a:moveTo>
                          <a:lnTo>
                            <a:pt x="0" y="125"/>
                          </a:lnTo>
                          <a:lnTo>
                            <a:pt x="83" y="57"/>
                          </a:lnTo>
                          <a:lnTo>
                            <a:pt x="83" y="0"/>
                          </a:lnTo>
                          <a:lnTo>
                            <a:pt x="0" y="57"/>
                          </a:lnTo>
                          <a:close/>
                        </a:path>
                      </a:pathLst>
                    </a:custGeom>
                    <a:solidFill>
                      <a:srgbClr val="00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8255160" y="4465800"/>
                      <a:ext cx="11088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68">
                          <a:moveTo>
                            <a:pt x="0" y="54"/>
                          </a:moveTo>
                          <a:lnTo>
                            <a:pt x="127" y="68"/>
                          </a:lnTo>
                          <a:lnTo>
                            <a:pt x="210" y="12"/>
                          </a:lnTo>
                          <a:lnTo>
                            <a:pt x="86" y="0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00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3" name=""/>
                  <p:cNvSpPr/>
                  <p:nvPr/>
                </p:nvSpPr>
                <p:spPr>
                  <a:xfrm>
                    <a:off x="8229600" y="4495680"/>
                    <a:ext cx="968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454">
                        <a:moveTo>
                          <a:pt x="0" y="0"/>
                        </a:moveTo>
                        <a:lnTo>
                          <a:pt x="183" y="24"/>
                        </a:lnTo>
                        <a:lnTo>
                          <a:pt x="183" y="454"/>
                        </a:lnTo>
                        <a:lnTo>
                          <a:pt x="0" y="40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8326440" y="4479840"/>
                    <a:ext cx="6192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525">
                        <a:moveTo>
                          <a:pt x="0" y="96"/>
                        </a:moveTo>
                        <a:lnTo>
                          <a:pt x="116" y="0"/>
                        </a:lnTo>
                        <a:lnTo>
                          <a:pt x="116" y="402"/>
                        </a:lnTo>
                        <a:lnTo>
                          <a:pt x="0" y="525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8325000" y="4570560"/>
                    <a:ext cx="1252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374">
                        <a:moveTo>
                          <a:pt x="118" y="0"/>
                        </a:moveTo>
                        <a:lnTo>
                          <a:pt x="0" y="122"/>
                        </a:lnTo>
                        <a:lnTo>
                          <a:pt x="45" y="374"/>
                        </a:lnTo>
                        <a:lnTo>
                          <a:pt x="236" y="138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8178840" y="4587840"/>
                    <a:ext cx="1699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296">
                        <a:moveTo>
                          <a:pt x="93" y="0"/>
                        </a:moveTo>
                        <a:lnTo>
                          <a:pt x="278" y="44"/>
                        </a:lnTo>
                        <a:lnTo>
                          <a:pt x="322" y="296"/>
                        </a:lnTo>
                        <a:lnTo>
                          <a:pt x="0" y="213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8346960" y="4602240"/>
                    <a:ext cx="10332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712">
                        <a:moveTo>
                          <a:pt x="2" y="236"/>
                        </a:moveTo>
                        <a:lnTo>
                          <a:pt x="193" y="0"/>
                        </a:lnTo>
                        <a:lnTo>
                          <a:pt x="193" y="386"/>
                        </a:lnTo>
                        <a:lnTo>
                          <a:pt x="0" y="712"/>
                        </a:lnTo>
                        <a:lnTo>
                          <a:pt x="2" y="236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8178840" y="4637160"/>
                    <a:ext cx="169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558">
                        <a:moveTo>
                          <a:pt x="0" y="0"/>
                        </a:moveTo>
                        <a:lnTo>
                          <a:pt x="321" y="82"/>
                        </a:lnTo>
                        <a:lnTo>
                          <a:pt x="321" y="558"/>
                        </a:lnTo>
                        <a:lnTo>
                          <a:pt x="0" y="4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8238960" y="4500720"/>
                  <a:ext cx="73080" cy="66600"/>
                  <a:chOff x="8238960" y="4500720"/>
                  <a:chExt cx="73080" cy="66600"/>
                </a:xfrm>
              </p:grpSpPr>
              <p:grpSp>
                <p:nvGrpSpPr>
                  <p:cNvPr id="790" name=""/>
                  <p:cNvGrpSpPr/>
                  <p:nvPr/>
                </p:nvGrpSpPr>
                <p:grpSpPr>
                  <a:xfrm>
                    <a:off x="8238960" y="4500720"/>
                    <a:ext cx="73080" cy="21960"/>
                    <a:chOff x="8238960" y="4500720"/>
                    <a:chExt cx="73080" cy="21960"/>
                  </a:xfrm>
                </p:grpSpPr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8238960" y="4500720"/>
                      <a:ext cx="1620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0">
                          <a:moveTo>
                            <a:pt x="0" y="0"/>
                          </a:moveTo>
                          <a:lnTo>
                            <a:pt x="29" y="4"/>
                          </a:lnTo>
                          <a:lnTo>
                            <a:pt x="29" y="80"/>
                          </a:lnTo>
                          <a:lnTo>
                            <a:pt x="0" y="7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8267760" y="450216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3">
                          <a:moveTo>
                            <a:pt x="0" y="0"/>
                          </a:moveTo>
                          <a:lnTo>
                            <a:pt x="29" y="4"/>
                          </a:lnTo>
                          <a:lnTo>
                            <a:pt x="29" y="83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8298000" y="4503600"/>
                      <a:ext cx="140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1">
                          <a:moveTo>
                            <a:pt x="0" y="0"/>
                          </a:moveTo>
                          <a:lnTo>
                            <a:pt x="29" y="4"/>
                          </a:lnTo>
                          <a:lnTo>
                            <a:pt x="29" y="81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8238960" y="4521240"/>
                    <a:ext cx="73080" cy="23760"/>
                    <a:chOff x="8238960" y="4521240"/>
                    <a:chExt cx="73080" cy="23760"/>
                  </a:xfrm>
                </p:grpSpPr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8238960" y="4521240"/>
                      <a:ext cx="1620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3">
                          <a:moveTo>
                            <a:pt x="0" y="0"/>
                          </a:moveTo>
                          <a:lnTo>
                            <a:pt x="29" y="7"/>
                          </a:lnTo>
                          <a:lnTo>
                            <a:pt x="29" y="83"/>
                          </a:lnTo>
                          <a:lnTo>
                            <a:pt x="0" y="7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8267760" y="4524480"/>
                      <a:ext cx="15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2">
                          <a:moveTo>
                            <a:pt x="0" y="0"/>
                          </a:moveTo>
                          <a:lnTo>
                            <a:pt x="29" y="6"/>
                          </a:lnTo>
                          <a:lnTo>
                            <a:pt x="29" y="82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8298000" y="4525920"/>
                      <a:ext cx="140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3">
                          <a:moveTo>
                            <a:pt x="0" y="0"/>
                          </a:moveTo>
                          <a:lnTo>
                            <a:pt x="29" y="7"/>
                          </a:lnTo>
                          <a:lnTo>
                            <a:pt x="29" y="83"/>
                          </a:lnTo>
                          <a:lnTo>
                            <a:pt x="0" y="7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8238960" y="4543560"/>
                    <a:ext cx="73080" cy="23760"/>
                    <a:chOff x="8238960" y="4543560"/>
                    <a:chExt cx="73080" cy="2376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8238960" y="4543560"/>
                      <a:ext cx="1620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4">
                          <a:moveTo>
                            <a:pt x="0" y="0"/>
                          </a:moveTo>
                          <a:lnTo>
                            <a:pt x="29" y="8"/>
                          </a:lnTo>
                          <a:lnTo>
                            <a:pt x="29" y="84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8267760" y="4546440"/>
                      <a:ext cx="1584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2">
                          <a:moveTo>
                            <a:pt x="0" y="0"/>
                          </a:moveTo>
                          <a:lnTo>
                            <a:pt x="29" y="5"/>
                          </a:lnTo>
                          <a:lnTo>
                            <a:pt x="29" y="82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8298000" y="4548240"/>
                      <a:ext cx="140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3">
                          <a:moveTo>
                            <a:pt x="0" y="0"/>
                          </a:moveTo>
                          <a:lnTo>
                            <a:pt x="29" y="7"/>
                          </a:lnTo>
                          <a:lnTo>
                            <a:pt x="29" y="83"/>
                          </a:lnTo>
                          <a:lnTo>
                            <a:pt x="0" y="7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02" name=""/>
              <p:cNvGrpSpPr/>
              <p:nvPr/>
            </p:nvGrpSpPr>
            <p:grpSpPr>
              <a:xfrm>
                <a:off x="7459560" y="4402080"/>
                <a:ext cx="406440" cy="365040"/>
                <a:chOff x="7459560" y="4402080"/>
                <a:chExt cx="406440" cy="36504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7459560" y="4424400"/>
                  <a:ext cx="406440" cy="39600"/>
                </a:xfrm>
                <a:custGeom>
                  <a:avLst/>
                  <a:gdLst/>
                  <a:ahLst/>
                  <a:rect l="l" t="t" r="r" b="b"/>
                  <a:pathLst>
                    <a:path w="767" h="176">
                      <a:moveTo>
                        <a:pt x="0" y="104"/>
                      </a:moveTo>
                      <a:lnTo>
                        <a:pt x="438" y="176"/>
                      </a:lnTo>
                      <a:lnTo>
                        <a:pt x="767" y="52"/>
                      </a:lnTo>
                      <a:lnTo>
                        <a:pt x="365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459560" y="4448160"/>
                  <a:ext cx="231840" cy="317520"/>
                </a:xfrm>
                <a:custGeom>
                  <a:avLst/>
                  <a:gdLst/>
                  <a:ahLst/>
                  <a:rect l="l" t="t" r="r" b="b"/>
                  <a:pathLst>
                    <a:path w="438" h="1406">
                      <a:moveTo>
                        <a:pt x="0" y="0"/>
                      </a:moveTo>
                      <a:lnTo>
                        <a:pt x="438" y="73"/>
                      </a:lnTo>
                      <a:lnTo>
                        <a:pt x="438" y="1406"/>
                      </a:lnTo>
                      <a:lnTo>
                        <a:pt x="345" y="1375"/>
                      </a:lnTo>
                      <a:lnTo>
                        <a:pt x="346" y="1207"/>
                      </a:lnTo>
                      <a:lnTo>
                        <a:pt x="223" y="1159"/>
                      </a:lnTo>
                      <a:lnTo>
                        <a:pt x="223" y="1309"/>
                      </a:lnTo>
                      <a:lnTo>
                        <a:pt x="153" y="1278"/>
                      </a:lnTo>
                      <a:lnTo>
                        <a:pt x="153" y="1128"/>
                      </a:lnTo>
                      <a:lnTo>
                        <a:pt x="55" y="1084"/>
                      </a:lnTo>
                      <a:lnTo>
                        <a:pt x="55" y="1236"/>
                      </a:lnTo>
                      <a:lnTo>
                        <a:pt x="0" y="12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5" name=""/>
                <p:cNvGrpSpPr/>
                <p:nvPr/>
              </p:nvGrpSpPr>
              <p:grpSpPr>
                <a:xfrm>
                  <a:off x="7467480" y="4402080"/>
                  <a:ext cx="398520" cy="365040"/>
                  <a:chOff x="7467480" y="4402080"/>
                  <a:chExt cx="398520" cy="36504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>
                    <a:off x="7691400" y="4435560"/>
                    <a:ext cx="17460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459">
                        <a:moveTo>
                          <a:pt x="0" y="124"/>
                        </a:moveTo>
                        <a:lnTo>
                          <a:pt x="326" y="0"/>
                        </a:lnTo>
                        <a:lnTo>
                          <a:pt x="330" y="1128"/>
                        </a:lnTo>
                        <a:lnTo>
                          <a:pt x="0" y="1459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7" name=""/>
                  <p:cNvGrpSpPr/>
                  <p:nvPr/>
                </p:nvGrpSpPr>
                <p:grpSpPr>
                  <a:xfrm>
                    <a:off x="7577280" y="4708440"/>
                    <a:ext cx="68040" cy="36720"/>
                    <a:chOff x="7577280" y="4708440"/>
                    <a:chExt cx="68040" cy="36720"/>
                  </a:xfrm>
                </p:grpSpPr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7615080" y="4716360"/>
                      <a:ext cx="302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10">
                          <a:moveTo>
                            <a:pt x="0" y="0"/>
                          </a:moveTo>
                          <a:lnTo>
                            <a:pt x="0" y="83"/>
                          </a:lnTo>
                          <a:lnTo>
                            <a:pt x="57" y="110"/>
                          </a:lnTo>
                          <a:lnTo>
                            <a:pt x="57" y="2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7577280" y="4708440"/>
                      <a:ext cx="3960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56">
                          <a:moveTo>
                            <a:pt x="0" y="0"/>
                          </a:moveTo>
                          <a:lnTo>
                            <a:pt x="0" y="156"/>
                          </a:lnTo>
                          <a:lnTo>
                            <a:pt x="74" y="111"/>
                          </a:lnTo>
                          <a:lnTo>
                            <a:pt x="74" y="3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7488360" y="4692600"/>
                    <a:ext cx="68040" cy="34920"/>
                    <a:chOff x="7488360" y="4692600"/>
                    <a:chExt cx="68040" cy="3492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7526160" y="4699080"/>
                      <a:ext cx="3024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10">
                          <a:moveTo>
                            <a:pt x="0" y="0"/>
                          </a:moveTo>
                          <a:lnTo>
                            <a:pt x="0" y="84"/>
                          </a:lnTo>
                          <a:lnTo>
                            <a:pt x="57" y="110"/>
                          </a:lnTo>
                          <a:lnTo>
                            <a:pt x="57" y="2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7488360" y="4692600"/>
                      <a:ext cx="3960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59">
                          <a:moveTo>
                            <a:pt x="0" y="0"/>
                          </a:moveTo>
                          <a:lnTo>
                            <a:pt x="0" y="159"/>
                          </a:lnTo>
                          <a:lnTo>
                            <a:pt x="74" y="114"/>
                          </a:lnTo>
                          <a:lnTo>
                            <a:pt x="74" y="3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7467480" y="4454640"/>
                    <a:ext cx="208080" cy="252360"/>
                    <a:chOff x="7467480" y="4454640"/>
                    <a:chExt cx="208080" cy="25236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7475400" y="4456080"/>
                      <a:ext cx="189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7" h="1109">
                          <a:moveTo>
                            <a:pt x="0" y="0"/>
                          </a:moveTo>
                          <a:lnTo>
                            <a:pt x="357" y="59"/>
                          </a:lnTo>
                          <a:lnTo>
                            <a:pt x="357" y="1109"/>
                          </a:lnTo>
                          <a:lnTo>
                            <a:pt x="2" y="95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5" name=""/>
                    <p:cNvGrpSpPr/>
                    <p:nvPr/>
                  </p:nvGrpSpPr>
                  <p:grpSpPr>
                    <a:xfrm>
                      <a:off x="7467480" y="4454640"/>
                      <a:ext cx="208080" cy="247680"/>
                      <a:chOff x="7467480" y="4454640"/>
                      <a:chExt cx="208080" cy="247680"/>
                    </a:xfrm>
                  </p:grpSpPr>
                  <p:sp>
                    <p:nvSpPr>
                      <p:cNvPr id="816" name=""/>
                      <p:cNvSpPr/>
                      <p:nvPr/>
                    </p:nvSpPr>
                    <p:spPr>
                      <a:xfrm>
                        <a:off x="7469280" y="4643280"/>
                        <a:ext cx="206280" cy="3024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7467480" y="4611600"/>
                        <a:ext cx="206640" cy="2700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8" name=""/>
                      <p:cNvSpPr/>
                      <p:nvPr/>
                    </p:nvSpPr>
                    <p:spPr>
                      <a:xfrm>
                        <a:off x="7472520" y="4579920"/>
                        <a:ext cx="2016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9" name=""/>
                      <p:cNvSpPr/>
                      <p:nvPr/>
                    </p:nvSpPr>
                    <p:spPr>
                      <a:xfrm>
                        <a:off x="7470720" y="4545000"/>
                        <a:ext cx="201600" cy="2232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0" name=""/>
                      <p:cNvSpPr/>
                      <p:nvPr/>
                    </p:nvSpPr>
                    <p:spPr>
                      <a:xfrm>
                        <a:off x="7473960" y="4513320"/>
                        <a:ext cx="198360" cy="1728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7467480" y="4483080"/>
                        <a:ext cx="203400" cy="1440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7516800" y="4454640"/>
                        <a:ext cx="1440" cy="23004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" name=""/>
                      <p:cNvSpPr/>
                      <p:nvPr/>
                    </p:nvSpPr>
                    <p:spPr>
                      <a:xfrm>
                        <a:off x="7562880" y="4459320"/>
                        <a:ext cx="1440" cy="23508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7613640" y="4462560"/>
                        <a:ext cx="1440" cy="23976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7547040" y="4402080"/>
                    <a:ext cx="241200" cy="52560"/>
                    <a:chOff x="7547040" y="4402080"/>
                    <a:chExt cx="241200" cy="52560"/>
                  </a:xfrm>
                </p:grpSpPr>
                <p:grpSp>
                  <p:nvGrpSpPr>
                    <p:cNvPr id="826" name=""/>
                    <p:cNvGrpSpPr/>
                    <p:nvPr/>
                  </p:nvGrpSpPr>
                  <p:grpSpPr>
                    <a:xfrm>
                      <a:off x="7547040" y="4402080"/>
                      <a:ext cx="241200" cy="52560"/>
                      <a:chOff x="7547040" y="4402080"/>
                      <a:chExt cx="241200" cy="52560"/>
                    </a:xfrm>
                  </p:grpSpPr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7547040" y="4402080"/>
                        <a:ext cx="24120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7" h="90">
                            <a:moveTo>
                              <a:pt x="0" y="58"/>
                            </a:moveTo>
                            <a:lnTo>
                              <a:pt x="266" y="90"/>
                            </a:lnTo>
                            <a:lnTo>
                              <a:pt x="457" y="29"/>
                            </a:lnTo>
                            <a:lnTo>
                              <a:pt x="199" y="0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df3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7686720" y="4410000"/>
                        <a:ext cx="100080" cy="44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197">
                            <a:moveTo>
                              <a:pt x="0" y="61"/>
                            </a:moveTo>
                            <a:lnTo>
                              <a:pt x="189" y="0"/>
                            </a:lnTo>
                            <a:lnTo>
                              <a:pt x="189" y="125"/>
                            </a:lnTo>
                            <a:lnTo>
                              <a:pt x="0" y="197"/>
                            </a:lnTo>
                            <a:lnTo>
                              <a:pt x="0" y="61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7547040" y="4416480"/>
                        <a:ext cx="13968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5" h="168">
                            <a:moveTo>
                              <a:pt x="265" y="32"/>
                            </a:moveTo>
                            <a:lnTo>
                              <a:pt x="265" y="168"/>
                            </a:lnTo>
                            <a:lnTo>
                              <a:pt x="0" y="130"/>
                            </a:lnTo>
                            <a:lnTo>
                              <a:pt x="0" y="0"/>
                            </a:lnTo>
                            <a:lnTo>
                              <a:pt x="265" y="32"/>
                            </a:lnTo>
                            <a:close/>
                          </a:path>
                        </a:pathLst>
                      </a:custGeom>
                      <a:solidFill>
                        <a:srgbClr val="ff5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7564320" y="4422600"/>
                      <a:ext cx="81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40">
                          <a:moveTo>
                            <a:pt x="1" y="0"/>
                          </a:moveTo>
                          <a:lnTo>
                            <a:pt x="152" y="16"/>
                          </a:lnTo>
                          <a:lnTo>
                            <a:pt x="152" y="40"/>
                          </a:lnTo>
                          <a:lnTo>
                            <a:pt x="0" y="2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31" name=""/>
              <p:cNvGrpSpPr/>
              <p:nvPr/>
            </p:nvGrpSpPr>
            <p:grpSpPr>
              <a:xfrm>
                <a:off x="7724880" y="4518000"/>
                <a:ext cx="387360" cy="290520"/>
                <a:chOff x="7724880" y="4518000"/>
                <a:chExt cx="387360" cy="290520"/>
              </a:xfrm>
            </p:grpSpPr>
            <p:grpSp>
              <p:nvGrpSpPr>
                <p:cNvPr id="832" name=""/>
                <p:cNvGrpSpPr/>
                <p:nvPr/>
              </p:nvGrpSpPr>
              <p:grpSpPr>
                <a:xfrm>
                  <a:off x="7724880" y="4518000"/>
                  <a:ext cx="387360" cy="290520"/>
                  <a:chOff x="7724880" y="4518000"/>
                  <a:chExt cx="387360" cy="29052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7724880" y="4522680"/>
                    <a:ext cx="3873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33" h="350">
                        <a:moveTo>
                          <a:pt x="0" y="257"/>
                        </a:moveTo>
                        <a:lnTo>
                          <a:pt x="354" y="350"/>
                        </a:lnTo>
                        <a:lnTo>
                          <a:pt x="733" y="65"/>
                        </a:lnTo>
                        <a:lnTo>
                          <a:pt x="427" y="0"/>
                        </a:lnTo>
                        <a:lnTo>
                          <a:pt x="0" y="257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7724880" y="4579920"/>
                    <a:ext cx="18720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1008">
                        <a:moveTo>
                          <a:pt x="0" y="0"/>
                        </a:moveTo>
                        <a:lnTo>
                          <a:pt x="354" y="92"/>
                        </a:lnTo>
                        <a:lnTo>
                          <a:pt x="354" y="1008"/>
                        </a:lnTo>
                        <a:lnTo>
                          <a:pt x="0" y="8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7912080" y="4537080"/>
                    <a:ext cx="20016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1200">
                        <a:moveTo>
                          <a:pt x="0" y="285"/>
                        </a:moveTo>
                        <a:lnTo>
                          <a:pt x="0" y="1200"/>
                        </a:lnTo>
                        <a:lnTo>
                          <a:pt x="379" y="766"/>
                        </a:lnTo>
                        <a:lnTo>
                          <a:pt x="379" y="0"/>
                        </a:lnTo>
                        <a:lnTo>
                          <a:pt x="0" y="285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6" name=""/>
                  <p:cNvGrpSpPr/>
                  <p:nvPr/>
                </p:nvGrpSpPr>
                <p:grpSpPr>
                  <a:xfrm>
                    <a:off x="7773840" y="4518000"/>
                    <a:ext cx="293760" cy="71640"/>
                    <a:chOff x="7773840" y="4518000"/>
                    <a:chExt cx="293760" cy="71640"/>
                  </a:xfrm>
                </p:grpSpPr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7773840" y="4518000"/>
                      <a:ext cx="2937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7" h="262">
                          <a:moveTo>
                            <a:pt x="0" y="197"/>
                          </a:moveTo>
                          <a:lnTo>
                            <a:pt x="254" y="262"/>
                          </a:lnTo>
                          <a:lnTo>
                            <a:pt x="557" y="44"/>
                          </a:lnTo>
                          <a:lnTo>
                            <a:pt x="333" y="0"/>
                          </a:lnTo>
                          <a:lnTo>
                            <a:pt x="0" y="197"/>
                          </a:lnTo>
                          <a:close/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7907400" y="4527720"/>
                      <a:ext cx="16020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" h="274">
                          <a:moveTo>
                            <a:pt x="0" y="217"/>
                          </a:moveTo>
                          <a:lnTo>
                            <a:pt x="304" y="0"/>
                          </a:lnTo>
                          <a:lnTo>
                            <a:pt x="304" y="51"/>
                          </a:lnTo>
                          <a:lnTo>
                            <a:pt x="0" y="274"/>
                          </a:lnTo>
                          <a:lnTo>
                            <a:pt x="0" y="217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7773840" y="4562640"/>
                      <a:ext cx="1335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121">
                          <a:moveTo>
                            <a:pt x="253" y="64"/>
                          </a:moveTo>
                          <a:lnTo>
                            <a:pt x="253" y="121"/>
                          </a:lnTo>
                          <a:lnTo>
                            <a:pt x="0" y="53"/>
                          </a:lnTo>
                          <a:lnTo>
                            <a:pt x="0" y="0"/>
                          </a:lnTo>
                          <a:lnTo>
                            <a:pt x="253" y="64"/>
                          </a:lnTo>
                          <a:close/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7734240" y="4587840"/>
                  <a:ext cx="166680" cy="211320"/>
                  <a:chOff x="7734240" y="4587840"/>
                  <a:chExt cx="166680" cy="21132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>
                    <a:off x="7734240" y="4587840"/>
                    <a:ext cx="16668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933">
                        <a:moveTo>
                          <a:pt x="0" y="0"/>
                        </a:moveTo>
                        <a:lnTo>
                          <a:pt x="316" y="83"/>
                        </a:lnTo>
                        <a:lnTo>
                          <a:pt x="316" y="933"/>
                        </a:lnTo>
                        <a:lnTo>
                          <a:pt x="0" y="79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7758000" y="4591080"/>
                    <a:ext cx="1764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26">
                        <a:moveTo>
                          <a:pt x="1" y="0"/>
                        </a:moveTo>
                        <a:lnTo>
                          <a:pt x="0" y="814"/>
                        </a:lnTo>
                        <a:lnTo>
                          <a:pt x="33" y="826"/>
                        </a:lnTo>
                        <a:lnTo>
                          <a:pt x="34" y="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7804080" y="4594320"/>
                    <a:ext cx="1908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844">
                        <a:moveTo>
                          <a:pt x="0" y="0"/>
                        </a:moveTo>
                        <a:lnTo>
                          <a:pt x="0" y="828"/>
                        </a:lnTo>
                        <a:lnTo>
                          <a:pt x="33" y="844"/>
                        </a:lnTo>
                        <a:lnTo>
                          <a:pt x="36" y="1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7853400" y="4600440"/>
                    <a:ext cx="1908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850">
                        <a:moveTo>
                          <a:pt x="1" y="0"/>
                        </a:moveTo>
                        <a:lnTo>
                          <a:pt x="0" y="831"/>
                        </a:lnTo>
                        <a:lnTo>
                          <a:pt x="36" y="850"/>
                        </a:lnTo>
                        <a:lnTo>
                          <a:pt x="34" y="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5" name=""/>
              <p:cNvGrpSpPr/>
              <p:nvPr/>
            </p:nvGrpSpPr>
            <p:grpSpPr>
              <a:xfrm>
                <a:off x="7993080" y="4532400"/>
                <a:ext cx="360360" cy="339480"/>
                <a:chOff x="7993080" y="4532400"/>
                <a:chExt cx="360360" cy="339480"/>
              </a:xfrm>
            </p:grpSpPr>
            <p:grpSp>
              <p:nvGrpSpPr>
                <p:cNvPr id="846" name=""/>
                <p:cNvGrpSpPr/>
                <p:nvPr/>
              </p:nvGrpSpPr>
              <p:grpSpPr>
                <a:xfrm>
                  <a:off x="7993080" y="4532400"/>
                  <a:ext cx="360360" cy="339480"/>
                  <a:chOff x="7993080" y="4532400"/>
                  <a:chExt cx="360360" cy="339480"/>
                </a:xfrm>
              </p:grpSpPr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8034480" y="4788000"/>
                    <a:ext cx="279360" cy="83880"/>
                    <a:chOff x="8034480" y="4788000"/>
                    <a:chExt cx="279360" cy="83880"/>
                  </a:xfrm>
                </p:grpSpPr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8034480" y="4819680"/>
                      <a:ext cx="1792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229">
                          <a:moveTo>
                            <a:pt x="0" y="0"/>
                          </a:moveTo>
                          <a:lnTo>
                            <a:pt x="0" y="69"/>
                          </a:lnTo>
                          <a:lnTo>
                            <a:pt x="338" y="229"/>
                          </a:lnTo>
                          <a:lnTo>
                            <a:pt x="338" y="15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8213760" y="4788000"/>
                      <a:ext cx="10008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368">
                          <a:moveTo>
                            <a:pt x="0" y="296"/>
                          </a:moveTo>
                          <a:lnTo>
                            <a:pt x="0" y="368"/>
                          </a:lnTo>
                          <a:lnTo>
                            <a:pt x="190" y="58"/>
                          </a:lnTo>
                          <a:lnTo>
                            <a:pt x="190" y="0"/>
                          </a:lnTo>
                          <a:lnTo>
                            <a:pt x="0" y="296"/>
                          </a:lnTo>
                          <a:close/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0" name=""/>
                  <p:cNvSpPr/>
                  <p:nvPr/>
                </p:nvSpPr>
                <p:spPr>
                  <a:xfrm>
                    <a:off x="7993080" y="4732200"/>
                    <a:ext cx="3603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1" h="567">
                        <a:moveTo>
                          <a:pt x="0" y="356"/>
                        </a:moveTo>
                        <a:lnTo>
                          <a:pt x="452" y="567"/>
                        </a:lnTo>
                        <a:lnTo>
                          <a:pt x="681" y="192"/>
                        </a:lnTo>
                        <a:lnTo>
                          <a:pt x="248" y="0"/>
                        </a:lnTo>
                        <a:lnTo>
                          <a:pt x="0" y="356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8026560" y="4653000"/>
                    <a:ext cx="284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537" h="323">
                        <a:moveTo>
                          <a:pt x="353" y="323"/>
                        </a:moveTo>
                        <a:lnTo>
                          <a:pt x="537" y="112"/>
                        </a:lnTo>
                        <a:lnTo>
                          <a:pt x="203" y="0"/>
                        </a:lnTo>
                        <a:lnTo>
                          <a:pt x="0" y="206"/>
                        </a:lnTo>
                        <a:lnTo>
                          <a:pt x="353" y="323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8169120" y="4532400"/>
                    <a:ext cx="986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379">
                        <a:moveTo>
                          <a:pt x="0" y="0"/>
                        </a:moveTo>
                        <a:lnTo>
                          <a:pt x="45" y="379"/>
                        </a:lnTo>
                        <a:lnTo>
                          <a:pt x="186" y="25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8083440" y="4532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381">
                        <a:moveTo>
                          <a:pt x="162" y="0"/>
                        </a:moveTo>
                        <a:lnTo>
                          <a:pt x="206" y="381"/>
                        </a:lnTo>
                        <a:lnTo>
                          <a:pt x="0" y="340"/>
                        </a:lnTo>
                        <a:lnTo>
                          <a:pt x="162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8083440" y="4610160"/>
                    <a:ext cx="10800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61">
                        <a:moveTo>
                          <a:pt x="0" y="0"/>
                        </a:moveTo>
                        <a:lnTo>
                          <a:pt x="205" y="40"/>
                        </a:lnTo>
                        <a:lnTo>
                          <a:pt x="205" y="461"/>
                        </a:lnTo>
                        <a:lnTo>
                          <a:pt x="0" y="3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8191440" y="4589640"/>
                    <a:ext cx="745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548">
                        <a:moveTo>
                          <a:pt x="0" y="126"/>
                        </a:moveTo>
                        <a:lnTo>
                          <a:pt x="141" y="0"/>
                        </a:lnTo>
                        <a:lnTo>
                          <a:pt x="141" y="391"/>
                        </a:lnTo>
                        <a:lnTo>
                          <a:pt x="0" y="548"/>
                        </a:lnTo>
                        <a:lnTo>
                          <a:pt x="0" y="126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8026560" y="4699080"/>
                    <a:ext cx="18540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1" h="617">
                        <a:moveTo>
                          <a:pt x="0" y="0"/>
                        </a:moveTo>
                        <a:lnTo>
                          <a:pt x="351" y="117"/>
                        </a:lnTo>
                        <a:lnTo>
                          <a:pt x="351" y="617"/>
                        </a:lnTo>
                        <a:lnTo>
                          <a:pt x="0" y="4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8211960" y="4678200"/>
                    <a:ext cx="986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712">
                        <a:moveTo>
                          <a:pt x="0" y="212"/>
                        </a:moveTo>
                        <a:lnTo>
                          <a:pt x="185" y="0"/>
                        </a:lnTo>
                        <a:lnTo>
                          <a:pt x="185" y="426"/>
                        </a:lnTo>
                        <a:lnTo>
                          <a:pt x="0" y="712"/>
                        </a:lnTo>
                        <a:lnTo>
                          <a:pt x="0" y="212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8061480" y="4621320"/>
                  <a:ext cx="115560" cy="195120"/>
                  <a:chOff x="8061480" y="4621320"/>
                  <a:chExt cx="115560" cy="19512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8118360" y="4621320"/>
                    <a:ext cx="37800" cy="55440"/>
                    <a:chOff x="8118360" y="4621320"/>
                    <a:chExt cx="37800" cy="5544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8128080" y="4621320"/>
                      <a:ext cx="2808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60198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601987"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8120160" y="4621320"/>
                      <a:ext cx="2484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70" y="9572"/>
                          </a:moveTo>
                          <a:arcTo wR="10800" hR="10800" stAng="-10408159" swAng="500815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70" y="9572"/>
                          </a:moveTo>
                          <a:arcTo wR="10800" hR="10800" stAng="-10408159" swAng="5008159"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8118360" y="4648320"/>
                      <a:ext cx="129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09">
                          <a:moveTo>
                            <a:pt x="0" y="0"/>
                          </a:moveTo>
                          <a:lnTo>
                            <a:pt x="0" y="101"/>
                          </a:lnTo>
                          <a:lnTo>
                            <a:pt x="24" y="109"/>
                          </a:lnTo>
                          <a:lnTo>
                            <a:pt x="24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8142120" y="4651200"/>
                      <a:ext cx="129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09">
                          <a:moveTo>
                            <a:pt x="0" y="0"/>
                          </a:moveTo>
                          <a:lnTo>
                            <a:pt x="0" y="100"/>
                          </a:lnTo>
                          <a:lnTo>
                            <a:pt x="24" y="109"/>
                          </a:lnTo>
                          <a:lnTo>
                            <a:pt x="24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4" name=""/>
                  <p:cNvGrpSpPr/>
                  <p:nvPr/>
                </p:nvGrpSpPr>
                <p:grpSpPr>
                  <a:xfrm>
                    <a:off x="8061480" y="4729320"/>
                    <a:ext cx="115560" cy="87120"/>
                    <a:chOff x="8061480" y="4729320"/>
                    <a:chExt cx="115560" cy="87120"/>
                  </a:xfrm>
                </p:grpSpPr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8061480" y="4759200"/>
                      <a:ext cx="11556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248">
                          <a:moveTo>
                            <a:pt x="0" y="0"/>
                          </a:moveTo>
                          <a:lnTo>
                            <a:pt x="0" y="155"/>
                          </a:lnTo>
                          <a:lnTo>
                            <a:pt x="217" y="248"/>
                          </a:lnTo>
                          <a:lnTo>
                            <a:pt x="217" y="9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8062920" y="4729320"/>
                      <a:ext cx="108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" h="186">
                          <a:moveTo>
                            <a:pt x="0" y="0"/>
                          </a:moveTo>
                          <a:lnTo>
                            <a:pt x="0" y="108"/>
                          </a:lnTo>
                          <a:lnTo>
                            <a:pt x="204" y="186"/>
                          </a:lnTo>
                          <a:lnTo>
                            <a:pt x="204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867" name=""/>
            <p:cNvGrpSpPr/>
            <p:nvPr/>
          </p:nvGrpSpPr>
          <p:grpSpPr>
            <a:xfrm>
              <a:off x="5942160" y="4678200"/>
              <a:ext cx="1463400" cy="536760"/>
              <a:chOff x="5942160" y="4678200"/>
              <a:chExt cx="1463400" cy="536760"/>
            </a:xfrm>
          </p:grpSpPr>
          <p:sp>
            <p:nvSpPr>
              <p:cNvPr id="868" name=""/>
              <p:cNvSpPr/>
              <p:nvPr/>
            </p:nvSpPr>
            <p:spPr>
              <a:xfrm>
                <a:off x="5942160" y="4678200"/>
                <a:ext cx="1363680" cy="492120"/>
              </a:xfrm>
              <a:custGeom>
                <a:avLst/>
                <a:gdLst/>
                <a:ahLst/>
                <a:rect l="l" t="t" r="r" b="b"/>
                <a:pathLst>
                  <a:path w="1719" h="621">
                    <a:moveTo>
                      <a:pt x="17" y="0"/>
                    </a:moveTo>
                    <a:lnTo>
                      <a:pt x="0" y="50"/>
                    </a:lnTo>
                    <a:lnTo>
                      <a:pt x="1702" y="621"/>
                    </a:lnTo>
                    <a:lnTo>
                      <a:pt x="1719" y="57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218360" y="5054760"/>
                <a:ext cx="187200" cy="160200"/>
              </a:xfrm>
              <a:custGeom>
                <a:avLst/>
                <a:gdLst/>
                <a:ahLst/>
                <a:rect l="l" t="t" r="r" b="b"/>
                <a:pathLst>
                  <a:path w="236" h="202">
                    <a:moveTo>
                      <a:pt x="0" y="202"/>
                    </a:moveTo>
                    <a:lnTo>
                      <a:pt x="236" y="170"/>
                    </a:lnTo>
                    <a:lnTo>
                      <a:pt x="69" y="0"/>
                    </a:lnTo>
                    <a:lnTo>
                      <a:pt x="99" y="122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4365360" y="5446800"/>
              <a:ext cx="106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Times New Roman"/>
                </a:rPr>
                <a:t>Preci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691000" y="1714680"/>
              <a:ext cx="6224400" cy="2972880"/>
              <a:chOff x="2691000" y="1714680"/>
              <a:chExt cx="6224400" cy="297288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2760840" y="2901960"/>
                <a:ext cx="2447280" cy="168120"/>
                <a:chOff x="2760840" y="2901960"/>
                <a:chExt cx="2447280" cy="16812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2760840" y="2962440"/>
                  <a:ext cx="2334960" cy="44280"/>
                </a:xfrm>
                <a:custGeom>
                  <a:avLst/>
                  <a:gdLst/>
                  <a:ahLst/>
                  <a:rect l="l" t="t" r="r" b="b"/>
                  <a:pathLst>
                    <a:path w="2942" h="55">
                      <a:moveTo>
                        <a:pt x="0" y="0"/>
                      </a:moveTo>
                      <a:lnTo>
                        <a:pt x="0" y="53"/>
                      </a:lnTo>
                      <a:lnTo>
                        <a:pt x="2942" y="55"/>
                      </a:lnTo>
                      <a:lnTo>
                        <a:pt x="294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040360" y="2901960"/>
                  <a:ext cx="167760" cy="168120"/>
                </a:xfrm>
                <a:custGeom>
                  <a:avLst/>
                  <a:gdLst/>
                  <a:ahLst/>
                  <a:rect l="l" t="t" r="r" b="b"/>
                  <a:pathLst>
                    <a:path w="212" h="212">
                      <a:moveTo>
                        <a:pt x="0" y="212"/>
                      </a:moveTo>
                      <a:lnTo>
                        <a:pt x="212" y="105"/>
                      </a:lnTo>
                      <a:lnTo>
                        <a:pt x="0" y="0"/>
                      </a:lnTo>
                      <a:lnTo>
                        <a:pt x="67" y="105"/>
                      </a:lnTo>
                      <a:lnTo>
                        <a:pt x="0" y="21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"/>
              <p:cNvGrpSpPr/>
              <p:nvPr/>
            </p:nvGrpSpPr>
            <p:grpSpPr>
              <a:xfrm>
                <a:off x="2691000" y="3165840"/>
                <a:ext cx="2301480" cy="1521720"/>
                <a:chOff x="2691000" y="3165840"/>
                <a:chExt cx="2301480" cy="1521720"/>
              </a:xfrm>
            </p:grpSpPr>
            <p:sp>
              <p:nvSpPr>
                <p:cNvPr id="876" name=""/>
                <p:cNvSpPr/>
                <p:nvPr/>
              </p:nvSpPr>
              <p:spPr>
                <a:xfrm rot="19668000">
                  <a:off x="2515680" y="3962160"/>
                  <a:ext cx="2498760" cy="64080"/>
                </a:xfrm>
                <a:custGeom>
                  <a:avLst/>
                  <a:gdLst/>
                  <a:ahLst/>
                  <a:rect l="l" t="t" r="r" b="b"/>
                  <a:pathLst>
                    <a:path w="2872" h="58">
                      <a:moveTo>
                        <a:pt x="0" y="0"/>
                      </a:moveTo>
                      <a:lnTo>
                        <a:pt x="0" y="53"/>
                      </a:lnTo>
                      <a:lnTo>
                        <a:pt x="2872" y="58"/>
                      </a:lnTo>
                      <a:lnTo>
                        <a:pt x="2872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rot="19668000">
                  <a:off x="4758120" y="3197160"/>
                  <a:ext cx="186120" cy="234360"/>
                </a:xfrm>
                <a:custGeom>
                  <a:avLst/>
                  <a:gdLst/>
                  <a:ahLst/>
                  <a:rect l="l" t="t" r="r" b="b"/>
                  <a:pathLst>
                    <a:path w="213" h="211">
                      <a:moveTo>
                        <a:pt x="0" y="211"/>
                      </a:moveTo>
                      <a:lnTo>
                        <a:pt x="213" y="106"/>
                      </a:lnTo>
                      <a:lnTo>
                        <a:pt x="0" y="0"/>
                      </a:lnTo>
                      <a:lnTo>
                        <a:pt x="67" y="106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3430440" y="2092320"/>
                <a:ext cx="1572120" cy="11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808080"/>
                    </a:solidFill>
                    <a:latin typeface="Times New Roman"/>
                  </a:rPr>
                  <a:t>Precio regulado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808080"/>
                    </a:solidFill>
                    <a:latin typeface="Times New Roman"/>
                  </a:rPr>
                  <a:t>Precio de nud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5067360" y="1714680"/>
                <a:ext cx="3848040" cy="2501640"/>
                <a:chOff x="5067360" y="1714680"/>
                <a:chExt cx="3848040" cy="2501640"/>
              </a:xfrm>
            </p:grpSpPr>
            <p:grpSp>
              <p:nvGrpSpPr>
                <p:cNvPr id="880" name=""/>
                <p:cNvGrpSpPr/>
                <p:nvPr/>
              </p:nvGrpSpPr>
              <p:grpSpPr>
                <a:xfrm>
                  <a:off x="7567560" y="3032280"/>
                  <a:ext cx="990720" cy="634680"/>
                  <a:chOff x="7567560" y="3032280"/>
                  <a:chExt cx="990720" cy="634680"/>
                </a:xfrm>
              </p:grpSpPr>
              <p:grpSp>
                <p:nvGrpSpPr>
                  <p:cNvPr id="881" name=""/>
                  <p:cNvGrpSpPr/>
                  <p:nvPr/>
                </p:nvGrpSpPr>
                <p:grpSpPr>
                  <a:xfrm>
                    <a:off x="7792920" y="3070080"/>
                    <a:ext cx="309600" cy="285840"/>
                    <a:chOff x="7792920" y="3070080"/>
                    <a:chExt cx="309600" cy="285840"/>
                  </a:xfrm>
                </p:grpSpPr>
                <p:grpSp>
                  <p:nvGrpSpPr>
                    <p:cNvPr id="882" name=""/>
                    <p:cNvGrpSpPr/>
                    <p:nvPr/>
                  </p:nvGrpSpPr>
                  <p:grpSpPr>
                    <a:xfrm>
                      <a:off x="7792920" y="3070080"/>
                      <a:ext cx="309600" cy="285840"/>
                      <a:chOff x="7792920" y="3070080"/>
                      <a:chExt cx="309600" cy="285840"/>
                    </a:xfrm>
                  </p:grpSpPr>
                  <p:sp>
                    <p:nvSpPr>
                      <p:cNvPr id="883" name=""/>
                      <p:cNvSpPr/>
                      <p:nvPr/>
                    </p:nvSpPr>
                    <p:spPr>
                      <a:xfrm>
                        <a:off x="7792920" y="3132000"/>
                        <a:ext cx="30960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7" h="152">
                            <a:moveTo>
                              <a:pt x="434" y="152"/>
                            </a:moveTo>
                            <a:lnTo>
                              <a:pt x="587" y="71"/>
                            </a:lnTo>
                            <a:lnTo>
                              <a:pt x="163" y="0"/>
                            </a:lnTo>
                            <a:lnTo>
                              <a:pt x="0" y="83"/>
                            </a:lnTo>
                            <a:lnTo>
                              <a:pt x="434" y="152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4" name=""/>
                      <p:cNvSpPr/>
                      <p:nvPr/>
                    </p:nvSpPr>
                    <p:spPr>
                      <a:xfrm>
                        <a:off x="7807320" y="3070080"/>
                        <a:ext cx="25884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74">
                            <a:moveTo>
                              <a:pt x="0" y="37"/>
                            </a:moveTo>
                            <a:lnTo>
                              <a:pt x="381" y="74"/>
                            </a:lnTo>
                            <a:lnTo>
                              <a:pt x="488" y="41"/>
                            </a:lnTo>
                            <a:lnTo>
                              <a:pt x="116" y="0"/>
                            </a:lnTo>
                            <a:lnTo>
                              <a:pt x="0" y="37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5" name=""/>
                      <p:cNvSpPr/>
                      <p:nvPr/>
                    </p:nvSpPr>
                    <p:spPr>
                      <a:xfrm>
                        <a:off x="8010360" y="3081240"/>
                        <a:ext cx="5580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313">
                            <a:moveTo>
                              <a:pt x="0" y="32"/>
                            </a:moveTo>
                            <a:lnTo>
                              <a:pt x="107" y="0"/>
                            </a:lnTo>
                            <a:lnTo>
                              <a:pt x="107" y="261"/>
                            </a:lnTo>
                            <a:lnTo>
                              <a:pt x="0" y="313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6" name=""/>
                      <p:cNvSpPr/>
                      <p:nvPr/>
                    </p:nvSpPr>
                    <p:spPr>
                      <a:xfrm>
                        <a:off x="7807320" y="3081240"/>
                        <a:ext cx="20304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3" h="315">
                            <a:moveTo>
                              <a:pt x="1" y="0"/>
                            </a:moveTo>
                            <a:lnTo>
                              <a:pt x="383" y="37"/>
                            </a:lnTo>
                            <a:lnTo>
                              <a:pt x="383" y="315"/>
                            </a:lnTo>
                            <a:lnTo>
                              <a:pt x="0" y="25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7" name=""/>
                      <p:cNvSpPr/>
                      <p:nvPr/>
                    </p:nvSpPr>
                    <p:spPr>
                      <a:xfrm>
                        <a:off x="8021520" y="3151080"/>
                        <a:ext cx="81000" cy="20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3" h="777">
                            <a:moveTo>
                              <a:pt x="153" y="0"/>
                            </a:moveTo>
                            <a:lnTo>
                              <a:pt x="0" y="82"/>
                            </a:lnTo>
                            <a:lnTo>
                              <a:pt x="0" y="777"/>
                            </a:lnTo>
                            <a:lnTo>
                              <a:pt x="153" y="677"/>
                            </a:lnTo>
                            <a:lnTo>
                              <a:pt x="153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8" name=""/>
                      <p:cNvSpPr/>
                      <p:nvPr/>
                    </p:nvSpPr>
                    <p:spPr>
                      <a:xfrm>
                        <a:off x="7792920" y="3154320"/>
                        <a:ext cx="230400" cy="20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5" h="765">
                            <a:moveTo>
                              <a:pt x="0" y="0"/>
                            </a:moveTo>
                            <a:lnTo>
                              <a:pt x="435" y="70"/>
                            </a:lnTo>
                            <a:lnTo>
                              <a:pt x="434" y="765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89" name=""/>
                    <p:cNvGrpSpPr/>
                    <p:nvPr/>
                  </p:nvGrpSpPr>
                  <p:grpSpPr>
                    <a:xfrm>
                      <a:off x="7816680" y="3084480"/>
                      <a:ext cx="195480" cy="119160"/>
                      <a:chOff x="7816680" y="3084480"/>
                      <a:chExt cx="195480" cy="119160"/>
                    </a:xfrm>
                  </p:grpSpPr>
                  <p:sp>
                    <p:nvSpPr>
                      <p:cNvPr id="890" name=""/>
                      <p:cNvSpPr/>
                      <p:nvPr/>
                    </p:nvSpPr>
                    <p:spPr>
                      <a:xfrm>
                        <a:off x="7816680" y="3084480"/>
                        <a:ext cx="302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8">
                            <a:moveTo>
                              <a:pt x="0" y="0"/>
                            </a:moveTo>
                            <a:lnTo>
                              <a:pt x="57" y="7"/>
                            </a:lnTo>
                            <a:lnTo>
                              <a:pt x="57" y="28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1" name=""/>
                      <p:cNvSpPr/>
                      <p:nvPr/>
                    </p:nvSpPr>
                    <p:spPr>
                      <a:xfrm>
                        <a:off x="7854840" y="3097080"/>
                        <a:ext cx="302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7">
                            <a:moveTo>
                              <a:pt x="0" y="0"/>
                            </a:moveTo>
                            <a:lnTo>
                              <a:pt x="57" y="6"/>
                            </a:lnTo>
                            <a:lnTo>
                              <a:pt x="57" y="27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2" name=""/>
                      <p:cNvSpPr/>
                      <p:nvPr/>
                    </p:nvSpPr>
                    <p:spPr>
                      <a:xfrm>
                        <a:off x="7897680" y="3087720"/>
                        <a:ext cx="30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27">
                            <a:moveTo>
                              <a:pt x="0" y="0"/>
                            </a:moveTo>
                            <a:lnTo>
                              <a:pt x="56" y="6"/>
                            </a:lnTo>
                            <a:lnTo>
                              <a:pt x="56" y="27"/>
                            </a:lnTo>
                            <a:lnTo>
                              <a:pt x="0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3" name=""/>
                      <p:cNvSpPr/>
                      <p:nvPr/>
                    </p:nvSpPr>
                    <p:spPr>
                      <a:xfrm>
                        <a:off x="7942320" y="3090960"/>
                        <a:ext cx="302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7">
                            <a:moveTo>
                              <a:pt x="0" y="0"/>
                            </a:moveTo>
                            <a:lnTo>
                              <a:pt x="57" y="6"/>
                            </a:lnTo>
                            <a:lnTo>
                              <a:pt x="57" y="27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7942320" y="3102120"/>
                        <a:ext cx="302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7">
                            <a:moveTo>
                              <a:pt x="0" y="0"/>
                            </a:moveTo>
                            <a:lnTo>
                              <a:pt x="57" y="6"/>
                            </a:lnTo>
                            <a:lnTo>
                              <a:pt x="57" y="27"/>
                            </a:lnTo>
                            <a:lnTo>
                              <a:pt x="0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5" name=""/>
                      <p:cNvSpPr/>
                      <p:nvPr/>
                    </p:nvSpPr>
                    <p:spPr>
                      <a:xfrm>
                        <a:off x="7896240" y="3112920"/>
                        <a:ext cx="302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27">
                            <a:moveTo>
                              <a:pt x="0" y="0"/>
                            </a:moveTo>
                            <a:lnTo>
                              <a:pt x="56" y="6"/>
                            </a:lnTo>
                            <a:lnTo>
                              <a:pt x="56" y="27"/>
                            </a:lnTo>
                            <a:lnTo>
                              <a:pt x="0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6" name=""/>
                      <p:cNvSpPr/>
                      <p:nvPr/>
                    </p:nvSpPr>
                    <p:spPr>
                      <a:xfrm>
                        <a:off x="7942320" y="3125880"/>
                        <a:ext cx="30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6">
                            <a:moveTo>
                              <a:pt x="0" y="0"/>
                            </a:moveTo>
                            <a:lnTo>
                              <a:pt x="57" y="6"/>
                            </a:lnTo>
                            <a:lnTo>
                              <a:pt x="57" y="26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7" name=""/>
                      <p:cNvSpPr/>
                      <p:nvPr/>
                    </p:nvSpPr>
                    <p:spPr>
                      <a:xfrm>
                        <a:off x="7981920" y="3174840"/>
                        <a:ext cx="30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8">
                            <a:moveTo>
                              <a:pt x="0" y="0"/>
                            </a:moveTo>
                            <a:lnTo>
                              <a:pt x="57" y="7"/>
                            </a:lnTo>
                            <a:lnTo>
                              <a:pt x="57" y="28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8" name=""/>
                      <p:cNvSpPr/>
                      <p:nvPr/>
                    </p:nvSpPr>
                    <p:spPr>
                      <a:xfrm>
                        <a:off x="7983360" y="3197160"/>
                        <a:ext cx="2880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26">
                            <a:moveTo>
                              <a:pt x="0" y="0"/>
                            </a:moveTo>
                            <a:lnTo>
                              <a:pt x="56" y="5"/>
                            </a:lnTo>
                            <a:lnTo>
                              <a:pt x="56" y="26"/>
                            </a:lnTo>
                            <a:lnTo>
                              <a:pt x="0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99" name=""/>
                  <p:cNvGrpSpPr/>
                  <p:nvPr/>
                </p:nvGrpSpPr>
                <p:grpSpPr>
                  <a:xfrm>
                    <a:off x="8039160" y="3032280"/>
                    <a:ext cx="384120" cy="398160"/>
                    <a:chOff x="8039160" y="3032280"/>
                    <a:chExt cx="384120" cy="398160"/>
                  </a:xfrm>
                </p:grpSpPr>
                <p:grpSp>
                  <p:nvGrpSpPr>
                    <p:cNvPr id="900" name=""/>
                    <p:cNvGrpSpPr/>
                    <p:nvPr/>
                  </p:nvGrpSpPr>
                  <p:grpSpPr>
                    <a:xfrm>
                      <a:off x="8039160" y="3032280"/>
                      <a:ext cx="384120" cy="398160"/>
                      <a:chOff x="8039160" y="3032280"/>
                      <a:chExt cx="384120" cy="398160"/>
                    </a:xfrm>
                  </p:grpSpPr>
                  <p:sp>
                    <p:nvSpPr>
                      <p:cNvPr id="901" name=""/>
                      <p:cNvSpPr/>
                      <p:nvPr/>
                    </p:nvSpPr>
                    <p:spPr>
                      <a:xfrm>
                        <a:off x="8042400" y="3146400"/>
                        <a:ext cx="3808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1" h="289">
                            <a:moveTo>
                              <a:pt x="0" y="211"/>
                            </a:moveTo>
                            <a:lnTo>
                              <a:pt x="408" y="289"/>
                            </a:lnTo>
                            <a:lnTo>
                              <a:pt x="721" y="56"/>
                            </a:lnTo>
                            <a:lnTo>
                              <a:pt x="329" y="0"/>
                            </a:lnTo>
                            <a:lnTo>
                              <a:pt x="0" y="211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2" name=""/>
                      <p:cNvSpPr/>
                      <p:nvPr/>
                    </p:nvSpPr>
                    <p:spPr>
                      <a:xfrm>
                        <a:off x="8094600" y="3081240"/>
                        <a:ext cx="158760" cy="13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0" h="491">
                            <a:moveTo>
                              <a:pt x="0" y="0"/>
                            </a:moveTo>
                            <a:lnTo>
                              <a:pt x="300" y="24"/>
                            </a:lnTo>
                            <a:lnTo>
                              <a:pt x="300" y="491"/>
                            </a:lnTo>
                            <a:lnTo>
                              <a:pt x="0" y="42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3" name=""/>
                      <p:cNvSpPr/>
                      <p:nvPr/>
                    </p:nvSpPr>
                    <p:spPr>
                      <a:xfrm>
                        <a:off x="8250120" y="3059280"/>
                        <a:ext cx="136800" cy="15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8" h="569">
                            <a:moveTo>
                              <a:pt x="0" y="105"/>
                            </a:moveTo>
                            <a:lnTo>
                              <a:pt x="0" y="569"/>
                            </a:lnTo>
                            <a:lnTo>
                              <a:pt x="258" y="383"/>
                            </a:lnTo>
                            <a:lnTo>
                              <a:pt x="258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4" name=""/>
                      <p:cNvSpPr/>
                      <p:nvPr/>
                    </p:nvSpPr>
                    <p:spPr>
                      <a:xfrm>
                        <a:off x="8094600" y="3054240"/>
                        <a:ext cx="292320" cy="3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4" h="127">
                            <a:moveTo>
                              <a:pt x="0" y="103"/>
                            </a:moveTo>
                            <a:lnTo>
                              <a:pt x="296" y="127"/>
                            </a:lnTo>
                            <a:lnTo>
                              <a:pt x="554" y="22"/>
                            </a:lnTo>
                            <a:lnTo>
                              <a:pt x="296" y="0"/>
                            </a:lnTo>
                            <a:lnTo>
                              <a:pt x="0" y="103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5" name=""/>
                      <p:cNvSpPr/>
                      <p:nvPr/>
                    </p:nvSpPr>
                    <p:spPr>
                      <a:xfrm>
                        <a:off x="8132760" y="3032280"/>
                        <a:ext cx="21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77">
                            <a:moveTo>
                              <a:pt x="0" y="61"/>
                            </a:moveTo>
                            <a:lnTo>
                              <a:pt x="215" y="77"/>
                            </a:lnTo>
                            <a:lnTo>
                              <a:pt x="404" y="19"/>
                            </a:lnTo>
                            <a:lnTo>
                              <a:pt x="202" y="0"/>
                            </a:lnTo>
                            <a:lnTo>
                              <a:pt x="0" y="61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6" name=""/>
                      <p:cNvSpPr/>
                      <p:nvPr/>
                    </p:nvSpPr>
                    <p:spPr>
                      <a:xfrm>
                        <a:off x="8132760" y="3048120"/>
                        <a:ext cx="1112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119">
                            <a:moveTo>
                              <a:pt x="0" y="0"/>
                            </a:moveTo>
                            <a:lnTo>
                              <a:pt x="211" y="15"/>
                            </a:lnTo>
                            <a:lnTo>
                              <a:pt x="211" y="119"/>
                            </a:lnTo>
                            <a:lnTo>
                              <a:pt x="0" y="1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7" name=""/>
                      <p:cNvSpPr/>
                      <p:nvPr/>
                    </p:nvSpPr>
                    <p:spPr>
                      <a:xfrm>
                        <a:off x="8244000" y="3036960"/>
                        <a:ext cx="10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3" h="161">
                            <a:moveTo>
                              <a:pt x="0" y="58"/>
                            </a:moveTo>
                            <a:lnTo>
                              <a:pt x="0" y="161"/>
                            </a:lnTo>
                            <a:lnTo>
                              <a:pt x="193" y="83"/>
                            </a:lnTo>
                            <a:lnTo>
                              <a:pt x="193" y="0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8" name=""/>
                      <p:cNvSpPr/>
                      <p:nvPr/>
                    </p:nvSpPr>
                    <p:spPr>
                      <a:xfrm>
                        <a:off x="8256600" y="3160800"/>
                        <a:ext cx="166680" cy="269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6" h="1021">
                            <a:moveTo>
                              <a:pt x="316" y="0"/>
                            </a:moveTo>
                            <a:lnTo>
                              <a:pt x="2" y="236"/>
                            </a:lnTo>
                            <a:lnTo>
                              <a:pt x="0" y="1021"/>
                            </a:lnTo>
                            <a:lnTo>
                              <a:pt x="316" y="715"/>
                            </a:lnTo>
                            <a:lnTo>
                              <a:pt x="316" y="0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9" name=""/>
                      <p:cNvSpPr/>
                      <p:nvPr/>
                    </p:nvSpPr>
                    <p:spPr>
                      <a:xfrm>
                        <a:off x="8039160" y="3201840"/>
                        <a:ext cx="21744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1" h="863">
                            <a:moveTo>
                              <a:pt x="4" y="0"/>
                            </a:moveTo>
                            <a:lnTo>
                              <a:pt x="411" y="78"/>
                            </a:lnTo>
                            <a:lnTo>
                              <a:pt x="411" y="863"/>
                            </a:lnTo>
                            <a:lnTo>
                              <a:pt x="0" y="723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10" name=""/>
                    <p:cNvGrpSpPr/>
                    <p:nvPr/>
                  </p:nvGrpSpPr>
                  <p:grpSpPr>
                    <a:xfrm>
                      <a:off x="8064360" y="3084480"/>
                      <a:ext cx="171720" cy="169920"/>
                      <a:chOff x="8064360" y="3084480"/>
                      <a:chExt cx="171720" cy="169920"/>
                    </a:xfrm>
                  </p:grpSpPr>
                  <p:grpSp>
                    <p:nvGrpSpPr>
                      <p:cNvPr id="911" name=""/>
                      <p:cNvGrpSpPr/>
                      <p:nvPr/>
                    </p:nvGrpSpPr>
                    <p:grpSpPr>
                      <a:xfrm>
                        <a:off x="8104320" y="3084480"/>
                        <a:ext cx="131760" cy="38160"/>
                        <a:chOff x="8104320" y="3084480"/>
                        <a:chExt cx="131760" cy="38160"/>
                      </a:xfrm>
                    </p:grpSpPr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>
                          <a:off x="8104320" y="3084480"/>
                          <a:ext cx="2700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17">
                              <a:moveTo>
                                <a:pt x="0" y="0"/>
                              </a:moveTo>
                              <a:lnTo>
                                <a:pt x="50" y="6"/>
                              </a:lnTo>
                              <a:lnTo>
                                <a:pt x="50" y="117"/>
                              </a:lnTo>
                              <a:lnTo>
                                <a:pt x="1" y="10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>
                          <a:off x="8139240" y="3086280"/>
                          <a:ext cx="2700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17">
                              <a:moveTo>
                                <a:pt x="0" y="0"/>
                              </a:moveTo>
                              <a:lnTo>
                                <a:pt x="50" y="5"/>
                              </a:lnTo>
                              <a:lnTo>
                                <a:pt x="50" y="117"/>
                              </a:lnTo>
                              <a:lnTo>
                                <a:pt x="0" y="1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4" name=""/>
                        <p:cNvSpPr/>
                        <p:nvPr/>
                      </p:nvSpPr>
                      <p:spPr>
                        <a:xfrm>
                          <a:off x="8174160" y="3087720"/>
                          <a:ext cx="2700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20">
                              <a:moveTo>
                                <a:pt x="0" y="0"/>
                              </a:moveTo>
                              <a:lnTo>
                                <a:pt x="52" y="5"/>
                              </a:lnTo>
                              <a:lnTo>
                                <a:pt x="50" y="120"/>
                              </a:lnTo>
                              <a:lnTo>
                                <a:pt x="0" y="1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5" name=""/>
                        <p:cNvSpPr/>
                        <p:nvPr/>
                      </p:nvSpPr>
                      <p:spPr>
                        <a:xfrm>
                          <a:off x="8209080" y="3090960"/>
                          <a:ext cx="2700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24">
                              <a:moveTo>
                                <a:pt x="0" y="0"/>
                              </a:moveTo>
                              <a:lnTo>
                                <a:pt x="50" y="6"/>
                              </a:lnTo>
                              <a:lnTo>
                                <a:pt x="50" y="124"/>
                              </a:lnTo>
                              <a:lnTo>
                                <a:pt x="0" y="11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16" name=""/>
                      <p:cNvGrpSpPr/>
                      <p:nvPr/>
                    </p:nvGrpSpPr>
                    <p:grpSpPr>
                      <a:xfrm>
                        <a:off x="8104320" y="3121200"/>
                        <a:ext cx="131760" cy="39600"/>
                        <a:chOff x="8104320" y="3121200"/>
                        <a:chExt cx="131760" cy="39600"/>
                      </a:xfrm>
                    </p:grpSpPr>
                    <p:sp>
                      <p:nvSpPr>
                        <p:cNvPr id="917" name=""/>
                        <p:cNvSpPr/>
                        <p:nvPr/>
                      </p:nvSpPr>
                      <p:spPr>
                        <a:xfrm>
                          <a:off x="8104320" y="3121200"/>
                          <a:ext cx="2700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20">
                              <a:moveTo>
                                <a:pt x="0" y="0"/>
                              </a:moveTo>
                              <a:lnTo>
                                <a:pt x="50" y="8"/>
                              </a:lnTo>
                              <a:lnTo>
                                <a:pt x="50" y="120"/>
                              </a:lnTo>
                              <a:lnTo>
                                <a:pt x="1" y="11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8" name=""/>
                        <p:cNvSpPr/>
                        <p:nvPr/>
                      </p:nvSpPr>
                      <p:spPr>
                        <a:xfrm>
                          <a:off x="8139240" y="3124080"/>
                          <a:ext cx="27000" cy="32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" h="121">
                              <a:moveTo>
                                <a:pt x="1" y="0"/>
                              </a:moveTo>
                              <a:lnTo>
                                <a:pt x="51" y="10"/>
                              </a:lnTo>
                              <a:lnTo>
                                <a:pt x="50" y="121"/>
                              </a:lnTo>
                              <a:lnTo>
                                <a:pt x="0" y="112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760" bIns="-14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9" name=""/>
                        <p:cNvSpPr/>
                        <p:nvPr/>
                      </p:nvSpPr>
                      <p:spPr>
                        <a:xfrm>
                          <a:off x="8174160" y="3125880"/>
                          <a:ext cx="2700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19">
                              <a:moveTo>
                                <a:pt x="0" y="0"/>
                              </a:moveTo>
                              <a:lnTo>
                                <a:pt x="52" y="7"/>
                              </a:lnTo>
                              <a:lnTo>
                                <a:pt x="50" y="119"/>
                              </a:lnTo>
                              <a:lnTo>
                                <a:pt x="0" y="11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0" name=""/>
                        <p:cNvSpPr/>
                        <p:nvPr/>
                      </p:nvSpPr>
                      <p:spPr>
                        <a:xfrm>
                          <a:off x="8209080" y="3129120"/>
                          <a:ext cx="2700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20">
                              <a:moveTo>
                                <a:pt x="0" y="0"/>
                              </a:moveTo>
                              <a:lnTo>
                                <a:pt x="50" y="9"/>
                              </a:lnTo>
                              <a:lnTo>
                                <a:pt x="50" y="120"/>
                              </a:lnTo>
                              <a:lnTo>
                                <a:pt x="0" y="11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21" name=""/>
                      <p:cNvGrpSpPr/>
                      <p:nvPr/>
                    </p:nvGrpSpPr>
                    <p:grpSpPr>
                      <a:xfrm>
                        <a:off x="8064360" y="3209760"/>
                        <a:ext cx="163800" cy="44640"/>
                        <a:chOff x="8064360" y="3209760"/>
                        <a:chExt cx="163800" cy="44640"/>
                      </a:xfrm>
                    </p:grpSpPr>
                    <p:grpSp>
                      <p:nvGrpSpPr>
                        <p:cNvPr id="922" name=""/>
                        <p:cNvGrpSpPr/>
                        <p:nvPr/>
                      </p:nvGrpSpPr>
                      <p:grpSpPr>
                        <a:xfrm>
                          <a:off x="8064360" y="3209760"/>
                          <a:ext cx="163800" cy="28800"/>
                          <a:chOff x="8064360" y="3209760"/>
                          <a:chExt cx="163800" cy="28800"/>
                        </a:xfrm>
                      </p:grpSpPr>
                      <p:sp>
                        <p:nvSpPr>
                          <p:cNvPr id="923" name=""/>
                          <p:cNvSpPr/>
                          <p:nvPr/>
                        </p:nvSpPr>
                        <p:spPr>
                          <a:xfrm>
                            <a:off x="8105760" y="3214800"/>
                            <a:ext cx="3492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5">
                                <a:moveTo>
                                  <a:pt x="1" y="0"/>
                                </a:moveTo>
                                <a:lnTo>
                                  <a:pt x="67" y="13"/>
                                </a:lnTo>
                                <a:lnTo>
                                  <a:pt x="67" y="55"/>
                                </a:lnTo>
                                <a:lnTo>
                                  <a:pt x="0" y="41"/>
                                </a:lnTo>
                                <a:lnTo>
                                  <a:pt x="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24" name=""/>
                          <p:cNvSpPr/>
                          <p:nvPr/>
                        </p:nvSpPr>
                        <p:spPr>
                          <a:xfrm>
                            <a:off x="8150400" y="3218040"/>
                            <a:ext cx="34920" cy="15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9">
                                <a:moveTo>
                                  <a:pt x="0" y="0"/>
                                </a:moveTo>
                                <a:lnTo>
                                  <a:pt x="67" y="15"/>
                                </a:lnTo>
                                <a:lnTo>
                                  <a:pt x="67" y="59"/>
                                </a:lnTo>
                                <a:lnTo>
                                  <a:pt x="0" y="4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25" name=""/>
                          <p:cNvSpPr/>
                          <p:nvPr/>
                        </p:nvSpPr>
                        <p:spPr>
                          <a:xfrm>
                            <a:off x="8193240" y="3222720"/>
                            <a:ext cx="34920" cy="15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8">
                                <a:moveTo>
                                  <a:pt x="0" y="0"/>
                                </a:moveTo>
                                <a:lnTo>
                                  <a:pt x="67" y="14"/>
                                </a:lnTo>
                                <a:lnTo>
                                  <a:pt x="67" y="58"/>
                                </a:lnTo>
                                <a:lnTo>
                                  <a:pt x="0" y="4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26" name=""/>
                          <p:cNvSpPr/>
                          <p:nvPr/>
                        </p:nvSpPr>
                        <p:spPr>
                          <a:xfrm>
                            <a:off x="8064360" y="3209760"/>
                            <a:ext cx="34920" cy="14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54">
                                <a:moveTo>
                                  <a:pt x="0" y="0"/>
                                </a:moveTo>
                                <a:lnTo>
                                  <a:pt x="66" y="13"/>
                                </a:lnTo>
                                <a:lnTo>
                                  <a:pt x="66" y="54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7" name=""/>
                        <p:cNvGrpSpPr/>
                        <p:nvPr/>
                      </p:nvGrpSpPr>
                      <p:grpSpPr>
                        <a:xfrm>
                          <a:off x="8064360" y="3225960"/>
                          <a:ext cx="163800" cy="28440"/>
                          <a:chOff x="8064360" y="3225960"/>
                          <a:chExt cx="163800" cy="28440"/>
                        </a:xfrm>
                      </p:grpSpPr>
                      <p:sp>
                        <p:nvSpPr>
                          <p:cNvPr id="928" name=""/>
                          <p:cNvSpPr/>
                          <p:nvPr/>
                        </p:nvSpPr>
                        <p:spPr>
                          <a:xfrm>
                            <a:off x="8105760" y="3230640"/>
                            <a:ext cx="3492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6">
                                <a:moveTo>
                                  <a:pt x="2" y="0"/>
                                </a:moveTo>
                                <a:lnTo>
                                  <a:pt x="67" y="14"/>
                                </a:lnTo>
                                <a:lnTo>
                                  <a:pt x="67" y="56"/>
                                </a:lnTo>
                                <a:lnTo>
                                  <a:pt x="0" y="43"/>
                                </a:lnTo>
                                <a:lnTo>
                                  <a:pt x="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29" name=""/>
                          <p:cNvSpPr/>
                          <p:nvPr/>
                        </p:nvSpPr>
                        <p:spPr>
                          <a:xfrm>
                            <a:off x="8148600" y="3233880"/>
                            <a:ext cx="36720" cy="15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6">
                                <a:moveTo>
                                  <a:pt x="0" y="0"/>
                                </a:moveTo>
                                <a:lnTo>
                                  <a:pt x="67" y="14"/>
                                </a:lnTo>
                                <a:lnTo>
                                  <a:pt x="67" y="56"/>
                                </a:lnTo>
                                <a:lnTo>
                                  <a:pt x="0" y="4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30" name=""/>
                          <p:cNvSpPr/>
                          <p:nvPr/>
                        </p:nvSpPr>
                        <p:spPr>
                          <a:xfrm>
                            <a:off x="8193240" y="3238560"/>
                            <a:ext cx="34920" cy="15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6">
                                <a:moveTo>
                                  <a:pt x="0" y="0"/>
                                </a:moveTo>
                                <a:lnTo>
                                  <a:pt x="67" y="16"/>
                                </a:lnTo>
                                <a:lnTo>
                                  <a:pt x="67" y="56"/>
                                </a:lnTo>
                                <a:lnTo>
                                  <a:pt x="0" y="4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31" name=""/>
                          <p:cNvSpPr/>
                          <p:nvPr/>
                        </p:nvSpPr>
                        <p:spPr>
                          <a:xfrm>
                            <a:off x="8064360" y="3225960"/>
                            <a:ext cx="3492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56">
                                <a:moveTo>
                                  <a:pt x="0" y="0"/>
                                </a:moveTo>
                                <a:lnTo>
                                  <a:pt x="66" y="13"/>
                                </a:lnTo>
                                <a:lnTo>
                                  <a:pt x="66" y="56"/>
                                </a:lnTo>
                                <a:lnTo>
                                  <a:pt x="0" y="4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8286840" y="3174840"/>
                    <a:ext cx="271440" cy="360360"/>
                    <a:chOff x="8286840" y="3174840"/>
                    <a:chExt cx="271440" cy="360360"/>
                  </a:xfrm>
                </p:grpSpPr>
                <p:grpSp>
                  <p:nvGrpSpPr>
                    <p:cNvPr id="933" name=""/>
                    <p:cNvGrpSpPr/>
                    <p:nvPr/>
                  </p:nvGrpSpPr>
                  <p:grpSpPr>
                    <a:xfrm>
                      <a:off x="8286840" y="3174840"/>
                      <a:ext cx="271440" cy="360360"/>
                      <a:chOff x="8286840" y="3174840"/>
                      <a:chExt cx="271440" cy="360360"/>
                    </a:xfrm>
                  </p:grpSpPr>
                  <p:sp>
                    <p:nvSpPr>
                      <p:cNvPr id="934" name=""/>
                      <p:cNvSpPr/>
                      <p:nvPr/>
                    </p:nvSpPr>
                    <p:spPr>
                      <a:xfrm>
                        <a:off x="8335800" y="3187800"/>
                        <a:ext cx="1605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2" h="117">
                            <a:moveTo>
                              <a:pt x="0" y="92"/>
                            </a:moveTo>
                            <a:lnTo>
                              <a:pt x="186" y="117"/>
                            </a:lnTo>
                            <a:lnTo>
                              <a:pt x="302" y="17"/>
                            </a:lnTo>
                            <a:lnTo>
                              <a:pt x="127" y="0"/>
                            </a:lnTo>
                            <a:lnTo>
                              <a:pt x="0" y="92"/>
                            </a:lnTo>
                            <a:close/>
                          </a:path>
                        </a:pathLst>
                      </a:custGeom>
                      <a:solidFill>
                        <a:srgbClr val="00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35" name=""/>
                      <p:cNvGrpSpPr/>
                      <p:nvPr/>
                    </p:nvGrpSpPr>
                    <p:grpSpPr>
                      <a:xfrm>
                        <a:off x="8362800" y="3174840"/>
                        <a:ext cx="111240" cy="38160"/>
                        <a:chOff x="8362800" y="3174840"/>
                        <a:chExt cx="111240" cy="38160"/>
                      </a:xfrm>
                    </p:grpSpPr>
                    <p:sp>
                      <p:nvSpPr>
                        <p:cNvPr id="936" name=""/>
                        <p:cNvSpPr/>
                        <p:nvPr/>
                      </p:nvSpPr>
                      <p:spPr>
                        <a:xfrm>
                          <a:off x="8362800" y="3189240"/>
                          <a:ext cx="669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" h="86">
                              <a:moveTo>
                                <a:pt x="1" y="0"/>
                              </a:moveTo>
                              <a:lnTo>
                                <a:pt x="127" y="13"/>
                              </a:lnTo>
                              <a:lnTo>
                                <a:pt x="127" y="86"/>
                              </a:lnTo>
                              <a:lnTo>
                                <a:pt x="0" y="69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7" name=""/>
                        <p:cNvSpPr/>
                        <p:nvPr/>
                      </p:nvSpPr>
                      <p:spPr>
                        <a:xfrm>
                          <a:off x="8429760" y="3178080"/>
                          <a:ext cx="4428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" h="130">
                              <a:moveTo>
                                <a:pt x="0" y="60"/>
                              </a:moveTo>
                              <a:lnTo>
                                <a:pt x="0" y="130"/>
                              </a:lnTo>
                              <a:lnTo>
                                <a:pt x="84" y="60"/>
                              </a:lnTo>
                              <a:lnTo>
                                <a:pt x="84" y="0"/>
                              </a:lnTo>
                              <a:lnTo>
                                <a:pt x="0" y="6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9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>
                          <a:off x="8362800" y="3174840"/>
                          <a:ext cx="111240" cy="1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0" h="70">
                              <a:moveTo>
                                <a:pt x="0" y="56"/>
                              </a:moveTo>
                              <a:lnTo>
                                <a:pt x="126" y="70"/>
                              </a:lnTo>
                              <a:lnTo>
                                <a:pt x="210" y="12"/>
                              </a:lnTo>
                              <a:lnTo>
                                <a:pt x="85" y="0"/>
                              </a:lnTo>
                              <a:lnTo>
                                <a:pt x="0" y="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720" bIns="-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39" name=""/>
                      <p:cNvSpPr/>
                      <p:nvPr/>
                    </p:nvSpPr>
                    <p:spPr>
                      <a:xfrm>
                        <a:off x="8337600" y="3211560"/>
                        <a:ext cx="9684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471">
                            <a:moveTo>
                              <a:pt x="0" y="0"/>
                            </a:moveTo>
                            <a:lnTo>
                              <a:pt x="184" y="24"/>
                            </a:lnTo>
                            <a:lnTo>
                              <a:pt x="184" y="471"/>
                            </a:lnTo>
                            <a:lnTo>
                              <a:pt x="0" y="42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8434440" y="3191040"/>
                        <a:ext cx="61920" cy="14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545">
                            <a:moveTo>
                              <a:pt x="0" y="99"/>
                            </a:moveTo>
                            <a:lnTo>
                              <a:pt x="116" y="0"/>
                            </a:lnTo>
                            <a:lnTo>
                              <a:pt x="116" y="417"/>
                            </a:lnTo>
                            <a:lnTo>
                              <a:pt x="0" y="545"/>
                            </a:lnTo>
                            <a:lnTo>
                              <a:pt x="0" y="99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1" name=""/>
                      <p:cNvSpPr/>
                      <p:nvPr/>
                    </p:nvSpPr>
                    <p:spPr>
                      <a:xfrm>
                        <a:off x="8432640" y="3301920"/>
                        <a:ext cx="125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6" h="389">
                            <a:moveTo>
                              <a:pt x="118" y="0"/>
                            </a:moveTo>
                            <a:lnTo>
                              <a:pt x="0" y="127"/>
                            </a:lnTo>
                            <a:lnTo>
                              <a:pt x="44" y="389"/>
                            </a:lnTo>
                            <a:lnTo>
                              <a:pt x="236" y="144"/>
                            </a:lnTo>
                            <a:lnTo>
                              <a:pt x="118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8286840" y="3324240"/>
                        <a:ext cx="16992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1" h="308">
                            <a:moveTo>
                              <a:pt x="92" y="0"/>
                            </a:moveTo>
                            <a:lnTo>
                              <a:pt x="278" y="46"/>
                            </a:lnTo>
                            <a:lnTo>
                              <a:pt x="321" y="308"/>
                            </a:lnTo>
                            <a:lnTo>
                              <a:pt x="0" y="222"/>
                            </a:lnTo>
                            <a:lnTo>
                              <a:pt x="92" y="0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3" name=""/>
                      <p:cNvSpPr/>
                      <p:nvPr/>
                    </p:nvSpPr>
                    <p:spPr>
                      <a:xfrm>
                        <a:off x="8454960" y="3340080"/>
                        <a:ext cx="10332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3" h="739">
                            <a:moveTo>
                              <a:pt x="1" y="245"/>
                            </a:moveTo>
                            <a:lnTo>
                              <a:pt x="193" y="0"/>
                            </a:lnTo>
                            <a:lnTo>
                              <a:pt x="193" y="401"/>
                            </a:lnTo>
                            <a:lnTo>
                              <a:pt x="0" y="739"/>
                            </a:lnTo>
                            <a:lnTo>
                              <a:pt x="1" y="245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4" name=""/>
                      <p:cNvSpPr/>
                      <p:nvPr/>
                    </p:nvSpPr>
                    <p:spPr>
                      <a:xfrm>
                        <a:off x="8286840" y="3381480"/>
                        <a:ext cx="169920" cy="15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0" h="579">
                            <a:moveTo>
                              <a:pt x="0" y="0"/>
                            </a:moveTo>
                            <a:lnTo>
                              <a:pt x="320" y="85"/>
                            </a:lnTo>
                            <a:lnTo>
                              <a:pt x="320" y="579"/>
                            </a:lnTo>
                            <a:lnTo>
                              <a:pt x="0" y="46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45" name=""/>
                    <p:cNvGrpSpPr/>
                    <p:nvPr/>
                  </p:nvGrpSpPr>
                  <p:grpSpPr>
                    <a:xfrm>
                      <a:off x="8346960" y="3218040"/>
                      <a:ext cx="73080" cy="79200"/>
                      <a:chOff x="8346960" y="3218040"/>
                      <a:chExt cx="73080" cy="79200"/>
                    </a:xfrm>
                  </p:grpSpPr>
                  <p:grpSp>
                    <p:nvGrpSpPr>
                      <p:cNvPr id="946" name=""/>
                      <p:cNvGrpSpPr/>
                      <p:nvPr/>
                    </p:nvGrpSpPr>
                    <p:grpSpPr>
                      <a:xfrm>
                        <a:off x="8346960" y="3218040"/>
                        <a:ext cx="73080" cy="25200"/>
                        <a:chOff x="8346960" y="3218040"/>
                        <a:chExt cx="73080" cy="25200"/>
                      </a:xfrm>
                    </p:grpSpPr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>
                          <a:off x="8346960" y="3218040"/>
                          <a:ext cx="1584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2">
                              <a:moveTo>
                                <a:pt x="0" y="0"/>
                              </a:moveTo>
                              <a:lnTo>
                                <a:pt x="30" y="3"/>
                              </a:lnTo>
                              <a:lnTo>
                                <a:pt x="30" y="82"/>
                              </a:lnTo>
                              <a:lnTo>
                                <a:pt x="0" y="7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8" name=""/>
                        <p:cNvSpPr/>
                        <p:nvPr/>
                      </p:nvSpPr>
                      <p:spPr>
                        <a:xfrm>
                          <a:off x="8375760" y="321948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6">
                              <a:moveTo>
                                <a:pt x="0" y="0"/>
                              </a:moveTo>
                              <a:lnTo>
                                <a:pt x="30" y="4"/>
                              </a:lnTo>
                              <a:lnTo>
                                <a:pt x="30" y="86"/>
                              </a:lnTo>
                              <a:lnTo>
                                <a:pt x="0" y="8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>
                          <a:off x="8404200" y="322092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84">
                              <a:moveTo>
                                <a:pt x="0" y="0"/>
                              </a:moveTo>
                              <a:lnTo>
                                <a:pt x="29" y="4"/>
                              </a:lnTo>
                              <a:lnTo>
                                <a:pt x="29" y="84"/>
                              </a:lnTo>
                              <a:lnTo>
                                <a:pt x="0" y="8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50" name=""/>
                      <p:cNvGrpSpPr/>
                      <p:nvPr/>
                    </p:nvGrpSpPr>
                    <p:grpSpPr>
                      <a:xfrm>
                        <a:off x="8346960" y="3243240"/>
                        <a:ext cx="73080" cy="28440"/>
                        <a:chOff x="8346960" y="3243240"/>
                        <a:chExt cx="73080" cy="28440"/>
                      </a:xfrm>
                    </p:grpSpPr>
                    <p:sp>
                      <p:nvSpPr>
                        <p:cNvPr id="951" name=""/>
                        <p:cNvSpPr/>
                        <p:nvPr/>
                      </p:nvSpPr>
                      <p:spPr>
                        <a:xfrm>
                          <a:off x="8346960" y="324324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5">
                              <a:moveTo>
                                <a:pt x="0" y="0"/>
                              </a:moveTo>
                              <a:lnTo>
                                <a:pt x="30" y="6"/>
                              </a:lnTo>
                              <a:lnTo>
                                <a:pt x="30" y="85"/>
                              </a:lnTo>
                              <a:lnTo>
                                <a:pt x="0" y="7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2" name=""/>
                        <p:cNvSpPr/>
                        <p:nvPr/>
                      </p:nvSpPr>
                      <p:spPr>
                        <a:xfrm>
                          <a:off x="8375760" y="324648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5">
                              <a:moveTo>
                                <a:pt x="0" y="0"/>
                              </a:moveTo>
                              <a:lnTo>
                                <a:pt x="30" y="6"/>
                              </a:lnTo>
                              <a:lnTo>
                                <a:pt x="30" y="85"/>
                              </a:lnTo>
                              <a:lnTo>
                                <a:pt x="0" y="8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>
                          <a:off x="8404200" y="3247920"/>
                          <a:ext cx="1584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85">
                              <a:moveTo>
                                <a:pt x="0" y="0"/>
                              </a:moveTo>
                              <a:lnTo>
                                <a:pt x="29" y="6"/>
                              </a:lnTo>
                              <a:lnTo>
                                <a:pt x="29" y="85"/>
                              </a:lnTo>
                              <a:lnTo>
                                <a:pt x="0" y="7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54" name=""/>
                      <p:cNvGrpSpPr/>
                      <p:nvPr/>
                    </p:nvGrpSpPr>
                    <p:grpSpPr>
                      <a:xfrm>
                        <a:off x="8346960" y="3268800"/>
                        <a:ext cx="73080" cy="28440"/>
                        <a:chOff x="8346960" y="3268800"/>
                        <a:chExt cx="73080" cy="28440"/>
                      </a:xfrm>
                    </p:grpSpPr>
                    <p:sp>
                      <p:nvSpPr>
                        <p:cNvPr id="955" name=""/>
                        <p:cNvSpPr/>
                        <p:nvPr/>
                      </p:nvSpPr>
                      <p:spPr>
                        <a:xfrm>
                          <a:off x="8346960" y="3268800"/>
                          <a:ext cx="15840" cy="2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7">
                              <a:moveTo>
                                <a:pt x="0" y="0"/>
                              </a:moveTo>
                              <a:lnTo>
                                <a:pt x="30" y="8"/>
                              </a:lnTo>
                              <a:lnTo>
                                <a:pt x="30" y="87"/>
                              </a:lnTo>
                              <a:lnTo>
                                <a:pt x="0" y="8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>
                          <a:off x="8375760" y="327168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6">
                              <a:moveTo>
                                <a:pt x="0" y="0"/>
                              </a:moveTo>
                              <a:lnTo>
                                <a:pt x="30" y="6"/>
                              </a:lnTo>
                              <a:lnTo>
                                <a:pt x="30" y="86"/>
                              </a:lnTo>
                              <a:lnTo>
                                <a:pt x="0" y="8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>
                          <a:off x="8404200" y="327492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86">
                              <a:moveTo>
                                <a:pt x="0" y="0"/>
                              </a:moveTo>
                              <a:lnTo>
                                <a:pt x="29" y="7"/>
                              </a:lnTo>
                              <a:lnTo>
                                <a:pt x="29" y="86"/>
                              </a:lnTo>
                              <a:lnTo>
                                <a:pt x="0" y="7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958" name=""/>
                  <p:cNvGrpSpPr/>
                  <p:nvPr/>
                </p:nvGrpSpPr>
                <p:grpSpPr>
                  <a:xfrm>
                    <a:off x="7567560" y="3098880"/>
                    <a:ext cx="406440" cy="439560"/>
                    <a:chOff x="7567560" y="3098880"/>
                    <a:chExt cx="406440" cy="439560"/>
                  </a:xfrm>
                </p:grpSpPr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7567560" y="3124080"/>
                      <a:ext cx="4050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183">
                          <a:moveTo>
                            <a:pt x="0" y="108"/>
                          </a:moveTo>
                          <a:lnTo>
                            <a:pt x="437" y="183"/>
                          </a:lnTo>
                          <a:lnTo>
                            <a:pt x="766" y="53"/>
                          </a:lnTo>
                          <a:lnTo>
                            <a:pt x="365" y="0"/>
                          </a:lnTo>
                          <a:lnTo>
                            <a:pt x="0" y="108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7567560" y="3152880"/>
                      <a:ext cx="2318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7" h="1459">
                          <a:moveTo>
                            <a:pt x="0" y="0"/>
                          </a:moveTo>
                          <a:lnTo>
                            <a:pt x="437" y="76"/>
                          </a:lnTo>
                          <a:lnTo>
                            <a:pt x="437" y="1459"/>
                          </a:lnTo>
                          <a:lnTo>
                            <a:pt x="345" y="1428"/>
                          </a:lnTo>
                          <a:lnTo>
                            <a:pt x="346" y="1253"/>
                          </a:lnTo>
                          <a:lnTo>
                            <a:pt x="222" y="1203"/>
                          </a:lnTo>
                          <a:lnTo>
                            <a:pt x="222" y="1359"/>
                          </a:lnTo>
                          <a:lnTo>
                            <a:pt x="153" y="1327"/>
                          </a:lnTo>
                          <a:lnTo>
                            <a:pt x="153" y="1171"/>
                          </a:lnTo>
                          <a:lnTo>
                            <a:pt x="55" y="1125"/>
                          </a:lnTo>
                          <a:lnTo>
                            <a:pt x="55" y="1283"/>
                          </a:lnTo>
                          <a:lnTo>
                            <a:pt x="0" y="125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61" name=""/>
                    <p:cNvGrpSpPr/>
                    <p:nvPr/>
                  </p:nvGrpSpPr>
                  <p:grpSpPr>
                    <a:xfrm>
                      <a:off x="7575480" y="3098880"/>
                      <a:ext cx="398520" cy="439560"/>
                      <a:chOff x="7575480" y="3098880"/>
                      <a:chExt cx="398520" cy="439560"/>
                    </a:xfrm>
                  </p:grpSpPr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7799400" y="3138480"/>
                        <a:ext cx="174600" cy="39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0" h="1514">
                            <a:moveTo>
                              <a:pt x="0" y="128"/>
                            </a:moveTo>
                            <a:lnTo>
                              <a:pt x="326" y="0"/>
                            </a:lnTo>
                            <a:lnTo>
                              <a:pt x="330" y="1171"/>
                            </a:lnTo>
                            <a:lnTo>
                              <a:pt x="0" y="1514"/>
                            </a:lnTo>
                            <a:lnTo>
                              <a:pt x="0" y="128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63" name=""/>
                      <p:cNvGrpSpPr/>
                      <p:nvPr/>
                    </p:nvGrpSpPr>
                    <p:grpSpPr>
                      <a:xfrm>
                        <a:off x="7684920" y="3470400"/>
                        <a:ext cx="68400" cy="41040"/>
                        <a:chOff x="7684920" y="3470400"/>
                        <a:chExt cx="68400" cy="41040"/>
                      </a:xfrm>
                    </p:grpSpPr>
                    <p:sp>
                      <p:nvSpPr>
                        <p:cNvPr id="964" name=""/>
                        <p:cNvSpPr/>
                        <p:nvPr/>
                      </p:nvSpPr>
                      <p:spPr>
                        <a:xfrm>
                          <a:off x="7723080" y="3478320"/>
                          <a:ext cx="30240" cy="2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" h="114">
                              <a:moveTo>
                                <a:pt x="0" y="0"/>
                              </a:moveTo>
                              <a:lnTo>
                                <a:pt x="0" y="87"/>
                              </a:lnTo>
                              <a:lnTo>
                                <a:pt x="57" y="114"/>
                              </a:lnTo>
                              <a:lnTo>
                                <a:pt x="57" y="2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5" name=""/>
                        <p:cNvSpPr/>
                        <p:nvPr/>
                      </p:nvSpPr>
                      <p:spPr>
                        <a:xfrm>
                          <a:off x="7684920" y="3470400"/>
                          <a:ext cx="39960" cy="4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62">
                              <a:moveTo>
                                <a:pt x="0" y="0"/>
                              </a:moveTo>
                              <a:lnTo>
                                <a:pt x="0" y="162"/>
                              </a:lnTo>
                              <a:lnTo>
                                <a:pt x="74" y="116"/>
                              </a:lnTo>
                              <a:lnTo>
                                <a:pt x="74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66" name=""/>
                      <p:cNvGrpSpPr/>
                      <p:nvPr/>
                    </p:nvGrpSpPr>
                    <p:grpSpPr>
                      <a:xfrm>
                        <a:off x="7596360" y="3449520"/>
                        <a:ext cx="68040" cy="42840"/>
                        <a:chOff x="7596360" y="3449520"/>
                        <a:chExt cx="68040" cy="42840"/>
                      </a:xfrm>
                    </p:grpSpPr>
                    <p:sp>
                      <p:nvSpPr>
                        <p:cNvPr id="967" name=""/>
                        <p:cNvSpPr/>
                        <p:nvPr/>
                      </p:nvSpPr>
                      <p:spPr>
                        <a:xfrm>
                          <a:off x="7634160" y="3457440"/>
                          <a:ext cx="3024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" h="114">
                              <a:moveTo>
                                <a:pt x="0" y="0"/>
                              </a:moveTo>
                              <a:lnTo>
                                <a:pt x="0" y="88"/>
                              </a:lnTo>
                              <a:lnTo>
                                <a:pt x="57" y="114"/>
                              </a:lnTo>
                              <a:lnTo>
                                <a:pt x="57" y="2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>
                          <a:off x="7596360" y="3449520"/>
                          <a:ext cx="3780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64">
                              <a:moveTo>
                                <a:pt x="0" y="0"/>
                              </a:moveTo>
                              <a:lnTo>
                                <a:pt x="0" y="164"/>
                              </a:lnTo>
                              <a:lnTo>
                                <a:pt x="73" y="118"/>
                              </a:lnTo>
                              <a:lnTo>
                                <a:pt x="73" y="3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69" name=""/>
                      <p:cNvGrpSpPr/>
                      <p:nvPr/>
                    </p:nvGrpSpPr>
                    <p:grpSpPr>
                      <a:xfrm>
                        <a:off x="7575480" y="3162240"/>
                        <a:ext cx="208080" cy="304920"/>
                        <a:chOff x="7575480" y="3162240"/>
                        <a:chExt cx="208080" cy="304920"/>
                      </a:xfrm>
                    </p:grpSpPr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>
                          <a:off x="7583400" y="3162240"/>
                          <a:ext cx="189000" cy="30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8" h="1152">
                              <a:moveTo>
                                <a:pt x="0" y="0"/>
                              </a:moveTo>
                              <a:lnTo>
                                <a:pt x="358" y="62"/>
                              </a:lnTo>
                              <a:lnTo>
                                <a:pt x="358" y="1152"/>
                              </a:lnTo>
                              <a:lnTo>
                                <a:pt x="3" y="99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71" name=""/>
                        <p:cNvGrpSpPr/>
                        <p:nvPr/>
                      </p:nvGrpSpPr>
                      <p:grpSpPr>
                        <a:xfrm>
                          <a:off x="7575480" y="3162240"/>
                          <a:ext cx="208080" cy="298440"/>
                          <a:chOff x="7575480" y="3162240"/>
                          <a:chExt cx="208080" cy="298440"/>
                        </a:xfrm>
                      </p:grpSpPr>
                      <p:sp>
                        <p:nvSpPr>
                          <p:cNvPr id="972" name=""/>
                          <p:cNvSpPr/>
                          <p:nvPr/>
                        </p:nvSpPr>
                        <p:spPr>
                          <a:xfrm>
                            <a:off x="7577280" y="3390840"/>
                            <a:ext cx="206280" cy="36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3" name=""/>
                          <p:cNvSpPr/>
                          <p:nvPr/>
                        </p:nvSpPr>
                        <p:spPr>
                          <a:xfrm>
                            <a:off x="7575480" y="3352680"/>
                            <a:ext cx="206280" cy="3024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>
                            <a:off x="7580160" y="3313080"/>
                            <a:ext cx="201600" cy="2700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>
                            <a:off x="7578720" y="3271680"/>
                            <a:ext cx="201600" cy="2556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6" name=""/>
                          <p:cNvSpPr/>
                          <p:nvPr/>
                        </p:nvSpPr>
                        <p:spPr>
                          <a:xfrm>
                            <a:off x="7581960" y="3232080"/>
                            <a:ext cx="198360" cy="208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7" name=""/>
                          <p:cNvSpPr/>
                          <p:nvPr/>
                        </p:nvSpPr>
                        <p:spPr>
                          <a:xfrm>
                            <a:off x="7575480" y="3195720"/>
                            <a:ext cx="203400" cy="190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8" name=""/>
                          <p:cNvSpPr/>
                          <p:nvPr/>
                        </p:nvSpPr>
                        <p:spPr>
                          <a:xfrm>
                            <a:off x="7623000" y="3162240"/>
                            <a:ext cx="1800" cy="2779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>
                            <a:off x="7670880" y="3166920"/>
                            <a:ext cx="1440" cy="28440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>
                            <a:off x="7721640" y="3170160"/>
                            <a:ext cx="1440" cy="2905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81" name=""/>
                      <p:cNvGrpSpPr/>
                      <p:nvPr/>
                    </p:nvGrpSpPr>
                    <p:grpSpPr>
                      <a:xfrm>
                        <a:off x="7653240" y="3098880"/>
                        <a:ext cx="243000" cy="61920"/>
                        <a:chOff x="7653240" y="3098880"/>
                        <a:chExt cx="243000" cy="61920"/>
                      </a:xfrm>
                    </p:grpSpPr>
                    <p:grpSp>
                      <p:nvGrpSpPr>
                        <p:cNvPr id="982" name=""/>
                        <p:cNvGrpSpPr/>
                        <p:nvPr/>
                      </p:nvGrpSpPr>
                      <p:grpSpPr>
                        <a:xfrm>
                          <a:off x="7653240" y="3098880"/>
                          <a:ext cx="243000" cy="61920"/>
                          <a:chOff x="7653240" y="3098880"/>
                          <a:chExt cx="243000" cy="61920"/>
                        </a:xfrm>
                      </p:grpSpPr>
                      <p:sp>
                        <p:nvSpPr>
                          <p:cNvPr id="983" name=""/>
                          <p:cNvSpPr/>
                          <p:nvPr/>
                        </p:nvSpPr>
                        <p:spPr>
                          <a:xfrm>
                            <a:off x="7653240" y="3098880"/>
                            <a:ext cx="24300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8" h="93">
                                <a:moveTo>
                                  <a:pt x="0" y="60"/>
                                </a:moveTo>
                                <a:lnTo>
                                  <a:pt x="267" y="93"/>
                                </a:lnTo>
                                <a:lnTo>
                                  <a:pt x="458" y="31"/>
                                </a:lnTo>
                                <a:lnTo>
                                  <a:pt x="199" y="0"/>
                                </a:lnTo>
                                <a:lnTo>
                                  <a:pt x="0" y="6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3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4" name=""/>
                          <p:cNvSpPr/>
                          <p:nvPr/>
                        </p:nvSpPr>
                        <p:spPr>
                          <a:xfrm>
                            <a:off x="7794720" y="3106800"/>
                            <a:ext cx="100080" cy="5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9" h="204">
                                <a:moveTo>
                                  <a:pt x="0" y="62"/>
                                </a:moveTo>
                                <a:lnTo>
                                  <a:pt x="189" y="0"/>
                                </a:lnTo>
                                <a:lnTo>
                                  <a:pt x="189" y="129"/>
                                </a:lnTo>
                                <a:lnTo>
                                  <a:pt x="0" y="204"/>
                                </a:lnTo>
                                <a:lnTo>
                                  <a:pt x="0" y="6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1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0" bIns="7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5" name=""/>
                          <p:cNvSpPr/>
                          <p:nvPr/>
                        </p:nvSpPr>
                        <p:spPr>
                          <a:xfrm>
                            <a:off x="7653240" y="3114720"/>
                            <a:ext cx="14148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6" h="175">
                                <a:moveTo>
                                  <a:pt x="266" y="33"/>
                                </a:moveTo>
                                <a:lnTo>
                                  <a:pt x="266" y="175"/>
                                </a:lnTo>
                                <a:lnTo>
                                  <a:pt x="0" y="135"/>
                                </a:lnTo>
                                <a:lnTo>
                                  <a:pt x="0" y="0"/>
                                </a:lnTo>
                                <a:lnTo>
                                  <a:pt x="266" y="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86" name=""/>
                        <p:cNvSpPr/>
                        <p:nvPr/>
                      </p:nvSpPr>
                      <p:spPr>
                        <a:xfrm>
                          <a:off x="7672320" y="3122640"/>
                          <a:ext cx="8100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" h="41">
                              <a:moveTo>
                                <a:pt x="1" y="0"/>
                              </a:moveTo>
                              <a:lnTo>
                                <a:pt x="153" y="16"/>
                              </a:lnTo>
                              <a:lnTo>
                                <a:pt x="153" y="41"/>
                              </a:lnTo>
                              <a:lnTo>
                                <a:pt x="0" y="26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7832880" y="3238560"/>
                    <a:ext cx="387360" cy="352440"/>
                    <a:chOff x="7832880" y="3238560"/>
                    <a:chExt cx="387360" cy="352440"/>
                  </a:xfrm>
                </p:grpSpPr>
                <p:grpSp>
                  <p:nvGrpSpPr>
                    <p:cNvPr id="988" name=""/>
                    <p:cNvGrpSpPr/>
                    <p:nvPr/>
                  </p:nvGrpSpPr>
                  <p:grpSpPr>
                    <a:xfrm>
                      <a:off x="7832880" y="3238560"/>
                      <a:ext cx="387360" cy="352440"/>
                      <a:chOff x="7832880" y="3238560"/>
                      <a:chExt cx="387360" cy="352440"/>
                    </a:xfrm>
                  </p:grpSpPr>
                  <p:sp>
                    <p:nvSpPr>
                      <p:cNvPr id="989" name=""/>
                      <p:cNvSpPr/>
                      <p:nvPr/>
                    </p:nvSpPr>
                    <p:spPr>
                      <a:xfrm>
                        <a:off x="7832880" y="3243240"/>
                        <a:ext cx="38736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363">
                            <a:moveTo>
                              <a:pt x="0" y="266"/>
                            </a:moveTo>
                            <a:lnTo>
                              <a:pt x="354" y="363"/>
                            </a:lnTo>
                            <a:lnTo>
                              <a:pt x="732" y="67"/>
                            </a:lnTo>
                            <a:lnTo>
                              <a:pt x="426" y="0"/>
                            </a:lnTo>
                            <a:lnTo>
                              <a:pt x="0" y="266"/>
                            </a:lnTo>
                            <a:close/>
                          </a:path>
                        </a:pathLst>
                      </a:custGeom>
                      <a:solidFill>
                        <a:srgbClr val="df9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0" name=""/>
                      <p:cNvSpPr/>
                      <p:nvPr/>
                    </p:nvSpPr>
                    <p:spPr>
                      <a:xfrm>
                        <a:off x="7832880" y="3314880"/>
                        <a:ext cx="187200" cy="27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1048">
                            <a:moveTo>
                              <a:pt x="0" y="0"/>
                            </a:moveTo>
                            <a:lnTo>
                              <a:pt x="354" y="95"/>
                            </a:lnTo>
                            <a:lnTo>
                              <a:pt x="354" y="1048"/>
                            </a:lnTo>
                            <a:lnTo>
                              <a:pt x="0" y="89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1" name=""/>
                      <p:cNvSpPr/>
                      <p:nvPr/>
                    </p:nvSpPr>
                    <p:spPr>
                      <a:xfrm>
                        <a:off x="8020080" y="3260880"/>
                        <a:ext cx="200160" cy="33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" h="1247">
                            <a:moveTo>
                              <a:pt x="0" y="296"/>
                            </a:moveTo>
                            <a:lnTo>
                              <a:pt x="0" y="1247"/>
                            </a:lnTo>
                            <a:lnTo>
                              <a:pt x="378" y="795"/>
                            </a:lnTo>
                            <a:lnTo>
                              <a:pt x="378" y="0"/>
                            </a:lnTo>
                            <a:lnTo>
                              <a:pt x="0" y="296"/>
                            </a:lnTo>
                            <a:close/>
                          </a:path>
                        </a:pathLst>
                      </a:custGeom>
                      <a:solidFill>
                        <a:srgbClr val="9f3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92" name=""/>
                      <p:cNvGrpSpPr/>
                      <p:nvPr/>
                    </p:nvGrpSpPr>
                    <p:grpSpPr>
                      <a:xfrm>
                        <a:off x="7880400" y="3238560"/>
                        <a:ext cx="295200" cy="87120"/>
                        <a:chOff x="7880400" y="3238560"/>
                        <a:chExt cx="295200" cy="87120"/>
                      </a:xfrm>
                    </p:grpSpPr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>
                          <a:off x="7880400" y="3238560"/>
                          <a:ext cx="295200" cy="7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8" h="272">
                              <a:moveTo>
                                <a:pt x="0" y="204"/>
                              </a:moveTo>
                              <a:lnTo>
                                <a:pt x="254" y="272"/>
                              </a:lnTo>
                              <a:lnTo>
                                <a:pt x="558" y="45"/>
                              </a:lnTo>
                              <a:lnTo>
                                <a:pt x="333" y="0"/>
                              </a:lnTo>
                              <a:lnTo>
                                <a:pt x="0" y="20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480" bIns="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>
                          <a:off x="8015400" y="3249720"/>
                          <a:ext cx="16020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5" h="285">
                              <a:moveTo>
                                <a:pt x="0" y="226"/>
                              </a:moveTo>
                              <a:lnTo>
                                <a:pt x="305" y="0"/>
                              </a:lnTo>
                              <a:lnTo>
                                <a:pt x="305" y="54"/>
                              </a:lnTo>
                              <a:lnTo>
                                <a:pt x="0" y="285"/>
                              </a:lnTo>
                              <a:lnTo>
                                <a:pt x="0" y="2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3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>
                          <a:off x="7880400" y="3292560"/>
                          <a:ext cx="135000" cy="33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3" h="126">
                              <a:moveTo>
                                <a:pt x="253" y="67"/>
                              </a:moveTo>
                              <a:lnTo>
                                <a:pt x="253" y="126"/>
                              </a:lnTo>
                              <a:lnTo>
                                <a:pt x="0" y="56"/>
                              </a:lnTo>
                              <a:lnTo>
                                <a:pt x="0" y="0"/>
                              </a:lnTo>
                              <a:lnTo>
                                <a:pt x="253" y="6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5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96" name=""/>
                    <p:cNvGrpSpPr/>
                    <p:nvPr/>
                  </p:nvGrpSpPr>
                  <p:grpSpPr>
                    <a:xfrm>
                      <a:off x="7842240" y="3322800"/>
                      <a:ext cx="166680" cy="257040"/>
                      <a:chOff x="7842240" y="3322800"/>
                      <a:chExt cx="166680" cy="257040"/>
                    </a:xfrm>
                  </p:grpSpPr>
                  <p:sp>
                    <p:nvSpPr>
                      <p:cNvPr id="997" name=""/>
                      <p:cNvSpPr/>
                      <p:nvPr/>
                    </p:nvSpPr>
                    <p:spPr>
                      <a:xfrm>
                        <a:off x="7842240" y="3322800"/>
                        <a:ext cx="166680" cy="257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970">
                            <a:moveTo>
                              <a:pt x="0" y="0"/>
                            </a:moveTo>
                            <a:lnTo>
                              <a:pt x="317" y="87"/>
                            </a:lnTo>
                            <a:lnTo>
                              <a:pt x="317" y="970"/>
                            </a:lnTo>
                            <a:lnTo>
                              <a:pt x="0" y="82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8" name=""/>
                      <p:cNvSpPr/>
                      <p:nvPr/>
                    </p:nvSpPr>
                    <p:spPr>
                      <a:xfrm>
                        <a:off x="7866000" y="3325680"/>
                        <a:ext cx="17640" cy="22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858">
                            <a:moveTo>
                              <a:pt x="1" y="0"/>
                            </a:moveTo>
                            <a:lnTo>
                              <a:pt x="0" y="845"/>
                            </a:lnTo>
                            <a:lnTo>
                              <a:pt x="32" y="858"/>
                            </a:lnTo>
                            <a:lnTo>
                              <a:pt x="33" y="9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>
                        <a:off x="7912080" y="3330720"/>
                        <a:ext cx="1908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876">
                            <a:moveTo>
                              <a:pt x="0" y="0"/>
                            </a:moveTo>
                            <a:lnTo>
                              <a:pt x="0" y="860"/>
                            </a:lnTo>
                            <a:lnTo>
                              <a:pt x="34" y="876"/>
                            </a:lnTo>
                            <a:lnTo>
                              <a:pt x="36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0" name=""/>
                      <p:cNvSpPr/>
                      <p:nvPr/>
                    </p:nvSpPr>
                    <p:spPr>
                      <a:xfrm>
                        <a:off x="7961400" y="3338640"/>
                        <a:ext cx="19080" cy="23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883">
                            <a:moveTo>
                              <a:pt x="1" y="0"/>
                            </a:moveTo>
                            <a:lnTo>
                              <a:pt x="0" y="864"/>
                            </a:lnTo>
                            <a:lnTo>
                              <a:pt x="37" y="883"/>
                            </a:lnTo>
                            <a:lnTo>
                              <a:pt x="35" y="8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8101080" y="3255840"/>
                    <a:ext cx="360360" cy="411120"/>
                    <a:chOff x="8101080" y="3255840"/>
                    <a:chExt cx="360360" cy="411120"/>
                  </a:xfrm>
                </p:grpSpPr>
                <p:grpSp>
                  <p:nvGrpSpPr>
                    <p:cNvPr id="1002" name=""/>
                    <p:cNvGrpSpPr/>
                    <p:nvPr/>
                  </p:nvGrpSpPr>
                  <p:grpSpPr>
                    <a:xfrm>
                      <a:off x="8101080" y="3255840"/>
                      <a:ext cx="360360" cy="411120"/>
                      <a:chOff x="8101080" y="3255840"/>
                      <a:chExt cx="360360" cy="411120"/>
                    </a:xfrm>
                  </p:grpSpPr>
                  <p:grpSp>
                    <p:nvGrpSpPr>
                      <p:cNvPr id="1003" name=""/>
                      <p:cNvGrpSpPr/>
                      <p:nvPr/>
                    </p:nvGrpSpPr>
                    <p:grpSpPr>
                      <a:xfrm>
                        <a:off x="8142120" y="3565440"/>
                        <a:ext cx="279720" cy="101520"/>
                        <a:chOff x="8142120" y="3565440"/>
                        <a:chExt cx="279720" cy="101520"/>
                      </a:xfrm>
                    </p:grpSpPr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>
                          <a:off x="8142120" y="3603600"/>
                          <a:ext cx="179640" cy="63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8" h="238">
                              <a:moveTo>
                                <a:pt x="0" y="0"/>
                              </a:moveTo>
                              <a:lnTo>
                                <a:pt x="0" y="71"/>
                              </a:lnTo>
                              <a:lnTo>
                                <a:pt x="338" y="238"/>
                              </a:lnTo>
                              <a:lnTo>
                                <a:pt x="338" y="16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560" bIns="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5" name=""/>
                        <p:cNvSpPr/>
                        <p:nvPr/>
                      </p:nvSpPr>
                      <p:spPr>
                        <a:xfrm>
                          <a:off x="8321760" y="3565440"/>
                          <a:ext cx="100080" cy="10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0" h="383">
                              <a:moveTo>
                                <a:pt x="0" y="308"/>
                              </a:moveTo>
                              <a:lnTo>
                                <a:pt x="0" y="383"/>
                              </a:lnTo>
                              <a:lnTo>
                                <a:pt x="190" y="60"/>
                              </a:lnTo>
                              <a:lnTo>
                                <a:pt x="190" y="0"/>
                              </a:lnTo>
                              <a:lnTo>
                                <a:pt x="0" y="30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8101080" y="3497400"/>
                        <a:ext cx="360360" cy="15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0" h="589">
                            <a:moveTo>
                              <a:pt x="0" y="370"/>
                            </a:moveTo>
                            <a:lnTo>
                              <a:pt x="452" y="589"/>
                            </a:lnTo>
                            <a:lnTo>
                              <a:pt x="680" y="199"/>
                            </a:lnTo>
                            <a:lnTo>
                              <a:pt x="247" y="0"/>
                            </a:lnTo>
                            <a:lnTo>
                              <a:pt x="0" y="37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7" name=""/>
                      <p:cNvSpPr/>
                      <p:nvPr/>
                    </p:nvSpPr>
                    <p:spPr>
                      <a:xfrm>
                        <a:off x="8134200" y="3400560"/>
                        <a:ext cx="28260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6" h="335">
                            <a:moveTo>
                              <a:pt x="353" y="335"/>
                            </a:moveTo>
                            <a:lnTo>
                              <a:pt x="536" y="116"/>
                            </a:lnTo>
                            <a:lnTo>
                              <a:pt x="202" y="0"/>
                            </a:lnTo>
                            <a:lnTo>
                              <a:pt x="0" y="214"/>
                            </a:lnTo>
                            <a:lnTo>
                              <a:pt x="353" y="335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8277120" y="3255840"/>
                        <a:ext cx="968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93">
                            <a:moveTo>
                              <a:pt x="0" y="0"/>
                            </a:moveTo>
                            <a:lnTo>
                              <a:pt x="45" y="393"/>
                            </a:lnTo>
                            <a:lnTo>
                              <a:pt x="185" y="26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>
                        <a:off x="8191440" y="3255840"/>
                        <a:ext cx="1094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7" h="395">
                            <a:moveTo>
                              <a:pt x="163" y="0"/>
                            </a:moveTo>
                            <a:lnTo>
                              <a:pt x="207" y="395"/>
                            </a:lnTo>
                            <a:lnTo>
                              <a:pt x="0" y="354"/>
                            </a:lnTo>
                            <a:lnTo>
                              <a:pt x="163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0" name=""/>
                      <p:cNvSpPr/>
                      <p:nvPr/>
                    </p:nvSpPr>
                    <p:spPr>
                      <a:xfrm>
                        <a:off x="8191440" y="3349800"/>
                        <a:ext cx="10800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477">
                            <a:moveTo>
                              <a:pt x="0" y="0"/>
                            </a:moveTo>
                            <a:lnTo>
                              <a:pt x="206" y="40"/>
                            </a:lnTo>
                            <a:lnTo>
                              <a:pt x="206" y="477"/>
                            </a:lnTo>
                            <a:lnTo>
                              <a:pt x="0" y="40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1" name=""/>
                      <p:cNvSpPr/>
                      <p:nvPr/>
                    </p:nvSpPr>
                    <p:spPr>
                      <a:xfrm>
                        <a:off x="8299440" y="3325680"/>
                        <a:ext cx="74520" cy="14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568">
                            <a:moveTo>
                              <a:pt x="0" y="130"/>
                            </a:moveTo>
                            <a:lnTo>
                              <a:pt x="140" y="0"/>
                            </a:lnTo>
                            <a:lnTo>
                              <a:pt x="140" y="406"/>
                            </a:lnTo>
                            <a:lnTo>
                              <a:pt x="0" y="568"/>
                            </a:lnTo>
                            <a:lnTo>
                              <a:pt x="0" y="13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2" name=""/>
                      <p:cNvSpPr/>
                      <p:nvPr/>
                    </p:nvSpPr>
                    <p:spPr>
                      <a:xfrm>
                        <a:off x="8134200" y="3457440"/>
                        <a:ext cx="185760" cy="169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1" h="640">
                            <a:moveTo>
                              <a:pt x="0" y="0"/>
                            </a:moveTo>
                            <a:lnTo>
                              <a:pt x="351" y="121"/>
                            </a:lnTo>
                            <a:lnTo>
                              <a:pt x="351" y="640"/>
                            </a:lnTo>
                            <a:lnTo>
                              <a:pt x="0" y="48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3" name=""/>
                      <p:cNvSpPr/>
                      <p:nvPr/>
                    </p:nvSpPr>
                    <p:spPr>
                      <a:xfrm>
                        <a:off x="8319960" y="3432240"/>
                        <a:ext cx="9684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739">
                            <a:moveTo>
                              <a:pt x="0" y="220"/>
                            </a:moveTo>
                            <a:lnTo>
                              <a:pt x="184" y="0"/>
                            </a:lnTo>
                            <a:lnTo>
                              <a:pt x="184" y="443"/>
                            </a:lnTo>
                            <a:lnTo>
                              <a:pt x="0" y="739"/>
                            </a:lnTo>
                            <a:lnTo>
                              <a:pt x="0" y="220"/>
                            </a:lnTo>
                            <a:close/>
                          </a:path>
                        </a:pathLst>
                      </a:custGeom>
                      <a:solidFill>
                        <a:srgbClr val="001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14" name=""/>
                    <p:cNvGrpSpPr/>
                    <p:nvPr/>
                  </p:nvGrpSpPr>
                  <p:grpSpPr>
                    <a:xfrm>
                      <a:off x="8169120" y="3363840"/>
                      <a:ext cx="114480" cy="235080"/>
                      <a:chOff x="8169120" y="3363840"/>
                      <a:chExt cx="114480" cy="235080"/>
                    </a:xfrm>
                  </p:grpSpPr>
                  <p:grpSp>
                    <p:nvGrpSpPr>
                      <p:cNvPr id="1015" name=""/>
                      <p:cNvGrpSpPr/>
                      <p:nvPr/>
                    </p:nvGrpSpPr>
                    <p:grpSpPr>
                      <a:xfrm>
                        <a:off x="8226360" y="3363840"/>
                        <a:ext cx="39240" cy="66600"/>
                        <a:chOff x="8226360" y="3363840"/>
                        <a:chExt cx="39240" cy="66600"/>
                      </a:xfrm>
                    </p:grpSpPr>
                    <p:sp>
                      <p:nvSpPr>
                        <p:cNvPr id="1016" name=""/>
                        <p:cNvSpPr/>
                        <p:nvPr/>
                      </p:nvSpPr>
                      <p:spPr>
                        <a:xfrm>
                          <a:off x="8234640" y="3363840"/>
                          <a:ext cx="30960" cy="6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58126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581268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>
                          <a:off x="8228160" y="3363840"/>
                          <a:ext cx="24840" cy="63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2" y="9321"/>
                              </a:moveTo>
                              <a:arcTo wR="10800" hR="10800" stAng="-10327855" swAng="453476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2" y="9321"/>
                              </a:moveTo>
                              <a:arcTo wR="10800" hR="10800" stAng="-10327855" swAng="4534766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560" bIns="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>
                          <a:off x="8226360" y="3395520"/>
                          <a:ext cx="1260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113">
                              <a:moveTo>
                                <a:pt x="0" y="0"/>
                              </a:moveTo>
                              <a:lnTo>
                                <a:pt x="0" y="104"/>
                              </a:lnTo>
                              <a:lnTo>
                                <a:pt x="24" y="113"/>
                              </a:lnTo>
                              <a:lnTo>
                                <a:pt x="24" y="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>
                          <a:off x="8250120" y="3400560"/>
                          <a:ext cx="12960" cy="2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112">
                              <a:moveTo>
                                <a:pt x="0" y="0"/>
                              </a:moveTo>
                              <a:lnTo>
                                <a:pt x="0" y="104"/>
                              </a:lnTo>
                              <a:lnTo>
                                <a:pt x="24" y="112"/>
                              </a:lnTo>
                              <a:lnTo>
                                <a:pt x="24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20" name=""/>
                      <p:cNvGrpSpPr/>
                      <p:nvPr/>
                    </p:nvGrpSpPr>
                    <p:grpSpPr>
                      <a:xfrm>
                        <a:off x="8169120" y="3494160"/>
                        <a:ext cx="114480" cy="104760"/>
                        <a:chOff x="8169120" y="3494160"/>
                        <a:chExt cx="114480" cy="104760"/>
                      </a:xfrm>
                    </p:grpSpPr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>
                          <a:off x="8169120" y="3530520"/>
                          <a:ext cx="114480" cy="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7" h="257">
                              <a:moveTo>
                                <a:pt x="0" y="0"/>
                              </a:moveTo>
                              <a:lnTo>
                                <a:pt x="0" y="161"/>
                              </a:lnTo>
                              <a:lnTo>
                                <a:pt x="217" y="257"/>
                              </a:lnTo>
                              <a:lnTo>
                                <a:pt x="217" y="9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8170920" y="3494160"/>
                          <a:ext cx="10800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5" h="192">
                              <a:moveTo>
                                <a:pt x="0" y="0"/>
                              </a:moveTo>
                              <a:lnTo>
                                <a:pt x="0" y="111"/>
                              </a:lnTo>
                              <a:lnTo>
                                <a:pt x="205" y="192"/>
                              </a:lnTo>
                              <a:lnTo>
                                <a:pt x="205" y="8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023" name=""/>
                <p:cNvSpPr/>
                <p:nvPr/>
              </p:nvSpPr>
              <p:spPr>
                <a:xfrm>
                  <a:off x="5211720" y="2990880"/>
                  <a:ext cx="585720" cy="409680"/>
                </a:xfrm>
                <a:prstGeom prst="rect">
                  <a:avLst/>
                </a:prstGeom>
                <a:solidFill>
                  <a:srgbClr val="ff7c80"/>
                </a:solidFill>
                <a:ln w="111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334120" y="3040200"/>
                  <a:ext cx="38232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461560" y="3087720"/>
                  <a:ext cx="157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700" spc="-1" strike="noStrike">
                      <a:solidFill>
                        <a:srgbClr val="cc3300"/>
                      </a:solidFill>
                      <a:latin typeface="Times New Roman"/>
                    </a:rPr>
                    <a:t>D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598720" y="3211560"/>
                  <a:ext cx="70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100" spc="-1" strike="noStrike">
                      <a:solidFill>
                        <a:srgbClr val="cc3300"/>
                      </a:solidFill>
                      <a:latin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7" name=""/>
                <p:cNvGrpSpPr/>
                <p:nvPr/>
              </p:nvGrpSpPr>
              <p:grpSpPr>
                <a:xfrm>
                  <a:off x="5999040" y="3192480"/>
                  <a:ext cx="1559160" cy="168120"/>
                  <a:chOff x="5999040" y="3192480"/>
                  <a:chExt cx="1559160" cy="16812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5999040" y="3254040"/>
                    <a:ext cx="14446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1" h="58">
                        <a:moveTo>
                          <a:pt x="0" y="5"/>
                        </a:moveTo>
                        <a:lnTo>
                          <a:pt x="0" y="58"/>
                        </a:lnTo>
                        <a:lnTo>
                          <a:pt x="1821" y="53"/>
                        </a:lnTo>
                        <a:lnTo>
                          <a:pt x="1821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388280" y="3192480"/>
                    <a:ext cx="1699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2">
                        <a:moveTo>
                          <a:pt x="0" y="212"/>
                        </a:moveTo>
                        <a:lnTo>
                          <a:pt x="213" y="107"/>
                        </a:lnTo>
                        <a:lnTo>
                          <a:pt x="0" y="0"/>
                        </a:lnTo>
                        <a:lnTo>
                          <a:pt x="67" y="107"/>
                        </a:lnTo>
                        <a:lnTo>
                          <a:pt x="0" y="21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0" name=""/>
                <p:cNvSpPr/>
                <p:nvPr/>
              </p:nvSpPr>
              <p:spPr>
                <a:xfrm>
                  <a:off x="6673680" y="2259000"/>
                  <a:ext cx="1686240" cy="331920"/>
                </a:xfrm>
                <a:prstGeom prst="rect">
                  <a:avLst/>
                </a:prstGeom>
                <a:solidFill>
                  <a:srgbClr val="ff5050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798960" y="2308320"/>
                  <a:ext cx="15674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700" spc="-1" strike="noStrike">
                      <a:solidFill>
                        <a:srgbClr val="292929"/>
                      </a:solidFill>
                      <a:latin typeface="Times New Roman"/>
                    </a:rPr>
                    <a:t>DISTRIBUCION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2" name=""/>
                <p:cNvGrpSpPr/>
                <p:nvPr/>
              </p:nvGrpSpPr>
              <p:grpSpPr>
                <a:xfrm>
                  <a:off x="7567560" y="3032280"/>
                  <a:ext cx="990720" cy="634680"/>
                  <a:chOff x="7567560" y="3032280"/>
                  <a:chExt cx="990720" cy="634680"/>
                </a:xfrm>
              </p:grpSpPr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7792920" y="3070080"/>
                    <a:ext cx="309600" cy="285840"/>
                    <a:chOff x="7792920" y="3070080"/>
                    <a:chExt cx="309600" cy="285840"/>
                  </a:xfrm>
                </p:grpSpPr>
                <p:grpSp>
                  <p:nvGrpSpPr>
                    <p:cNvPr id="1034" name=""/>
                    <p:cNvGrpSpPr/>
                    <p:nvPr/>
                  </p:nvGrpSpPr>
                  <p:grpSpPr>
                    <a:xfrm>
                      <a:off x="7792920" y="3070080"/>
                      <a:ext cx="309600" cy="285840"/>
                      <a:chOff x="7792920" y="3070080"/>
                      <a:chExt cx="309600" cy="285840"/>
                    </a:xfrm>
                  </p:grpSpPr>
                  <p:sp>
                    <p:nvSpPr>
                      <p:cNvPr id="1035" name=""/>
                      <p:cNvSpPr/>
                      <p:nvPr/>
                    </p:nvSpPr>
                    <p:spPr>
                      <a:xfrm>
                        <a:off x="7792920" y="3132000"/>
                        <a:ext cx="30960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7" h="152">
                            <a:moveTo>
                              <a:pt x="434" y="152"/>
                            </a:moveTo>
                            <a:lnTo>
                              <a:pt x="587" y="71"/>
                            </a:lnTo>
                            <a:lnTo>
                              <a:pt x="163" y="0"/>
                            </a:lnTo>
                            <a:lnTo>
                              <a:pt x="0" y="83"/>
                            </a:lnTo>
                            <a:lnTo>
                              <a:pt x="434" y="152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807320" y="3070080"/>
                        <a:ext cx="25884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74">
                            <a:moveTo>
                              <a:pt x="0" y="37"/>
                            </a:moveTo>
                            <a:lnTo>
                              <a:pt x="381" y="74"/>
                            </a:lnTo>
                            <a:lnTo>
                              <a:pt x="488" y="41"/>
                            </a:lnTo>
                            <a:lnTo>
                              <a:pt x="116" y="0"/>
                            </a:lnTo>
                            <a:lnTo>
                              <a:pt x="0" y="37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8010360" y="3081240"/>
                        <a:ext cx="5580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313">
                            <a:moveTo>
                              <a:pt x="0" y="32"/>
                            </a:moveTo>
                            <a:lnTo>
                              <a:pt x="107" y="0"/>
                            </a:lnTo>
                            <a:lnTo>
                              <a:pt x="107" y="261"/>
                            </a:lnTo>
                            <a:lnTo>
                              <a:pt x="0" y="313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" name=""/>
                      <p:cNvSpPr/>
                      <p:nvPr/>
                    </p:nvSpPr>
                    <p:spPr>
                      <a:xfrm>
                        <a:off x="7807320" y="3081240"/>
                        <a:ext cx="20304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3" h="315">
                            <a:moveTo>
                              <a:pt x="1" y="0"/>
                            </a:moveTo>
                            <a:lnTo>
                              <a:pt x="383" y="37"/>
                            </a:lnTo>
                            <a:lnTo>
                              <a:pt x="383" y="315"/>
                            </a:lnTo>
                            <a:lnTo>
                              <a:pt x="0" y="25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" name=""/>
                      <p:cNvSpPr/>
                      <p:nvPr/>
                    </p:nvSpPr>
                    <p:spPr>
                      <a:xfrm>
                        <a:off x="8021520" y="3151080"/>
                        <a:ext cx="81000" cy="20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3" h="777">
                            <a:moveTo>
                              <a:pt x="153" y="0"/>
                            </a:moveTo>
                            <a:lnTo>
                              <a:pt x="0" y="82"/>
                            </a:lnTo>
                            <a:lnTo>
                              <a:pt x="0" y="777"/>
                            </a:lnTo>
                            <a:lnTo>
                              <a:pt x="153" y="677"/>
                            </a:lnTo>
                            <a:lnTo>
                              <a:pt x="153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0" name=""/>
                      <p:cNvSpPr/>
                      <p:nvPr/>
                    </p:nvSpPr>
                    <p:spPr>
                      <a:xfrm>
                        <a:off x="7792920" y="3154320"/>
                        <a:ext cx="230400" cy="20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5" h="765">
                            <a:moveTo>
                              <a:pt x="0" y="0"/>
                            </a:moveTo>
                            <a:lnTo>
                              <a:pt x="435" y="70"/>
                            </a:lnTo>
                            <a:lnTo>
                              <a:pt x="434" y="765"/>
                            </a:lnTo>
                            <a:lnTo>
                              <a:pt x="0" y="6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1" name=""/>
                    <p:cNvGrpSpPr/>
                    <p:nvPr/>
                  </p:nvGrpSpPr>
                  <p:grpSpPr>
                    <a:xfrm>
                      <a:off x="7816680" y="3084480"/>
                      <a:ext cx="195480" cy="119160"/>
                      <a:chOff x="7816680" y="3084480"/>
                      <a:chExt cx="195480" cy="119160"/>
                    </a:xfrm>
                  </p:grpSpPr>
                  <p:sp>
                    <p:nvSpPr>
                      <p:cNvPr id="1042" name=""/>
                      <p:cNvSpPr/>
                      <p:nvPr/>
                    </p:nvSpPr>
                    <p:spPr>
                      <a:xfrm>
                        <a:off x="7816680" y="3084480"/>
                        <a:ext cx="302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8">
                            <a:moveTo>
                              <a:pt x="0" y="0"/>
                            </a:moveTo>
                            <a:lnTo>
                              <a:pt x="57" y="7"/>
                            </a:lnTo>
                            <a:lnTo>
                              <a:pt x="57" y="28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3" name=""/>
                      <p:cNvSpPr/>
                      <p:nvPr/>
                    </p:nvSpPr>
                    <p:spPr>
                      <a:xfrm>
                        <a:off x="7854840" y="3097080"/>
                        <a:ext cx="302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7">
                            <a:moveTo>
                              <a:pt x="0" y="0"/>
                            </a:moveTo>
                            <a:lnTo>
                              <a:pt x="57" y="6"/>
                            </a:lnTo>
                            <a:lnTo>
                              <a:pt x="57" y="27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4" name=""/>
                      <p:cNvSpPr/>
                      <p:nvPr/>
                    </p:nvSpPr>
                    <p:spPr>
                      <a:xfrm>
                        <a:off x="7897680" y="3087720"/>
                        <a:ext cx="30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27">
                            <a:moveTo>
                              <a:pt x="0" y="0"/>
                            </a:moveTo>
                            <a:lnTo>
                              <a:pt x="56" y="6"/>
                            </a:lnTo>
                            <a:lnTo>
                              <a:pt x="56" y="27"/>
                            </a:lnTo>
                            <a:lnTo>
                              <a:pt x="0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5" name=""/>
                      <p:cNvSpPr/>
                      <p:nvPr/>
                    </p:nvSpPr>
                    <p:spPr>
                      <a:xfrm>
                        <a:off x="7942320" y="3090960"/>
                        <a:ext cx="302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7">
                            <a:moveTo>
                              <a:pt x="0" y="0"/>
                            </a:moveTo>
                            <a:lnTo>
                              <a:pt x="57" y="6"/>
                            </a:lnTo>
                            <a:lnTo>
                              <a:pt x="57" y="27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" name=""/>
                      <p:cNvSpPr/>
                      <p:nvPr/>
                    </p:nvSpPr>
                    <p:spPr>
                      <a:xfrm>
                        <a:off x="7942320" y="3102120"/>
                        <a:ext cx="302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7">
                            <a:moveTo>
                              <a:pt x="0" y="0"/>
                            </a:moveTo>
                            <a:lnTo>
                              <a:pt x="57" y="6"/>
                            </a:lnTo>
                            <a:lnTo>
                              <a:pt x="57" y="27"/>
                            </a:lnTo>
                            <a:lnTo>
                              <a:pt x="0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7" name=""/>
                      <p:cNvSpPr/>
                      <p:nvPr/>
                    </p:nvSpPr>
                    <p:spPr>
                      <a:xfrm>
                        <a:off x="7896240" y="3112920"/>
                        <a:ext cx="3024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27">
                            <a:moveTo>
                              <a:pt x="0" y="0"/>
                            </a:moveTo>
                            <a:lnTo>
                              <a:pt x="56" y="6"/>
                            </a:lnTo>
                            <a:lnTo>
                              <a:pt x="56" y="27"/>
                            </a:lnTo>
                            <a:lnTo>
                              <a:pt x="0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8" name=""/>
                      <p:cNvSpPr/>
                      <p:nvPr/>
                    </p:nvSpPr>
                    <p:spPr>
                      <a:xfrm>
                        <a:off x="7942320" y="3125880"/>
                        <a:ext cx="30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6">
                            <a:moveTo>
                              <a:pt x="0" y="0"/>
                            </a:moveTo>
                            <a:lnTo>
                              <a:pt x="57" y="6"/>
                            </a:lnTo>
                            <a:lnTo>
                              <a:pt x="57" y="26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9" name=""/>
                      <p:cNvSpPr/>
                      <p:nvPr/>
                    </p:nvSpPr>
                    <p:spPr>
                      <a:xfrm>
                        <a:off x="7981920" y="3174840"/>
                        <a:ext cx="30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28">
                            <a:moveTo>
                              <a:pt x="0" y="0"/>
                            </a:moveTo>
                            <a:lnTo>
                              <a:pt x="57" y="7"/>
                            </a:lnTo>
                            <a:lnTo>
                              <a:pt x="57" y="28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0" name=""/>
                      <p:cNvSpPr/>
                      <p:nvPr/>
                    </p:nvSpPr>
                    <p:spPr>
                      <a:xfrm>
                        <a:off x="7983360" y="3197160"/>
                        <a:ext cx="2880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26">
                            <a:moveTo>
                              <a:pt x="0" y="0"/>
                            </a:moveTo>
                            <a:lnTo>
                              <a:pt x="56" y="5"/>
                            </a:lnTo>
                            <a:lnTo>
                              <a:pt x="56" y="26"/>
                            </a:lnTo>
                            <a:lnTo>
                              <a:pt x="0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8039160" y="3032280"/>
                    <a:ext cx="384120" cy="398160"/>
                    <a:chOff x="8039160" y="3032280"/>
                    <a:chExt cx="384120" cy="398160"/>
                  </a:xfrm>
                </p:grpSpPr>
                <p:grpSp>
                  <p:nvGrpSpPr>
                    <p:cNvPr id="1052" name=""/>
                    <p:cNvGrpSpPr/>
                    <p:nvPr/>
                  </p:nvGrpSpPr>
                  <p:grpSpPr>
                    <a:xfrm>
                      <a:off x="8039160" y="3032280"/>
                      <a:ext cx="384120" cy="398160"/>
                      <a:chOff x="8039160" y="3032280"/>
                      <a:chExt cx="384120" cy="398160"/>
                    </a:xfrm>
                  </p:grpSpPr>
                  <p:sp>
                    <p:nvSpPr>
                      <p:cNvPr id="1053" name=""/>
                      <p:cNvSpPr/>
                      <p:nvPr/>
                    </p:nvSpPr>
                    <p:spPr>
                      <a:xfrm>
                        <a:off x="8042400" y="3146400"/>
                        <a:ext cx="3808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1" h="289">
                            <a:moveTo>
                              <a:pt x="0" y="211"/>
                            </a:moveTo>
                            <a:lnTo>
                              <a:pt x="408" y="289"/>
                            </a:lnTo>
                            <a:lnTo>
                              <a:pt x="721" y="56"/>
                            </a:lnTo>
                            <a:lnTo>
                              <a:pt x="329" y="0"/>
                            </a:lnTo>
                            <a:lnTo>
                              <a:pt x="0" y="211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4" name=""/>
                      <p:cNvSpPr/>
                      <p:nvPr/>
                    </p:nvSpPr>
                    <p:spPr>
                      <a:xfrm>
                        <a:off x="8094600" y="3081240"/>
                        <a:ext cx="158760" cy="13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0" h="491">
                            <a:moveTo>
                              <a:pt x="0" y="0"/>
                            </a:moveTo>
                            <a:lnTo>
                              <a:pt x="300" y="24"/>
                            </a:lnTo>
                            <a:lnTo>
                              <a:pt x="300" y="491"/>
                            </a:lnTo>
                            <a:lnTo>
                              <a:pt x="0" y="42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5" name=""/>
                      <p:cNvSpPr/>
                      <p:nvPr/>
                    </p:nvSpPr>
                    <p:spPr>
                      <a:xfrm>
                        <a:off x="8250120" y="3059280"/>
                        <a:ext cx="136800" cy="15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8" h="569">
                            <a:moveTo>
                              <a:pt x="0" y="105"/>
                            </a:moveTo>
                            <a:lnTo>
                              <a:pt x="0" y="569"/>
                            </a:lnTo>
                            <a:lnTo>
                              <a:pt x="258" y="383"/>
                            </a:lnTo>
                            <a:lnTo>
                              <a:pt x="258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6" name=""/>
                      <p:cNvSpPr/>
                      <p:nvPr/>
                    </p:nvSpPr>
                    <p:spPr>
                      <a:xfrm>
                        <a:off x="8094600" y="3054240"/>
                        <a:ext cx="292320" cy="3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4" h="127">
                            <a:moveTo>
                              <a:pt x="0" y="103"/>
                            </a:moveTo>
                            <a:lnTo>
                              <a:pt x="296" y="127"/>
                            </a:lnTo>
                            <a:lnTo>
                              <a:pt x="554" y="22"/>
                            </a:lnTo>
                            <a:lnTo>
                              <a:pt x="296" y="0"/>
                            </a:lnTo>
                            <a:lnTo>
                              <a:pt x="0" y="103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7" name=""/>
                      <p:cNvSpPr/>
                      <p:nvPr/>
                    </p:nvSpPr>
                    <p:spPr>
                      <a:xfrm>
                        <a:off x="8132760" y="3032280"/>
                        <a:ext cx="2127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77">
                            <a:moveTo>
                              <a:pt x="0" y="61"/>
                            </a:moveTo>
                            <a:lnTo>
                              <a:pt x="215" y="77"/>
                            </a:lnTo>
                            <a:lnTo>
                              <a:pt x="404" y="19"/>
                            </a:lnTo>
                            <a:lnTo>
                              <a:pt x="202" y="0"/>
                            </a:lnTo>
                            <a:lnTo>
                              <a:pt x="0" y="61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8" name=""/>
                      <p:cNvSpPr/>
                      <p:nvPr/>
                    </p:nvSpPr>
                    <p:spPr>
                      <a:xfrm>
                        <a:off x="8132760" y="3048120"/>
                        <a:ext cx="1112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119">
                            <a:moveTo>
                              <a:pt x="0" y="0"/>
                            </a:moveTo>
                            <a:lnTo>
                              <a:pt x="211" y="15"/>
                            </a:lnTo>
                            <a:lnTo>
                              <a:pt x="211" y="119"/>
                            </a:lnTo>
                            <a:lnTo>
                              <a:pt x="0" y="1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9" name=""/>
                      <p:cNvSpPr/>
                      <p:nvPr/>
                    </p:nvSpPr>
                    <p:spPr>
                      <a:xfrm>
                        <a:off x="8244000" y="3036960"/>
                        <a:ext cx="10152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3" h="161">
                            <a:moveTo>
                              <a:pt x="0" y="58"/>
                            </a:moveTo>
                            <a:lnTo>
                              <a:pt x="0" y="161"/>
                            </a:lnTo>
                            <a:lnTo>
                              <a:pt x="193" y="83"/>
                            </a:lnTo>
                            <a:lnTo>
                              <a:pt x="193" y="0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0" name=""/>
                      <p:cNvSpPr/>
                      <p:nvPr/>
                    </p:nvSpPr>
                    <p:spPr>
                      <a:xfrm>
                        <a:off x="8256600" y="3160800"/>
                        <a:ext cx="166680" cy="269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6" h="1021">
                            <a:moveTo>
                              <a:pt x="316" y="0"/>
                            </a:moveTo>
                            <a:lnTo>
                              <a:pt x="2" y="236"/>
                            </a:lnTo>
                            <a:lnTo>
                              <a:pt x="0" y="1021"/>
                            </a:lnTo>
                            <a:lnTo>
                              <a:pt x="316" y="715"/>
                            </a:lnTo>
                            <a:lnTo>
                              <a:pt x="316" y="0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1" name=""/>
                      <p:cNvSpPr/>
                      <p:nvPr/>
                    </p:nvSpPr>
                    <p:spPr>
                      <a:xfrm>
                        <a:off x="8039160" y="3201840"/>
                        <a:ext cx="21744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1" h="863">
                            <a:moveTo>
                              <a:pt x="4" y="0"/>
                            </a:moveTo>
                            <a:lnTo>
                              <a:pt x="411" y="78"/>
                            </a:lnTo>
                            <a:lnTo>
                              <a:pt x="411" y="863"/>
                            </a:lnTo>
                            <a:lnTo>
                              <a:pt x="0" y="723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62" name=""/>
                    <p:cNvGrpSpPr/>
                    <p:nvPr/>
                  </p:nvGrpSpPr>
                  <p:grpSpPr>
                    <a:xfrm>
                      <a:off x="8064360" y="3084480"/>
                      <a:ext cx="171720" cy="169920"/>
                      <a:chOff x="8064360" y="3084480"/>
                      <a:chExt cx="171720" cy="169920"/>
                    </a:xfrm>
                  </p:grpSpPr>
                  <p:grpSp>
                    <p:nvGrpSpPr>
                      <p:cNvPr id="1063" name=""/>
                      <p:cNvGrpSpPr/>
                      <p:nvPr/>
                    </p:nvGrpSpPr>
                    <p:grpSpPr>
                      <a:xfrm>
                        <a:off x="8104320" y="3084480"/>
                        <a:ext cx="131760" cy="38160"/>
                        <a:chOff x="8104320" y="3084480"/>
                        <a:chExt cx="131760" cy="38160"/>
                      </a:xfrm>
                    </p:grpSpPr>
                    <p:sp>
                      <p:nvSpPr>
                        <p:cNvPr id="1064" name=""/>
                        <p:cNvSpPr/>
                        <p:nvPr/>
                      </p:nvSpPr>
                      <p:spPr>
                        <a:xfrm>
                          <a:off x="8104320" y="3084480"/>
                          <a:ext cx="2700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17">
                              <a:moveTo>
                                <a:pt x="0" y="0"/>
                              </a:moveTo>
                              <a:lnTo>
                                <a:pt x="50" y="6"/>
                              </a:lnTo>
                              <a:lnTo>
                                <a:pt x="50" y="117"/>
                              </a:lnTo>
                              <a:lnTo>
                                <a:pt x="1" y="10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5" name=""/>
                        <p:cNvSpPr/>
                        <p:nvPr/>
                      </p:nvSpPr>
                      <p:spPr>
                        <a:xfrm>
                          <a:off x="8139240" y="3086280"/>
                          <a:ext cx="2700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17">
                              <a:moveTo>
                                <a:pt x="0" y="0"/>
                              </a:moveTo>
                              <a:lnTo>
                                <a:pt x="50" y="5"/>
                              </a:lnTo>
                              <a:lnTo>
                                <a:pt x="50" y="117"/>
                              </a:lnTo>
                              <a:lnTo>
                                <a:pt x="0" y="1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>
                          <a:off x="8174160" y="3087720"/>
                          <a:ext cx="2700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20">
                              <a:moveTo>
                                <a:pt x="0" y="0"/>
                              </a:moveTo>
                              <a:lnTo>
                                <a:pt x="52" y="5"/>
                              </a:lnTo>
                              <a:lnTo>
                                <a:pt x="50" y="120"/>
                              </a:lnTo>
                              <a:lnTo>
                                <a:pt x="0" y="11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>
                          <a:off x="8209080" y="3090960"/>
                          <a:ext cx="2700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24">
                              <a:moveTo>
                                <a:pt x="0" y="0"/>
                              </a:moveTo>
                              <a:lnTo>
                                <a:pt x="50" y="6"/>
                              </a:lnTo>
                              <a:lnTo>
                                <a:pt x="50" y="124"/>
                              </a:lnTo>
                              <a:lnTo>
                                <a:pt x="0" y="11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68" name=""/>
                      <p:cNvGrpSpPr/>
                      <p:nvPr/>
                    </p:nvGrpSpPr>
                    <p:grpSpPr>
                      <a:xfrm>
                        <a:off x="8104320" y="3121200"/>
                        <a:ext cx="131760" cy="39600"/>
                        <a:chOff x="8104320" y="3121200"/>
                        <a:chExt cx="131760" cy="39600"/>
                      </a:xfrm>
                    </p:grpSpPr>
                    <p:sp>
                      <p:nvSpPr>
                        <p:cNvPr id="1069" name=""/>
                        <p:cNvSpPr/>
                        <p:nvPr/>
                      </p:nvSpPr>
                      <p:spPr>
                        <a:xfrm>
                          <a:off x="8104320" y="3121200"/>
                          <a:ext cx="2700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20">
                              <a:moveTo>
                                <a:pt x="0" y="0"/>
                              </a:moveTo>
                              <a:lnTo>
                                <a:pt x="50" y="8"/>
                              </a:lnTo>
                              <a:lnTo>
                                <a:pt x="50" y="120"/>
                              </a:lnTo>
                              <a:lnTo>
                                <a:pt x="1" y="11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>
                          <a:off x="8139240" y="3124080"/>
                          <a:ext cx="27000" cy="32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" h="121">
                              <a:moveTo>
                                <a:pt x="1" y="0"/>
                              </a:moveTo>
                              <a:lnTo>
                                <a:pt x="51" y="10"/>
                              </a:lnTo>
                              <a:lnTo>
                                <a:pt x="50" y="121"/>
                              </a:lnTo>
                              <a:lnTo>
                                <a:pt x="0" y="112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760" bIns="-14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1" name=""/>
                        <p:cNvSpPr/>
                        <p:nvPr/>
                      </p:nvSpPr>
                      <p:spPr>
                        <a:xfrm>
                          <a:off x="8174160" y="3125880"/>
                          <a:ext cx="2700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19">
                              <a:moveTo>
                                <a:pt x="0" y="0"/>
                              </a:moveTo>
                              <a:lnTo>
                                <a:pt x="52" y="7"/>
                              </a:lnTo>
                              <a:lnTo>
                                <a:pt x="50" y="119"/>
                              </a:lnTo>
                              <a:lnTo>
                                <a:pt x="0" y="11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>
                          <a:off x="8209080" y="3129120"/>
                          <a:ext cx="2700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20">
                              <a:moveTo>
                                <a:pt x="0" y="0"/>
                              </a:moveTo>
                              <a:lnTo>
                                <a:pt x="50" y="9"/>
                              </a:lnTo>
                              <a:lnTo>
                                <a:pt x="50" y="120"/>
                              </a:lnTo>
                              <a:lnTo>
                                <a:pt x="0" y="11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73" name=""/>
                      <p:cNvGrpSpPr/>
                      <p:nvPr/>
                    </p:nvGrpSpPr>
                    <p:grpSpPr>
                      <a:xfrm>
                        <a:off x="8064360" y="3209760"/>
                        <a:ext cx="163800" cy="44640"/>
                        <a:chOff x="8064360" y="3209760"/>
                        <a:chExt cx="163800" cy="44640"/>
                      </a:xfrm>
                    </p:grpSpPr>
                    <p:grpSp>
                      <p:nvGrpSpPr>
                        <p:cNvPr id="1074" name=""/>
                        <p:cNvGrpSpPr/>
                        <p:nvPr/>
                      </p:nvGrpSpPr>
                      <p:grpSpPr>
                        <a:xfrm>
                          <a:off x="8064360" y="3209760"/>
                          <a:ext cx="163800" cy="28800"/>
                          <a:chOff x="8064360" y="3209760"/>
                          <a:chExt cx="163800" cy="28800"/>
                        </a:xfrm>
                      </p:grpSpPr>
                      <p:sp>
                        <p:nvSpPr>
                          <p:cNvPr id="1075" name=""/>
                          <p:cNvSpPr/>
                          <p:nvPr/>
                        </p:nvSpPr>
                        <p:spPr>
                          <a:xfrm>
                            <a:off x="8105760" y="3214800"/>
                            <a:ext cx="3492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5">
                                <a:moveTo>
                                  <a:pt x="1" y="0"/>
                                </a:moveTo>
                                <a:lnTo>
                                  <a:pt x="67" y="13"/>
                                </a:lnTo>
                                <a:lnTo>
                                  <a:pt x="67" y="55"/>
                                </a:lnTo>
                                <a:lnTo>
                                  <a:pt x="0" y="41"/>
                                </a:lnTo>
                                <a:lnTo>
                                  <a:pt x="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76" name=""/>
                          <p:cNvSpPr/>
                          <p:nvPr/>
                        </p:nvSpPr>
                        <p:spPr>
                          <a:xfrm>
                            <a:off x="8150400" y="3218040"/>
                            <a:ext cx="34920" cy="15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9">
                                <a:moveTo>
                                  <a:pt x="0" y="0"/>
                                </a:moveTo>
                                <a:lnTo>
                                  <a:pt x="67" y="15"/>
                                </a:lnTo>
                                <a:lnTo>
                                  <a:pt x="67" y="59"/>
                                </a:lnTo>
                                <a:lnTo>
                                  <a:pt x="0" y="4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77" name=""/>
                          <p:cNvSpPr/>
                          <p:nvPr/>
                        </p:nvSpPr>
                        <p:spPr>
                          <a:xfrm>
                            <a:off x="8193240" y="3222720"/>
                            <a:ext cx="34920" cy="15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8">
                                <a:moveTo>
                                  <a:pt x="0" y="0"/>
                                </a:moveTo>
                                <a:lnTo>
                                  <a:pt x="67" y="14"/>
                                </a:lnTo>
                                <a:lnTo>
                                  <a:pt x="67" y="58"/>
                                </a:lnTo>
                                <a:lnTo>
                                  <a:pt x="0" y="4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78" name=""/>
                          <p:cNvSpPr/>
                          <p:nvPr/>
                        </p:nvSpPr>
                        <p:spPr>
                          <a:xfrm>
                            <a:off x="8064360" y="3209760"/>
                            <a:ext cx="34920" cy="14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54">
                                <a:moveTo>
                                  <a:pt x="0" y="0"/>
                                </a:moveTo>
                                <a:lnTo>
                                  <a:pt x="66" y="13"/>
                                </a:lnTo>
                                <a:lnTo>
                                  <a:pt x="66" y="54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9" name=""/>
                        <p:cNvGrpSpPr/>
                        <p:nvPr/>
                      </p:nvGrpSpPr>
                      <p:grpSpPr>
                        <a:xfrm>
                          <a:off x="8064360" y="3225960"/>
                          <a:ext cx="163800" cy="28440"/>
                          <a:chOff x="8064360" y="3225960"/>
                          <a:chExt cx="163800" cy="28440"/>
                        </a:xfrm>
                      </p:grpSpPr>
                      <p:sp>
                        <p:nvSpPr>
                          <p:cNvPr id="1080" name=""/>
                          <p:cNvSpPr/>
                          <p:nvPr/>
                        </p:nvSpPr>
                        <p:spPr>
                          <a:xfrm>
                            <a:off x="8105760" y="3230640"/>
                            <a:ext cx="3492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6">
                                <a:moveTo>
                                  <a:pt x="2" y="0"/>
                                </a:moveTo>
                                <a:lnTo>
                                  <a:pt x="67" y="14"/>
                                </a:lnTo>
                                <a:lnTo>
                                  <a:pt x="67" y="56"/>
                                </a:lnTo>
                                <a:lnTo>
                                  <a:pt x="0" y="43"/>
                                </a:lnTo>
                                <a:lnTo>
                                  <a:pt x="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1" name=""/>
                          <p:cNvSpPr/>
                          <p:nvPr/>
                        </p:nvSpPr>
                        <p:spPr>
                          <a:xfrm>
                            <a:off x="8148600" y="3233880"/>
                            <a:ext cx="36720" cy="15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6">
                                <a:moveTo>
                                  <a:pt x="0" y="0"/>
                                </a:moveTo>
                                <a:lnTo>
                                  <a:pt x="67" y="14"/>
                                </a:lnTo>
                                <a:lnTo>
                                  <a:pt x="67" y="56"/>
                                </a:lnTo>
                                <a:lnTo>
                                  <a:pt x="0" y="4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2" name=""/>
                          <p:cNvSpPr/>
                          <p:nvPr/>
                        </p:nvSpPr>
                        <p:spPr>
                          <a:xfrm>
                            <a:off x="8193240" y="3238560"/>
                            <a:ext cx="34920" cy="15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56">
                                <a:moveTo>
                                  <a:pt x="0" y="0"/>
                                </a:moveTo>
                                <a:lnTo>
                                  <a:pt x="67" y="16"/>
                                </a:lnTo>
                                <a:lnTo>
                                  <a:pt x="67" y="56"/>
                                </a:lnTo>
                                <a:lnTo>
                                  <a:pt x="0" y="41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960" bIns="-30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3" name=""/>
                          <p:cNvSpPr/>
                          <p:nvPr/>
                        </p:nvSpPr>
                        <p:spPr>
                          <a:xfrm>
                            <a:off x="8064360" y="3225960"/>
                            <a:ext cx="3492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6" h="56">
                                <a:moveTo>
                                  <a:pt x="0" y="0"/>
                                </a:moveTo>
                                <a:lnTo>
                                  <a:pt x="66" y="13"/>
                                </a:lnTo>
                                <a:lnTo>
                                  <a:pt x="66" y="56"/>
                                </a:lnTo>
                                <a:lnTo>
                                  <a:pt x="0" y="4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084" name=""/>
                  <p:cNvGrpSpPr/>
                  <p:nvPr/>
                </p:nvGrpSpPr>
                <p:grpSpPr>
                  <a:xfrm>
                    <a:off x="8286840" y="3174840"/>
                    <a:ext cx="271440" cy="360360"/>
                    <a:chOff x="8286840" y="3174840"/>
                    <a:chExt cx="271440" cy="360360"/>
                  </a:xfrm>
                </p:grpSpPr>
                <p:grpSp>
                  <p:nvGrpSpPr>
                    <p:cNvPr id="1085" name=""/>
                    <p:cNvGrpSpPr/>
                    <p:nvPr/>
                  </p:nvGrpSpPr>
                  <p:grpSpPr>
                    <a:xfrm>
                      <a:off x="8286840" y="3174840"/>
                      <a:ext cx="271440" cy="360360"/>
                      <a:chOff x="8286840" y="3174840"/>
                      <a:chExt cx="271440" cy="360360"/>
                    </a:xfrm>
                  </p:grpSpPr>
                  <p:sp>
                    <p:nvSpPr>
                      <p:cNvPr id="1086" name=""/>
                      <p:cNvSpPr/>
                      <p:nvPr/>
                    </p:nvSpPr>
                    <p:spPr>
                      <a:xfrm>
                        <a:off x="8335800" y="3187800"/>
                        <a:ext cx="160560" cy="3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2" h="117">
                            <a:moveTo>
                              <a:pt x="0" y="92"/>
                            </a:moveTo>
                            <a:lnTo>
                              <a:pt x="186" y="117"/>
                            </a:lnTo>
                            <a:lnTo>
                              <a:pt x="302" y="17"/>
                            </a:lnTo>
                            <a:lnTo>
                              <a:pt x="127" y="0"/>
                            </a:lnTo>
                            <a:lnTo>
                              <a:pt x="0" y="92"/>
                            </a:lnTo>
                            <a:close/>
                          </a:path>
                        </a:pathLst>
                      </a:custGeom>
                      <a:solidFill>
                        <a:srgbClr val="00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87" name=""/>
                      <p:cNvGrpSpPr/>
                      <p:nvPr/>
                    </p:nvGrpSpPr>
                    <p:grpSpPr>
                      <a:xfrm>
                        <a:off x="8362800" y="3174840"/>
                        <a:ext cx="111240" cy="38160"/>
                        <a:chOff x="8362800" y="3174840"/>
                        <a:chExt cx="111240" cy="38160"/>
                      </a:xfrm>
                    </p:grpSpPr>
                    <p:sp>
                      <p:nvSpPr>
                        <p:cNvPr id="1088" name=""/>
                        <p:cNvSpPr/>
                        <p:nvPr/>
                      </p:nvSpPr>
                      <p:spPr>
                        <a:xfrm>
                          <a:off x="8362800" y="3189240"/>
                          <a:ext cx="6696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" h="86">
                              <a:moveTo>
                                <a:pt x="1" y="0"/>
                              </a:moveTo>
                              <a:lnTo>
                                <a:pt x="127" y="13"/>
                              </a:lnTo>
                              <a:lnTo>
                                <a:pt x="127" y="86"/>
                              </a:lnTo>
                              <a:lnTo>
                                <a:pt x="0" y="69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9" name=""/>
                        <p:cNvSpPr/>
                        <p:nvPr/>
                      </p:nvSpPr>
                      <p:spPr>
                        <a:xfrm>
                          <a:off x="8429760" y="3178080"/>
                          <a:ext cx="44280" cy="3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" h="130">
                              <a:moveTo>
                                <a:pt x="0" y="60"/>
                              </a:moveTo>
                              <a:lnTo>
                                <a:pt x="0" y="130"/>
                              </a:lnTo>
                              <a:lnTo>
                                <a:pt x="84" y="60"/>
                              </a:lnTo>
                              <a:lnTo>
                                <a:pt x="84" y="0"/>
                              </a:lnTo>
                              <a:lnTo>
                                <a:pt x="0" y="6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9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1880" bIns="-11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0" name=""/>
                        <p:cNvSpPr/>
                        <p:nvPr/>
                      </p:nvSpPr>
                      <p:spPr>
                        <a:xfrm>
                          <a:off x="8362800" y="3174840"/>
                          <a:ext cx="111240" cy="1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0" h="70">
                              <a:moveTo>
                                <a:pt x="0" y="56"/>
                              </a:moveTo>
                              <a:lnTo>
                                <a:pt x="126" y="70"/>
                              </a:lnTo>
                              <a:lnTo>
                                <a:pt x="210" y="12"/>
                              </a:lnTo>
                              <a:lnTo>
                                <a:pt x="85" y="0"/>
                              </a:lnTo>
                              <a:lnTo>
                                <a:pt x="0" y="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720" bIns="-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91" name=""/>
                      <p:cNvSpPr/>
                      <p:nvPr/>
                    </p:nvSpPr>
                    <p:spPr>
                      <a:xfrm>
                        <a:off x="8337600" y="3211560"/>
                        <a:ext cx="9684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471">
                            <a:moveTo>
                              <a:pt x="0" y="0"/>
                            </a:moveTo>
                            <a:lnTo>
                              <a:pt x="184" y="24"/>
                            </a:lnTo>
                            <a:lnTo>
                              <a:pt x="184" y="471"/>
                            </a:lnTo>
                            <a:lnTo>
                              <a:pt x="0" y="42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2" name=""/>
                      <p:cNvSpPr/>
                      <p:nvPr/>
                    </p:nvSpPr>
                    <p:spPr>
                      <a:xfrm>
                        <a:off x="8434440" y="3191040"/>
                        <a:ext cx="61920" cy="14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" h="545">
                            <a:moveTo>
                              <a:pt x="0" y="99"/>
                            </a:moveTo>
                            <a:lnTo>
                              <a:pt x="116" y="0"/>
                            </a:lnTo>
                            <a:lnTo>
                              <a:pt x="116" y="417"/>
                            </a:lnTo>
                            <a:lnTo>
                              <a:pt x="0" y="545"/>
                            </a:lnTo>
                            <a:lnTo>
                              <a:pt x="0" y="99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3" name=""/>
                      <p:cNvSpPr/>
                      <p:nvPr/>
                    </p:nvSpPr>
                    <p:spPr>
                      <a:xfrm>
                        <a:off x="8432640" y="3301920"/>
                        <a:ext cx="125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6" h="389">
                            <a:moveTo>
                              <a:pt x="118" y="0"/>
                            </a:moveTo>
                            <a:lnTo>
                              <a:pt x="0" y="127"/>
                            </a:lnTo>
                            <a:lnTo>
                              <a:pt x="44" y="389"/>
                            </a:lnTo>
                            <a:lnTo>
                              <a:pt x="236" y="144"/>
                            </a:lnTo>
                            <a:lnTo>
                              <a:pt x="118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4" name=""/>
                      <p:cNvSpPr/>
                      <p:nvPr/>
                    </p:nvSpPr>
                    <p:spPr>
                      <a:xfrm>
                        <a:off x="8286840" y="3324240"/>
                        <a:ext cx="16992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1" h="308">
                            <a:moveTo>
                              <a:pt x="92" y="0"/>
                            </a:moveTo>
                            <a:lnTo>
                              <a:pt x="278" y="46"/>
                            </a:lnTo>
                            <a:lnTo>
                              <a:pt x="321" y="308"/>
                            </a:lnTo>
                            <a:lnTo>
                              <a:pt x="0" y="222"/>
                            </a:lnTo>
                            <a:lnTo>
                              <a:pt x="92" y="0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5" name=""/>
                      <p:cNvSpPr/>
                      <p:nvPr/>
                    </p:nvSpPr>
                    <p:spPr>
                      <a:xfrm>
                        <a:off x="8454960" y="3340080"/>
                        <a:ext cx="10332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3" h="739">
                            <a:moveTo>
                              <a:pt x="1" y="245"/>
                            </a:moveTo>
                            <a:lnTo>
                              <a:pt x="193" y="0"/>
                            </a:lnTo>
                            <a:lnTo>
                              <a:pt x="193" y="401"/>
                            </a:lnTo>
                            <a:lnTo>
                              <a:pt x="0" y="739"/>
                            </a:lnTo>
                            <a:lnTo>
                              <a:pt x="1" y="245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6" name=""/>
                      <p:cNvSpPr/>
                      <p:nvPr/>
                    </p:nvSpPr>
                    <p:spPr>
                      <a:xfrm>
                        <a:off x="8286840" y="3381480"/>
                        <a:ext cx="169920" cy="15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0" h="579">
                            <a:moveTo>
                              <a:pt x="0" y="0"/>
                            </a:moveTo>
                            <a:lnTo>
                              <a:pt x="320" y="85"/>
                            </a:lnTo>
                            <a:lnTo>
                              <a:pt x="320" y="579"/>
                            </a:lnTo>
                            <a:lnTo>
                              <a:pt x="0" y="46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97" name=""/>
                    <p:cNvGrpSpPr/>
                    <p:nvPr/>
                  </p:nvGrpSpPr>
                  <p:grpSpPr>
                    <a:xfrm>
                      <a:off x="8346960" y="3218040"/>
                      <a:ext cx="73080" cy="79200"/>
                      <a:chOff x="8346960" y="3218040"/>
                      <a:chExt cx="73080" cy="79200"/>
                    </a:xfrm>
                  </p:grpSpPr>
                  <p:grpSp>
                    <p:nvGrpSpPr>
                      <p:cNvPr id="1098" name=""/>
                      <p:cNvGrpSpPr/>
                      <p:nvPr/>
                    </p:nvGrpSpPr>
                    <p:grpSpPr>
                      <a:xfrm>
                        <a:off x="8346960" y="3218040"/>
                        <a:ext cx="73080" cy="25200"/>
                        <a:chOff x="8346960" y="3218040"/>
                        <a:chExt cx="73080" cy="25200"/>
                      </a:xfrm>
                    </p:grpSpPr>
                    <p:sp>
                      <p:nvSpPr>
                        <p:cNvPr id="1099" name=""/>
                        <p:cNvSpPr/>
                        <p:nvPr/>
                      </p:nvSpPr>
                      <p:spPr>
                        <a:xfrm>
                          <a:off x="8346960" y="3218040"/>
                          <a:ext cx="15840" cy="2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2">
                              <a:moveTo>
                                <a:pt x="0" y="0"/>
                              </a:moveTo>
                              <a:lnTo>
                                <a:pt x="30" y="3"/>
                              </a:lnTo>
                              <a:lnTo>
                                <a:pt x="30" y="82"/>
                              </a:lnTo>
                              <a:lnTo>
                                <a:pt x="0" y="7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0" name=""/>
                        <p:cNvSpPr/>
                        <p:nvPr/>
                      </p:nvSpPr>
                      <p:spPr>
                        <a:xfrm>
                          <a:off x="8375760" y="321948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6">
                              <a:moveTo>
                                <a:pt x="0" y="0"/>
                              </a:moveTo>
                              <a:lnTo>
                                <a:pt x="30" y="4"/>
                              </a:lnTo>
                              <a:lnTo>
                                <a:pt x="30" y="86"/>
                              </a:lnTo>
                              <a:lnTo>
                                <a:pt x="0" y="8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1" name=""/>
                        <p:cNvSpPr/>
                        <p:nvPr/>
                      </p:nvSpPr>
                      <p:spPr>
                        <a:xfrm>
                          <a:off x="8404200" y="322092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84">
                              <a:moveTo>
                                <a:pt x="0" y="0"/>
                              </a:moveTo>
                              <a:lnTo>
                                <a:pt x="29" y="4"/>
                              </a:lnTo>
                              <a:lnTo>
                                <a:pt x="29" y="84"/>
                              </a:lnTo>
                              <a:lnTo>
                                <a:pt x="0" y="8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2" name=""/>
                      <p:cNvGrpSpPr/>
                      <p:nvPr/>
                    </p:nvGrpSpPr>
                    <p:grpSpPr>
                      <a:xfrm>
                        <a:off x="8346960" y="3243240"/>
                        <a:ext cx="73080" cy="28440"/>
                        <a:chOff x="8346960" y="3243240"/>
                        <a:chExt cx="73080" cy="28440"/>
                      </a:xfrm>
                    </p:grpSpPr>
                    <p:sp>
                      <p:nvSpPr>
                        <p:cNvPr id="1103" name=""/>
                        <p:cNvSpPr/>
                        <p:nvPr/>
                      </p:nvSpPr>
                      <p:spPr>
                        <a:xfrm>
                          <a:off x="8346960" y="324324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5">
                              <a:moveTo>
                                <a:pt x="0" y="0"/>
                              </a:moveTo>
                              <a:lnTo>
                                <a:pt x="30" y="6"/>
                              </a:lnTo>
                              <a:lnTo>
                                <a:pt x="30" y="85"/>
                              </a:lnTo>
                              <a:lnTo>
                                <a:pt x="0" y="7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4" name=""/>
                        <p:cNvSpPr/>
                        <p:nvPr/>
                      </p:nvSpPr>
                      <p:spPr>
                        <a:xfrm>
                          <a:off x="8375760" y="324648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5">
                              <a:moveTo>
                                <a:pt x="0" y="0"/>
                              </a:moveTo>
                              <a:lnTo>
                                <a:pt x="30" y="6"/>
                              </a:lnTo>
                              <a:lnTo>
                                <a:pt x="30" y="85"/>
                              </a:lnTo>
                              <a:lnTo>
                                <a:pt x="0" y="8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5" name=""/>
                        <p:cNvSpPr/>
                        <p:nvPr/>
                      </p:nvSpPr>
                      <p:spPr>
                        <a:xfrm>
                          <a:off x="8404200" y="3247920"/>
                          <a:ext cx="15840" cy="23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85">
                              <a:moveTo>
                                <a:pt x="0" y="0"/>
                              </a:moveTo>
                              <a:lnTo>
                                <a:pt x="29" y="6"/>
                              </a:lnTo>
                              <a:lnTo>
                                <a:pt x="29" y="85"/>
                              </a:lnTo>
                              <a:lnTo>
                                <a:pt x="0" y="7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6" name=""/>
                      <p:cNvGrpSpPr/>
                      <p:nvPr/>
                    </p:nvGrpSpPr>
                    <p:grpSpPr>
                      <a:xfrm>
                        <a:off x="8346960" y="3268800"/>
                        <a:ext cx="73080" cy="28440"/>
                        <a:chOff x="8346960" y="3268800"/>
                        <a:chExt cx="73080" cy="28440"/>
                      </a:xfrm>
                    </p:grpSpPr>
                    <p:sp>
                      <p:nvSpPr>
                        <p:cNvPr id="1107" name=""/>
                        <p:cNvSpPr/>
                        <p:nvPr/>
                      </p:nvSpPr>
                      <p:spPr>
                        <a:xfrm>
                          <a:off x="8346960" y="3268800"/>
                          <a:ext cx="15840" cy="2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7">
                              <a:moveTo>
                                <a:pt x="0" y="0"/>
                              </a:moveTo>
                              <a:lnTo>
                                <a:pt x="30" y="8"/>
                              </a:lnTo>
                              <a:lnTo>
                                <a:pt x="30" y="87"/>
                              </a:lnTo>
                              <a:lnTo>
                                <a:pt x="0" y="8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8" name=""/>
                        <p:cNvSpPr/>
                        <p:nvPr/>
                      </p:nvSpPr>
                      <p:spPr>
                        <a:xfrm>
                          <a:off x="8375760" y="327168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86">
                              <a:moveTo>
                                <a:pt x="0" y="0"/>
                              </a:moveTo>
                              <a:lnTo>
                                <a:pt x="30" y="6"/>
                              </a:lnTo>
                              <a:lnTo>
                                <a:pt x="30" y="86"/>
                              </a:lnTo>
                              <a:lnTo>
                                <a:pt x="0" y="8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9" name=""/>
                        <p:cNvSpPr/>
                        <p:nvPr/>
                      </p:nvSpPr>
                      <p:spPr>
                        <a:xfrm>
                          <a:off x="8404200" y="3274920"/>
                          <a:ext cx="1584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86">
                              <a:moveTo>
                                <a:pt x="0" y="0"/>
                              </a:moveTo>
                              <a:lnTo>
                                <a:pt x="29" y="7"/>
                              </a:lnTo>
                              <a:lnTo>
                                <a:pt x="29" y="86"/>
                              </a:lnTo>
                              <a:lnTo>
                                <a:pt x="0" y="7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110" name=""/>
                  <p:cNvGrpSpPr/>
                  <p:nvPr/>
                </p:nvGrpSpPr>
                <p:grpSpPr>
                  <a:xfrm>
                    <a:off x="7567560" y="3098880"/>
                    <a:ext cx="406440" cy="439560"/>
                    <a:chOff x="7567560" y="3098880"/>
                    <a:chExt cx="406440" cy="439560"/>
                  </a:xfrm>
                </p:grpSpPr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7567560" y="3124080"/>
                      <a:ext cx="4050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6" h="183">
                          <a:moveTo>
                            <a:pt x="0" y="108"/>
                          </a:moveTo>
                          <a:lnTo>
                            <a:pt x="437" y="183"/>
                          </a:lnTo>
                          <a:lnTo>
                            <a:pt x="766" y="53"/>
                          </a:lnTo>
                          <a:lnTo>
                            <a:pt x="365" y="0"/>
                          </a:lnTo>
                          <a:lnTo>
                            <a:pt x="0" y="108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7567560" y="3152880"/>
                      <a:ext cx="2318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7" h="1459">
                          <a:moveTo>
                            <a:pt x="0" y="0"/>
                          </a:moveTo>
                          <a:lnTo>
                            <a:pt x="437" y="76"/>
                          </a:lnTo>
                          <a:lnTo>
                            <a:pt x="437" y="1459"/>
                          </a:lnTo>
                          <a:lnTo>
                            <a:pt x="345" y="1428"/>
                          </a:lnTo>
                          <a:lnTo>
                            <a:pt x="346" y="1253"/>
                          </a:lnTo>
                          <a:lnTo>
                            <a:pt x="222" y="1203"/>
                          </a:lnTo>
                          <a:lnTo>
                            <a:pt x="222" y="1359"/>
                          </a:lnTo>
                          <a:lnTo>
                            <a:pt x="153" y="1327"/>
                          </a:lnTo>
                          <a:lnTo>
                            <a:pt x="153" y="1171"/>
                          </a:lnTo>
                          <a:lnTo>
                            <a:pt x="55" y="1125"/>
                          </a:lnTo>
                          <a:lnTo>
                            <a:pt x="55" y="1283"/>
                          </a:lnTo>
                          <a:lnTo>
                            <a:pt x="0" y="125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13" name=""/>
                    <p:cNvGrpSpPr/>
                    <p:nvPr/>
                  </p:nvGrpSpPr>
                  <p:grpSpPr>
                    <a:xfrm>
                      <a:off x="7575480" y="3098880"/>
                      <a:ext cx="398520" cy="439560"/>
                      <a:chOff x="7575480" y="3098880"/>
                      <a:chExt cx="398520" cy="439560"/>
                    </a:xfrm>
                  </p:grpSpPr>
                  <p:sp>
                    <p:nvSpPr>
                      <p:cNvPr id="1114" name=""/>
                      <p:cNvSpPr/>
                      <p:nvPr/>
                    </p:nvSpPr>
                    <p:spPr>
                      <a:xfrm>
                        <a:off x="7799400" y="3138480"/>
                        <a:ext cx="174600" cy="39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0" h="1514">
                            <a:moveTo>
                              <a:pt x="0" y="128"/>
                            </a:moveTo>
                            <a:lnTo>
                              <a:pt x="326" y="0"/>
                            </a:lnTo>
                            <a:lnTo>
                              <a:pt x="330" y="1171"/>
                            </a:lnTo>
                            <a:lnTo>
                              <a:pt x="0" y="1514"/>
                            </a:lnTo>
                            <a:lnTo>
                              <a:pt x="0" y="128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15" name=""/>
                      <p:cNvGrpSpPr/>
                      <p:nvPr/>
                    </p:nvGrpSpPr>
                    <p:grpSpPr>
                      <a:xfrm>
                        <a:off x="7684920" y="3470400"/>
                        <a:ext cx="68400" cy="41040"/>
                        <a:chOff x="7684920" y="3470400"/>
                        <a:chExt cx="68400" cy="41040"/>
                      </a:xfrm>
                    </p:grpSpPr>
                    <p:sp>
                      <p:nvSpPr>
                        <p:cNvPr id="1116" name=""/>
                        <p:cNvSpPr/>
                        <p:nvPr/>
                      </p:nvSpPr>
                      <p:spPr>
                        <a:xfrm>
                          <a:off x="7723080" y="3478320"/>
                          <a:ext cx="30240" cy="2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" h="114">
                              <a:moveTo>
                                <a:pt x="0" y="0"/>
                              </a:moveTo>
                              <a:lnTo>
                                <a:pt x="0" y="87"/>
                              </a:lnTo>
                              <a:lnTo>
                                <a:pt x="57" y="114"/>
                              </a:lnTo>
                              <a:lnTo>
                                <a:pt x="57" y="2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7" name=""/>
                        <p:cNvSpPr/>
                        <p:nvPr/>
                      </p:nvSpPr>
                      <p:spPr>
                        <a:xfrm>
                          <a:off x="7684920" y="3470400"/>
                          <a:ext cx="39960" cy="4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62">
                              <a:moveTo>
                                <a:pt x="0" y="0"/>
                              </a:moveTo>
                              <a:lnTo>
                                <a:pt x="0" y="162"/>
                              </a:lnTo>
                              <a:lnTo>
                                <a:pt x="74" y="116"/>
                              </a:lnTo>
                              <a:lnTo>
                                <a:pt x="74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18" name=""/>
                      <p:cNvGrpSpPr/>
                      <p:nvPr/>
                    </p:nvGrpSpPr>
                    <p:grpSpPr>
                      <a:xfrm>
                        <a:off x="7596360" y="3449520"/>
                        <a:ext cx="68040" cy="42840"/>
                        <a:chOff x="7596360" y="3449520"/>
                        <a:chExt cx="68040" cy="42840"/>
                      </a:xfrm>
                    </p:grpSpPr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>
                          <a:off x="7634160" y="3457440"/>
                          <a:ext cx="3024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" h="114">
                              <a:moveTo>
                                <a:pt x="0" y="0"/>
                              </a:moveTo>
                              <a:lnTo>
                                <a:pt x="0" y="88"/>
                              </a:lnTo>
                              <a:lnTo>
                                <a:pt x="57" y="114"/>
                              </a:lnTo>
                              <a:lnTo>
                                <a:pt x="57" y="2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7596360" y="3449520"/>
                          <a:ext cx="37800" cy="4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" h="164">
                              <a:moveTo>
                                <a:pt x="0" y="0"/>
                              </a:moveTo>
                              <a:lnTo>
                                <a:pt x="0" y="164"/>
                              </a:lnTo>
                              <a:lnTo>
                                <a:pt x="73" y="118"/>
                              </a:lnTo>
                              <a:lnTo>
                                <a:pt x="73" y="3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" bIns="-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21" name=""/>
                      <p:cNvGrpSpPr/>
                      <p:nvPr/>
                    </p:nvGrpSpPr>
                    <p:grpSpPr>
                      <a:xfrm>
                        <a:off x="7575480" y="3162240"/>
                        <a:ext cx="208080" cy="304920"/>
                        <a:chOff x="7575480" y="3162240"/>
                        <a:chExt cx="208080" cy="304920"/>
                      </a:xfrm>
                    </p:grpSpPr>
                    <p:sp>
                      <p:nvSpPr>
                        <p:cNvPr id="1122" name=""/>
                        <p:cNvSpPr/>
                        <p:nvPr/>
                      </p:nvSpPr>
                      <p:spPr>
                        <a:xfrm>
                          <a:off x="7583400" y="3162240"/>
                          <a:ext cx="189000" cy="304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8" h="1152">
                              <a:moveTo>
                                <a:pt x="0" y="0"/>
                              </a:moveTo>
                              <a:lnTo>
                                <a:pt x="358" y="62"/>
                              </a:lnTo>
                              <a:lnTo>
                                <a:pt x="358" y="1152"/>
                              </a:lnTo>
                              <a:lnTo>
                                <a:pt x="3" y="99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23" name=""/>
                        <p:cNvGrpSpPr/>
                        <p:nvPr/>
                      </p:nvGrpSpPr>
                      <p:grpSpPr>
                        <a:xfrm>
                          <a:off x="7575480" y="3162240"/>
                          <a:ext cx="208080" cy="298440"/>
                          <a:chOff x="7575480" y="3162240"/>
                          <a:chExt cx="208080" cy="298440"/>
                        </a:xfrm>
                      </p:grpSpPr>
                      <p:sp>
                        <p:nvSpPr>
                          <p:cNvPr id="1124" name=""/>
                          <p:cNvSpPr/>
                          <p:nvPr/>
                        </p:nvSpPr>
                        <p:spPr>
                          <a:xfrm>
                            <a:off x="7577280" y="3390840"/>
                            <a:ext cx="206280" cy="367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5" name=""/>
                          <p:cNvSpPr/>
                          <p:nvPr/>
                        </p:nvSpPr>
                        <p:spPr>
                          <a:xfrm>
                            <a:off x="7575480" y="3352680"/>
                            <a:ext cx="206280" cy="3024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6" name=""/>
                          <p:cNvSpPr/>
                          <p:nvPr/>
                        </p:nvSpPr>
                        <p:spPr>
                          <a:xfrm>
                            <a:off x="7580160" y="3313080"/>
                            <a:ext cx="201600" cy="2700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7" name=""/>
                          <p:cNvSpPr/>
                          <p:nvPr/>
                        </p:nvSpPr>
                        <p:spPr>
                          <a:xfrm>
                            <a:off x="7578720" y="3271680"/>
                            <a:ext cx="201600" cy="2556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240" bIns="-21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8" name=""/>
                          <p:cNvSpPr/>
                          <p:nvPr/>
                        </p:nvSpPr>
                        <p:spPr>
                          <a:xfrm>
                            <a:off x="7581960" y="3232080"/>
                            <a:ext cx="198360" cy="208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9" name=""/>
                          <p:cNvSpPr/>
                          <p:nvPr/>
                        </p:nvSpPr>
                        <p:spPr>
                          <a:xfrm>
                            <a:off x="7575480" y="3195720"/>
                            <a:ext cx="203400" cy="190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0" name=""/>
                          <p:cNvSpPr/>
                          <p:nvPr/>
                        </p:nvSpPr>
                        <p:spPr>
                          <a:xfrm>
                            <a:off x="7623000" y="3162240"/>
                            <a:ext cx="1800" cy="2779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1" name=""/>
                          <p:cNvSpPr/>
                          <p:nvPr/>
                        </p:nvSpPr>
                        <p:spPr>
                          <a:xfrm>
                            <a:off x="7670880" y="3166920"/>
                            <a:ext cx="1440" cy="28440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2" name=""/>
                          <p:cNvSpPr/>
                          <p:nvPr/>
                        </p:nvSpPr>
                        <p:spPr>
                          <a:xfrm>
                            <a:off x="7721640" y="3170160"/>
                            <a:ext cx="1440" cy="2905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33" name=""/>
                      <p:cNvGrpSpPr/>
                      <p:nvPr/>
                    </p:nvGrpSpPr>
                    <p:grpSpPr>
                      <a:xfrm>
                        <a:off x="7653240" y="3098880"/>
                        <a:ext cx="243000" cy="61920"/>
                        <a:chOff x="7653240" y="3098880"/>
                        <a:chExt cx="243000" cy="61920"/>
                      </a:xfrm>
                    </p:grpSpPr>
                    <p:grpSp>
                      <p:nvGrpSpPr>
                        <p:cNvPr id="1134" name=""/>
                        <p:cNvGrpSpPr/>
                        <p:nvPr/>
                      </p:nvGrpSpPr>
                      <p:grpSpPr>
                        <a:xfrm>
                          <a:off x="7653240" y="3098880"/>
                          <a:ext cx="243000" cy="61920"/>
                          <a:chOff x="7653240" y="3098880"/>
                          <a:chExt cx="243000" cy="61920"/>
                        </a:xfrm>
                      </p:grpSpPr>
                      <p:sp>
                        <p:nvSpPr>
                          <p:cNvPr id="1135" name=""/>
                          <p:cNvSpPr/>
                          <p:nvPr/>
                        </p:nvSpPr>
                        <p:spPr>
                          <a:xfrm>
                            <a:off x="7653240" y="3098880"/>
                            <a:ext cx="24300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8" h="93">
                                <a:moveTo>
                                  <a:pt x="0" y="60"/>
                                </a:moveTo>
                                <a:lnTo>
                                  <a:pt x="267" y="93"/>
                                </a:lnTo>
                                <a:lnTo>
                                  <a:pt x="458" y="31"/>
                                </a:lnTo>
                                <a:lnTo>
                                  <a:pt x="199" y="0"/>
                                </a:lnTo>
                                <a:lnTo>
                                  <a:pt x="0" y="6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3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6" name=""/>
                          <p:cNvSpPr/>
                          <p:nvPr/>
                        </p:nvSpPr>
                        <p:spPr>
                          <a:xfrm>
                            <a:off x="7794720" y="3106800"/>
                            <a:ext cx="100080" cy="5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9" h="204">
                                <a:moveTo>
                                  <a:pt x="0" y="62"/>
                                </a:moveTo>
                                <a:lnTo>
                                  <a:pt x="189" y="0"/>
                                </a:lnTo>
                                <a:lnTo>
                                  <a:pt x="189" y="129"/>
                                </a:lnTo>
                                <a:lnTo>
                                  <a:pt x="0" y="204"/>
                                </a:lnTo>
                                <a:lnTo>
                                  <a:pt x="0" y="6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1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0" bIns="7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7" name=""/>
                          <p:cNvSpPr/>
                          <p:nvPr/>
                        </p:nvSpPr>
                        <p:spPr>
                          <a:xfrm>
                            <a:off x="7653240" y="3114720"/>
                            <a:ext cx="14148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6" h="175">
                                <a:moveTo>
                                  <a:pt x="266" y="33"/>
                                </a:moveTo>
                                <a:lnTo>
                                  <a:pt x="266" y="175"/>
                                </a:lnTo>
                                <a:lnTo>
                                  <a:pt x="0" y="135"/>
                                </a:lnTo>
                                <a:lnTo>
                                  <a:pt x="0" y="0"/>
                                </a:lnTo>
                                <a:lnTo>
                                  <a:pt x="266" y="3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7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38" name=""/>
                        <p:cNvSpPr/>
                        <p:nvPr/>
                      </p:nvSpPr>
                      <p:spPr>
                        <a:xfrm>
                          <a:off x="7672320" y="3122640"/>
                          <a:ext cx="8100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" h="41">
                              <a:moveTo>
                                <a:pt x="1" y="0"/>
                              </a:moveTo>
                              <a:lnTo>
                                <a:pt x="153" y="16"/>
                              </a:lnTo>
                              <a:lnTo>
                                <a:pt x="153" y="41"/>
                              </a:lnTo>
                              <a:lnTo>
                                <a:pt x="0" y="26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139" name=""/>
                  <p:cNvGrpSpPr/>
                  <p:nvPr/>
                </p:nvGrpSpPr>
                <p:grpSpPr>
                  <a:xfrm>
                    <a:off x="7832880" y="3238560"/>
                    <a:ext cx="387360" cy="352440"/>
                    <a:chOff x="7832880" y="3238560"/>
                    <a:chExt cx="387360" cy="352440"/>
                  </a:xfrm>
                </p:grpSpPr>
                <p:grpSp>
                  <p:nvGrpSpPr>
                    <p:cNvPr id="1140" name=""/>
                    <p:cNvGrpSpPr/>
                    <p:nvPr/>
                  </p:nvGrpSpPr>
                  <p:grpSpPr>
                    <a:xfrm>
                      <a:off x="7832880" y="3238560"/>
                      <a:ext cx="387360" cy="352440"/>
                      <a:chOff x="7832880" y="3238560"/>
                      <a:chExt cx="387360" cy="352440"/>
                    </a:xfrm>
                  </p:grpSpPr>
                  <p:sp>
                    <p:nvSpPr>
                      <p:cNvPr id="1141" name=""/>
                      <p:cNvSpPr/>
                      <p:nvPr/>
                    </p:nvSpPr>
                    <p:spPr>
                      <a:xfrm>
                        <a:off x="7832880" y="3243240"/>
                        <a:ext cx="38736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363">
                            <a:moveTo>
                              <a:pt x="0" y="266"/>
                            </a:moveTo>
                            <a:lnTo>
                              <a:pt x="354" y="363"/>
                            </a:lnTo>
                            <a:lnTo>
                              <a:pt x="732" y="67"/>
                            </a:lnTo>
                            <a:lnTo>
                              <a:pt x="426" y="0"/>
                            </a:lnTo>
                            <a:lnTo>
                              <a:pt x="0" y="266"/>
                            </a:lnTo>
                            <a:close/>
                          </a:path>
                        </a:pathLst>
                      </a:custGeom>
                      <a:solidFill>
                        <a:srgbClr val="df9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" name=""/>
                      <p:cNvSpPr/>
                      <p:nvPr/>
                    </p:nvSpPr>
                    <p:spPr>
                      <a:xfrm>
                        <a:off x="7832880" y="3314880"/>
                        <a:ext cx="187200" cy="27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1048">
                            <a:moveTo>
                              <a:pt x="0" y="0"/>
                            </a:moveTo>
                            <a:lnTo>
                              <a:pt x="354" y="95"/>
                            </a:lnTo>
                            <a:lnTo>
                              <a:pt x="354" y="1048"/>
                            </a:lnTo>
                            <a:lnTo>
                              <a:pt x="0" y="89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3" name=""/>
                      <p:cNvSpPr/>
                      <p:nvPr/>
                    </p:nvSpPr>
                    <p:spPr>
                      <a:xfrm>
                        <a:off x="8020080" y="3260880"/>
                        <a:ext cx="200160" cy="33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8" h="1247">
                            <a:moveTo>
                              <a:pt x="0" y="296"/>
                            </a:moveTo>
                            <a:lnTo>
                              <a:pt x="0" y="1247"/>
                            </a:lnTo>
                            <a:lnTo>
                              <a:pt x="378" y="795"/>
                            </a:lnTo>
                            <a:lnTo>
                              <a:pt x="378" y="0"/>
                            </a:lnTo>
                            <a:lnTo>
                              <a:pt x="0" y="296"/>
                            </a:lnTo>
                            <a:close/>
                          </a:path>
                        </a:pathLst>
                      </a:custGeom>
                      <a:solidFill>
                        <a:srgbClr val="9f3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44" name=""/>
                      <p:cNvGrpSpPr/>
                      <p:nvPr/>
                    </p:nvGrpSpPr>
                    <p:grpSpPr>
                      <a:xfrm>
                        <a:off x="7880400" y="3238560"/>
                        <a:ext cx="295200" cy="87120"/>
                        <a:chOff x="7880400" y="3238560"/>
                        <a:chExt cx="295200" cy="87120"/>
                      </a:xfrm>
                    </p:grpSpPr>
                    <p:sp>
                      <p:nvSpPr>
                        <p:cNvPr id="1145" name=""/>
                        <p:cNvSpPr/>
                        <p:nvPr/>
                      </p:nvSpPr>
                      <p:spPr>
                        <a:xfrm>
                          <a:off x="7880400" y="3238560"/>
                          <a:ext cx="295200" cy="7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8" h="272">
                              <a:moveTo>
                                <a:pt x="0" y="204"/>
                              </a:moveTo>
                              <a:lnTo>
                                <a:pt x="254" y="272"/>
                              </a:lnTo>
                              <a:lnTo>
                                <a:pt x="558" y="45"/>
                              </a:lnTo>
                              <a:lnTo>
                                <a:pt x="333" y="0"/>
                              </a:lnTo>
                              <a:lnTo>
                                <a:pt x="0" y="20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480" bIns="24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6" name=""/>
                        <p:cNvSpPr/>
                        <p:nvPr/>
                      </p:nvSpPr>
                      <p:spPr>
                        <a:xfrm>
                          <a:off x="8015400" y="3249720"/>
                          <a:ext cx="16020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5" h="285">
                              <a:moveTo>
                                <a:pt x="0" y="226"/>
                              </a:moveTo>
                              <a:lnTo>
                                <a:pt x="305" y="0"/>
                              </a:lnTo>
                              <a:lnTo>
                                <a:pt x="305" y="54"/>
                              </a:lnTo>
                              <a:lnTo>
                                <a:pt x="0" y="285"/>
                              </a:lnTo>
                              <a:lnTo>
                                <a:pt x="0" y="2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3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7" name=""/>
                        <p:cNvSpPr/>
                        <p:nvPr/>
                      </p:nvSpPr>
                      <p:spPr>
                        <a:xfrm>
                          <a:off x="7880400" y="3292560"/>
                          <a:ext cx="135000" cy="33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3" h="126">
                              <a:moveTo>
                                <a:pt x="253" y="67"/>
                              </a:moveTo>
                              <a:lnTo>
                                <a:pt x="253" y="126"/>
                              </a:lnTo>
                              <a:lnTo>
                                <a:pt x="0" y="56"/>
                              </a:lnTo>
                              <a:lnTo>
                                <a:pt x="0" y="0"/>
                              </a:lnTo>
                              <a:lnTo>
                                <a:pt x="253" y="6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5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680" bIns="-13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48" name=""/>
                    <p:cNvGrpSpPr/>
                    <p:nvPr/>
                  </p:nvGrpSpPr>
                  <p:grpSpPr>
                    <a:xfrm>
                      <a:off x="7842240" y="3322800"/>
                      <a:ext cx="166680" cy="257040"/>
                      <a:chOff x="7842240" y="3322800"/>
                      <a:chExt cx="166680" cy="257040"/>
                    </a:xfrm>
                  </p:grpSpPr>
                  <p:sp>
                    <p:nvSpPr>
                      <p:cNvPr id="1149" name=""/>
                      <p:cNvSpPr/>
                      <p:nvPr/>
                    </p:nvSpPr>
                    <p:spPr>
                      <a:xfrm>
                        <a:off x="7842240" y="3322800"/>
                        <a:ext cx="166680" cy="257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970">
                            <a:moveTo>
                              <a:pt x="0" y="0"/>
                            </a:moveTo>
                            <a:lnTo>
                              <a:pt x="317" y="87"/>
                            </a:lnTo>
                            <a:lnTo>
                              <a:pt x="317" y="970"/>
                            </a:lnTo>
                            <a:lnTo>
                              <a:pt x="0" y="82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0" name=""/>
                      <p:cNvSpPr/>
                      <p:nvPr/>
                    </p:nvSpPr>
                    <p:spPr>
                      <a:xfrm>
                        <a:off x="7866000" y="3325680"/>
                        <a:ext cx="17640" cy="22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858">
                            <a:moveTo>
                              <a:pt x="1" y="0"/>
                            </a:moveTo>
                            <a:lnTo>
                              <a:pt x="0" y="845"/>
                            </a:lnTo>
                            <a:lnTo>
                              <a:pt x="32" y="858"/>
                            </a:lnTo>
                            <a:lnTo>
                              <a:pt x="33" y="9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1" name=""/>
                      <p:cNvSpPr/>
                      <p:nvPr/>
                    </p:nvSpPr>
                    <p:spPr>
                      <a:xfrm>
                        <a:off x="7912080" y="3330720"/>
                        <a:ext cx="19080" cy="23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876">
                            <a:moveTo>
                              <a:pt x="0" y="0"/>
                            </a:moveTo>
                            <a:lnTo>
                              <a:pt x="0" y="860"/>
                            </a:lnTo>
                            <a:lnTo>
                              <a:pt x="34" y="876"/>
                            </a:lnTo>
                            <a:lnTo>
                              <a:pt x="36" y="1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2" name=""/>
                      <p:cNvSpPr/>
                      <p:nvPr/>
                    </p:nvSpPr>
                    <p:spPr>
                      <a:xfrm>
                        <a:off x="7961400" y="3338640"/>
                        <a:ext cx="19080" cy="23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883">
                            <a:moveTo>
                              <a:pt x="1" y="0"/>
                            </a:moveTo>
                            <a:lnTo>
                              <a:pt x="0" y="864"/>
                            </a:lnTo>
                            <a:lnTo>
                              <a:pt x="37" y="883"/>
                            </a:lnTo>
                            <a:lnTo>
                              <a:pt x="35" y="8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8101080" y="3255840"/>
                    <a:ext cx="360360" cy="411120"/>
                    <a:chOff x="8101080" y="3255840"/>
                    <a:chExt cx="360360" cy="411120"/>
                  </a:xfrm>
                </p:grpSpPr>
                <p:grpSp>
                  <p:nvGrpSpPr>
                    <p:cNvPr id="1154" name=""/>
                    <p:cNvGrpSpPr/>
                    <p:nvPr/>
                  </p:nvGrpSpPr>
                  <p:grpSpPr>
                    <a:xfrm>
                      <a:off x="8101080" y="3255840"/>
                      <a:ext cx="360360" cy="411120"/>
                      <a:chOff x="8101080" y="3255840"/>
                      <a:chExt cx="360360" cy="411120"/>
                    </a:xfrm>
                  </p:grpSpPr>
                  <p:grpSp>
                    <p:nvGrpSpPr>
                      <p:cNvPr id="1155" name=""/>
                      <p:cNvGrpSpPr/>
                      <p:nvPr/>
                    </p:nvGrpSpPr>
                    <p:grpSpPr>
                      <a:xfrm>
                        <a:off x="8142120" y="3565440"/>
                        <a:ext cx="279720" cy="101520"/>
                        <a:chOff x="8142120" y="3565440"/>
                        <a:chExt cx="279720" cy="101520"/>
                      </a:xfrm>
                    </p:grpSpPr>
                    <p:sp>
                      <p:nvSpPr>
                        <p:cNvPr id="1156" name=""/>
                        <p:cNvSpPr/>
                        <p:nvPr/>
                      </p:nvSpPr>
                      <p:spPr>
                        <a:xfrm>
                          <a:off x="8142120" y="3603600"/>
                          <a:ext cx="179640" cy="63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8" h="238">
                              <a:moveTo>
                                <a:pt x="0" y="0"/>
                              </a:moveTo>
                              <a:lnTo>
                                <a:pt x="0" y="71"/>
                              </a:lnTo>
                              <a:lnTo>
                                <a:pt x="338" y="238"/>
                              </a:lnTo>
                              <a:lnTo>
                                <a:pt x="338" y="16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560" bIns="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57" name=""/>
                        <p:cNvSpPr/>
                        <p:nvPr/>
                      </p:nvSpPr>
                      <p:spPr>
                        <a:xfrm>
                          <a:off x="8321760" y="3565440"/>
                          <a:ext cx="100080" cy="10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0" h="383">
                              <a:moveTo>
                                <a:pt x="0" y="308"/>
                              </a:moveTo>
                              <a:lnTo>
                                <a:pt x="0" y="383"/>
                              </a:lnTo>
                              <a:lnTo>
                                <a:pt x="190" y="60"/>
                              </a:lnTo>
                              <a:lnTo>
                                <a:pt x="190" y="0"/>
                              </a:lnTo>
                              <a:lnTo>
                                <a:pt x="0" y="30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58" name=""/>
                      <p:cNvSpPr/>
                      <p:nvPr/>
                    </p:nvSpPr>
                    <p:spPr>
                      <a:xfrm>
                        <a:off x="8101080" y="3497400"/>
                        <a:ext cx="360360" cy="15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0" h="589">
                            <a:moveTo>
                              <a:pt x="0" y="370"/>
                            </a:moveTo>
                            <a:lnTo>
                              <a:pt x="452" y="589"/>
                            </a:lnTo>
                            <a:lnTo>
                              <a:pt x="680" y="199"/>
                            </a:lnTo>
                            <a:lnTo>
                              <a:pt x="247" y="0"/>
                            </a:lnTo>
                            <a:lnTo>
                              <a:pt x="0" y="37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9" name=""/>
                      <p:cNvSpPr/>
                      <p:nvPr/>
                    </p:nvSpPr>
                    <p:spPr>
                      <a:xfrm>
                        <a:off x="8134200" y="3400560"/>
                        <a:ext cx="28260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6" h="335">
                            <a:moveTo>
                              <a:pt x="353" y="335"/>
                            </a:moveTo>
                            <a:lnTo>
                              <a:pt x="536" y="116"/>
                            </a:lnTo>
                            <a:lnTo>
                              <a:pt x="202" y="0"/>
                            </a:lnTo>
                            <a:lnTo>
                              <a:pt x="0" y="214"/>
                            </a:lnTo>
                            <a:lnTo>
                              <a:pt x="353" y="335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0" name=""/>
                      <p:cNvSpPr/>
                      <p:nvPr/>
                    </p:nvSpPr>
                    <p:spPr>
                      <a:xfrm>
                        <a:off x="8277120" y="3255840"/>
                        <a:ext cx="968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5" h="393">
                            <a:moveTo>
                              <a:pt x="0" y="0"/>
                            </a:moveTo>
                            <a:lnTo>
                              <a:pt x="45" y="393"/>
                            </a:lnTo>
                            <a:lnTo>
                              <a:pt x="185" y="26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1" name=""/>
                      <p:cNvSpPr/>
                      <p:nvPr/>
                    </p:nvSpPr>
                    <p:spPr>
                      <a:xfrm>
                        <a:off x="8191440" y="3255840"/>
                        <a:ext cx="1094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7" h="395">
                            <a:moveTo>
                              <a:pt x="163" y="0"/>
                            </a:moveTo>
                            <a:lnTo>
                              <a:pt x="207" y="395"/>
                            </a:lnTo>
                            <a:lnTo>
                              <a:pt x="0" y="354"/>
                            </a:lnTo>
                            <a:lnTo>
                              <a:pt x="163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2" name=""/>
                      <p:cNvSpPr/>
                      <p:nvPr/>
                    </p:nvSpPr>
                    <p:spPr>
                      <a:xfrm>
                        <a:off x="8191440" y="3349800"/>
                        <a:ext cx="10800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477">
                            <a:moveTo>
                              <a:pt x="0" y="0"/>
                            </a:moveTo>
                            <a:lnTo>
                              <a:pt x="206" y="40"/>
                            </a:lnTo>
                            <a:lnTo>
                              <a:pt x="206" y="477"/>
                            </a:lnTo>
                            <a:lnTo>
                              <a:pt x="0" y="40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3" name=""/>
                      <p:cNvSpPr/>
                      <p:nvPr/>
                    </p:nvSpPr>
                    <p:spPr>
                      <a:xfrm>
                        <a:off x="8299440" y="3325680"/>
                        <a:ext cx="74520" cy="14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568">
                            <a:moveTo>
                              <a:pt x="0" y="130"/>
                            </a:moveTo>
                            <a:lnTo>
                              <a:pt x="140" y="0"/>
                            </a:lnTo>
                            <a:lnTo>
                              <a:pt x="140" y="406"/>
                            </a:lnTo>
                            <a:lnTo>
                              <a:pt x="0" y="568"/>
                            </a:lnTo>
                            <a:lnTo>
                              <a:pt x="0" y="13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4" name=""/>
                      <p:cNvSpPr/>
                      <p:nvPr/>
                    </p:nvSpPr>
                    <p:spPr>
                      <a:xfrm>
                        <a:off x="8134200" y="3457440"/>
                        <a:ext cx="185760" cy="169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1" h="640">
                            <a:moveTo>
                              <a:pt x="0" y="0"/>
                            </a:moveTo>
                            <a:lnTo>
                              <a:pt x="351" y="121"/>
                            </a:lnTo>
                            <a:lnTo>
                              <a:pt x="351" y="640"/>
                            </a:lnTo>
                            <a:lnTo>
                              <a:pt x="0" y="48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5" name=""/>
                      <p:cNvSpPr/>
                      <p:nvPr/>
                    </p:nvSpPr>
                    <p:spPr>
                      <a:xfrm>
                        <a:off x="8319960" y="3432240"/>
                        <a:ext cx="96840" cy="19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739">
                            <a:moveTo>
                              <a:pt x="0" y="220"/>
                            </a:moveTo>
                            <a:lnTo>
                              <a:pt x="184" y="0"/>
                            </a:lnTo>
                            <a:lnTo>
                              <a:pt x="184" y="443"/>
                            </a:lnTo>
                            <a:lnTo>
                              <a:pt x="0" y="739"/>
                            </a:lnTo>
                            <a:lnTo>
                              <a:pt x="0" y="220"/>
                            </a:lnTo>
                            <a:close/>
                          </a:path>
                        </a:pathLst>
                      </a:custGeom>
                      <a:solidFill>
                        <a:srgbClr val="001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66" name=""/>
                    <p:cNvGrpSpPr/>
                    <p:nvPr/>
                  </p:nvGrpSpPr>
                  <p:grpSpPr>
                    <a:xfrm>
                      <a:off x="8169120" y="3363840"/>
                      <a:ext cx="114480" cy="235080"/>
                      <a:chOff x="8169120" y="3363840"/>
                      <a:chExt cx="114480" cy="235080"/>
                    </a:xfrm>
                  </p:grpSpPr>
                  <p:grpSp>
                    <p:nvGrpSpPr>
                      <p:cNvPr id="1167" name=""/>
                      <p:cNvGrpSpPr/>
                      <p:nvPr/>
                    </p:nvGrpSpPr>
                    <p:grpSpPr>
                      <a:xfrm>
                        <a:off x="8226360" y="3363840"/>
                        <a:ext cx="39240" cy="66600"/>
                        <a:chOff x="8226360" y="3363840"/>
                        <a:chExt cx="39240" cy="66600"/>
                      </a:xfrm>
                    </p:grpSpPr>
                    <p:sp>
                      <p:nvSpPr>
                        <p:cNvPr id="1168" name=""/>
                        <p:cNvSpPr/>
                        <p:nvPr/>
                      </p:nvSpPr>
                      <p:spPr>
                        <a:xfrm>
                          <a:off x="8234640" y="3363840"/>
                          <a:ext cx="30960" cy="6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58126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581268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9" name=""/>
                        <p:cNvSpPr/>
                        <p:nvPr/>
                      </p:nvSpPr>
                      <p:spPr>
                        <a:xfrm>
                          <a:off x="8228160" y="3363840"/>
                          <a:ext cx="24840" cy="63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2" y="9321"/>
                              </a:moveTo>
                              <a:arcTo wR="10800" hR="10800" stAng="-10327855" swAng="4534766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2" y="9321"/>
                              </a:moveTo>
                              <a:arcTo wR="10800" hR="10800" stAng="-10327855" swAng="4534766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560" bIns="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0" name=""/>
                        <p:cNvSpPr/>
                        <p:nvPr/>
                      </p:nvSpPr>
                      <p:spPr>
                        <a:xfrm>
                          <a:off x="8226360" y="3395520"/>
                          <a:ext cx="1260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113">
                              <a:moveTo>
                                <a:pt x="0" y="0"/>
                              </a:moveTo>
                              <a:lnTo>
                                <a:pt x="0" y="104"/>
                              </a:lnTo>
                              <a:lnTo>
                                <a:pt x="24" y="113"/>
                              </a:lnTo>
                              <a:lnTo>
                                <a:pt x="24" y="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1" name=""/>
                        <p:cNvSpPr/>
                        <p:nvPr/>
                      </p:nvSpPr>
                      <p:spPr>
                        <a:xfrm>
                          <a:off x="8250120" y="3400560"/>
                          <a:ext cx="12960" cy="2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" h="112">
                              <a:moveTo>
                                <a:pt x="0" y="0"/>
                              </a:moveTo>
                              <a:lnTo>
                                <a:pt x="0" y="104"/>
                              </a:lnTo>
                              <a:lnTo>
                                <a:pt x="24" y="112"/>
                              </a:lnTo>
                              <a:lnTo>
                                <a:pt x="24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72" name=""/>
                      <p:cNvGrpSpPr/>
                      <p:nvPr/>
                    </p:nvGrpSpPr>
                    <p:grpSpPr>
                      <a:xfrm>
                        <a:off x="8169120" y="3494160"/>
                        <a:ext cx="114480" cy="104760"/>
                        <a:chOff x="8169120" y="3494160"/>
                        <a:chExt cx="114480" cy="104760"/>
                      </a:xfrm>
                    </p:grpSpPr>
                    <p:sp>
                      <p:nvSpPr>
                        <p:cNvPr id="1173" name=""/>
                        <p:cNvSpPr/>
                        <p:nvPr/>
                      </p:nvSpPr>
                      <p:spPr>
                        <a:xfrm>
                          <a:off x="8169120" y="3530520"/>
                          <a:ext cx="114480" cy="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7" h="257">
                              <a:moveTo>
                                <a:pt x="0" y="0"/>
                              </a:moveTo>
                              <a:lnTo>
                                <a:pt x="0" y="161"/>
                              </a:lnTo>
                              <a:lnTo>
                                <a:pt x="217" y="257"/>
                              </a:lnTo>
                              <a:lnTo>
                                <a:pt x="217" y="9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4" name=""/>
                        <p:cNvSpPr/>
                        <p:nvPr/>
                      </p:nvSpPr>
                      <p:spPr>
                        <a:xfrm>
                          <a:off x="8170920" y="3494160"/>
                          <a:ext cx="10800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5" h="192">
                              <a:moveTo>
                                <a:pt x="0" y="0"/>
                              </a:moveTo>
                              <a:lnTo>
                                <a:pt x="0" y="111"/>
                              </a:lnTo>
                              <a:lnTo>
                                <a:pt x="205" y="192"/>
                              </a:lnTo>
                              <a:lnTo>
                                <a:pt x="205" y="8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1175" name=""/>
                <p:cNvSpPr/>
                <p:nvPr/>
              </p:nvSpPr>
              <p:spPr>
                <a:xfrm>
                  <a:off x="5211720" y="2190600"/>
                  <a:ext cx="916200" cy="1793880"/>
                </a:xfrm>
                <a:prstGeom prst="rect">
                  <a:avLst/>
                </a:prstGeom>
                <a:solidFill>
                  <a:srgbClr val="ff7c80"/>
                </a:solidFill>
                <a:ln w="111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5334120" y="3040200"/>
                  <a:ext cx="38232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5461560" y="3087720"/>
                  <a:ext cx="1576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700" spc="-1" strike="noStrike">
                      <a:solidFill>
                        <a:srgbClr val="cc3300"/>
                      </a:solidFill>
                      <a:latin typeface="Times New Roman"/>
                    </a:rPr>
                    <a:t>D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598720" y="3211560"/>
                  <a:ext cx="709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1100" spc="-1" strike="noStrike">
                      <a:solidFill>
                        <a:srgbClr val="cc3300"/>
                      </a:solidFill>
                      <a:latin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6673680" y="2259000"/>
                  <a:ext cx="1686240" cy="331920"/>
                </a:xfrm>
                <a:prstGeom prst="rect">
                  <a:avLst/>
                </a:prstGeom>
                <a:solidFill>
                  <a:srgbClr val="ff5050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6750000" y="2308320"/>
                  <a:ext cx="115272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700" spc="-1" strike="noStrike">
                      <a:solidFill>
                        <a:srgbClr val="292929"/>
                      </a:solidFill>
                      <a:latin typeface="Times New Roman"/>
                    </a:rPr>
                    <a:t>Distribución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5067360" y="1714680"/>
                  <a:ext cx="3848040" cy="2501640"/>
                </a:xfrm>
                <a:prstGeom prst="rect">
                  <a:avLst/>
                </a:prstGeom>
                <a:noFill/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6206400" y="3567240"/>
                  <a:ext cx="2114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808080"/>
                      </a:solidFill>
                      <a:latin typeface="Times New Roman"/>
                    </a:rPr>
                    <a:t>Precio de nudo + V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"/>
          <p:cNvGrpSpPr/>
          <p:nvPr/>
        </p:nvGrpSpPr>
        <p:grpSpPr>
          <a:xfrm>
            <a:off x="1054080" y="1676520"/>
            <a:ext cx="2222640" cy="4343400"/>
            <a:chOff x="1054080" y="1676520"/>
            <a:chExt cx="2222640" cy="4343400"/>
          </a:xfrm>
        </p:grpSpPr>
        <p:sp>
          <p:nvSpPr>
            <p:cNvPr id="1184" name=""/>
            <p:cNvSpPr/>
            <p:nvPr/>
          </p:nvSpPr>
          <p:spPr>
            <a:xfrm>
              <a:off x="2065320" y="4605480"/>
              <a:ext cx="708120" cy="50292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073240" y="2695680"/>
              <a:ext cx="696960" cy="49356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208240" y="2746440"/>
              <a:ext cx="39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83480" y="27939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47640" y="291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35080" y="3649680"/>
              <a:ext cx="735120" cy="457200"/>
            </a:xfrm>
            <a:custGeom>
              <a:avLst/>
              <a:gdLst/>
              <a:ahLst/>
              <a:rect l="l" t="t" r="r" b="b"/>
              <a:pathLst>
                <a:path w="924" h="578">
                  <a:moveTo>
                    <a:pt x="71" y="0"/>
                  </a:moveTo>
                  <a:lnTo>
                    <a:pt x="56" y="2"/>
                  </a:lnTo>
                  <a:lnTo>
                    <a:pt x="43" y="5"/>
                  </a:lnTo>
                  <a:lnTo>
                    <a:pt x="31" y="12"/>
                  </a:lnTo>
                  <a:lnTo>
                    <a:pt x="21" y="22"/>
                  </a:lnTo>
                  <a:lnTo>
                    <a:pt x="11" y="32"/>
                  </a:lnTo>
                  <a:lnTo>
                    <a:pt x="5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06"/>
                  </a:lnTo>
                  <a:lnTo>
                    <a:pt x="1" y="521"/>
                  </a:lnTo>
                  <a:lnTo>
                    <a:pt x="5" y="534"/>
                  </a:lnTo>
                  <a:lnTo>
                    <a:pt x="11" y="546"/>
                  </a:lnTo>
                  <a:lnTo>
                    <a:pt x="21" y="558"/>
                  </a:lnTo>
                  <a:lnTo>
                    <a:pt x="31" y="566"/>
                  </a:lnTo>
                  <a:lnTo>
                    <a:pt x="43" y="573"/>
                  </a:lnTo>
                  <a:lnTo>
                    <a:pt x="56" y="576"/>
                  </a:lnTo>
                  <a:lnTo>
                    <a:pt x="71" y="578"/>
                  </a:lnTo>
                  <a:lnTo>
                    <a:pt x="852" y="578"/>
                  </a:lnTo>
                  <a:lnTo>
                    <a:pt x="867" y="576"/>
                  </a:lnTo>
                  <a:lnTo>
                    <a:pt x="881" y="573"/>
                  </a:lnTo>
                  <a:lnTo>
                    <a:pt x="892" y="566"/>
                  </a:lnTo>
                  <a:lnTo>
                    <a:pt x="904" y="558"/>
                  </a:lnTo>
                  <a:lnTo>
                    <a:pt x="912" y="546"/>
                  </a:lnTo>
                  <a:lnTo>
                    <a:pt x="919" y="534"/>
                  </a:lnTo>
                  <a:lnTo>
                    <a:pt x="922" y="521"/>
                  </a:lnTo>
                  <a:lnTo>
                    <a:pt x="924" y="506"/>
                  </a:lnTo>
                  <a:lnTo>
                    <a:pt x="924" y="72"/>
                  </a:lnTo>
                  <a:lnTo>
                    <a:pt x="922" y="57"/>
                  </a:lnTo>
                  <a:lnTo>
                    <a:pt x="919" y="44"/>
                  </a:lnTo>
                  <a:lnTo>
                    <a:pt x="912" y="32"/>
                  </a:lnTo>
                  <a:lnTo>
                    <a:pt x="904" y="22"/>
                  </a:lnTo>
                  <a:lnTo>
                    <a:pt x="892" y="12"/>
                  </a:lnTo>
                  <a:lnTo>
                    <a:pt x="881" y="5"/>
                  </a:lnTo>
                  <a:lnTo>
                    <a:pt x="867" y="2"/>
                  </a:lnTo>
                  <a:lnTo>
                    <a:pt x="85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c9900"/>
            </a:solidFill>
            <a:ln w="1116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200240" y="3760920"/>
              <a:ext cx="59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CDE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1871640" y="3144960"/>
              <a:ext cx="333360" cy="485640"/>
              <a:chOff x="1871640" y="3144960"/>
              <a:chExt cx="333360" cy="485640"/>
            </a:xfrm>
          </p:grpSpPr>
          <p:sp>
            <p:nvSpPr>
              <p:cNvPr id="1192" name=""/>
              <p:cNvSpPr/>
              <p:nvPr/>
            </p:nvSpPr>
            <p:spPr>
              <a:xfrm>
                <a:off x="1871640" y="35877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9" y="9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9" y="45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5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9" y="7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919160" y="3517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7" y="7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967040" y="34480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6" y="6"/>
                    </a:moveTo>
                    <a:lnTo>
                      <a:pt x="1" y="16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6" y="45"/>
                    </a:lnTo>
                    <a:lnTo>
                      <a:pt x="15" y="51"/>
                    </a:lnTo>
                    <a:lnTo>
                      <a:pt x="26" y="53"/>
                    </a:lnTo>
                    <a:lnTo>
                      <a:pt x="36" y="51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0" y="36"/>
                    </a:lnTo>
                    <a:lnTo>
                      <a:pt x="53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6" y="1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013120" y="337824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7"/>
                    </a:moveTo>
                    <a:lnTo>
                      <a:pt x="3" y="17"/>
                    </a:lnTo>
                    <a:lnTo>
                      <a:pt x="0" y="27"/>
                    </a:lnTo>
                    <a:lnTo>
                      <a:pt x="3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8" y="52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lnTo>
                      <a:pt x="47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062080" y="3306600"/>
                <a:ext cx="41400" cy="432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6"/>
                    </a:move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5"/>
                    </a:ln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109960" y="323676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7" y="7"/>
                    </a:moveTo>
                    <a:lnTo>
                      <a:pt x="2" y="15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0"/>
                    </a:lnTo>
                    <a:lnTo>
                      <a:pt x="27" y="54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5"/>
                    </a:lnTo>
                    <a:lnTo>
                      <a:pt x="45" y="7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2041560" y="3144960"/>
                <a:ext cx="163440" cy="187200"/>
              </a:xfrm>
              <a:custGeom>
                <a:avLst/>
                <a:gdLst/>
                <a:ahLst/>
                <a:rect l="l" t="t" r="r" b="b"/>
                <a:pathLst>
                  <a:path w="207" h="237">
                    <a:moveTo>
                      <a:pt x="179" y="237"/>
                    </a:moveTo>
                    <a:lnTo>
                      <a:pt x="207" y="0"/>
                    </a:lnTo>
                    <a:lnTo>
                      <a:pt x="0" y="119"/>
                    </a:lnTo>
                    <a:lnTo>
                      <a:pt x="127" y="121"/>
                    </a:lnTo>
                    <a:lnTo>
                      <a:pt x="179" y="23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1973160" y="4165560"/>
              <a:ext cx="285840" cy="460440"/>
              <a:chOff x="1973160" y="4165560"/>
              <a:chExt cx="285840" cy="460440"/>
            </a:xfrm>
          </p:grpSpPr>
          <p:sp>
            <p:nvSpPr>
              <p:cNvPr id="1200" name=""/>
              <p:cNvSpPr/>
              <p:nvPr/>
            </p:nvSpPr>
            <p:spPr>
              <a:xfrm>
                <a:off x="1973160" y="41655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7"/>
                    </a:move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017800" y="42386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062080" y="431172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5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104920" y="43830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8"/>
                    </a:lnTo>
                    <a:lnTo>
                      <a:pt x="37" y="3"/>
                    </a:lnTo>
                    <a:lnTo>
                      <a:pt x="27" y="0"/>
                    </a:lnTo>
                    <a:lnTo>
                      <a:pt x="17" y="3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6"/>
                    </a:lnTo>
                    <a:lnTo>
                      <a:pt x="17" y="51"/>
                    </a:lnTo>
                    <a:lnTo>
                      <a:pt x="27" y="53"/>
                    </a:lnTo>
                    <a:lnTo>
                      <a:pt x="37" y="51"/>
                    </a:lnTo>
                    <a:lnTo>
                      <a:pt x="45" y="46"/>
                    </a:lnTo>
                    <a:lnTo>
                      <a:pt x="52" y="38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149560" y="44560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2" y="17"/>
                    </a:moveTo>
                    <a:lnTo>
                      <a:pt x="47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9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7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098800" y="4435560"/>
                <a:ext cx="160200" cy="190440"/>
              </a:xfrm>
              <a:custGeom>
                <a:avLst/>
                <a:gdLst/>
                <a:ahLst/>
                <a:rect l="l" t="t" r="r" b="b"/>
                <a:pathLst>
                  <a:path w="202" h="239">
                    <a:moveTo>
                      <a:pt x="0" y="111"/>
                    </a:moveTo>
                    <a:lnTo>
                      <a:pt x="202" y="239"/>
                    </a:lnTo>
                    <a:lnTo>
                      <a:pt x="183" y="0"/>
                    </a:lnTo>
                    <a:lnTo>
                      <a:pt x="125" y="11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2228760" y="3240000"/>
              <a:ext cx="176400" cy="1355760"/>
              <a:chOff x="2228760" y="3240000"/>
              <a:chExt cx="176400" cy="1355760"/>
            </a:xfrm>
          </p:grpSpPr>
          <p:sp>
            <p:nvSpPr>
              <p:cNvPr id="1207" name=""/>
              <p:cNvSpPr/>
              <p:nvPr/>
            </p:nvSpPr>
            <p:spPr>
              <a:xfrm>
                <a:off x="2290680" y="3403440"/>
                <a:ext cx="50760" cy="1025640"/>
              </a:xfrm>
              <a:custGeom>
                <a:avLst/>
                <a:gdLst/>
                <a:ahLst/>
                <a:rect l="l" t="t" r="r" b="b"/>
                <a:pathLst>
                  <a:path w="63" h="1292">
                    <a:moveTo>
                      <a:pt x="0" y="1292"/>
                    </a:moveTo>
                    <a:lnTo>
                      <a:pt x="53" y="129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228760" y="4425840"/>
                <a:ext cx="168480" cy="169920"/>
              </a:xfrm>
              <a:custGeom>
                <a:avLst/>
                <a:gdLst/>
                <a:ahLst/>
                <a:rect l="l" t="t" r="r" b="b"/>
                <a:pathLst>
                  <a:path w="214" h="215">
                    <a:moveTo>
                      <a:pt x="0" y="0"/>
                    </a:moveTo>
                    <a:lnTo>
                      <a:pt x="105" y="215"/>
                    </a:lnTo>
                    <a:lnTo>
                      <a:pt x="2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235240" y="32400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213" h="213">
                    <a:moveTo>
                      <a:pt x="213" y="213"/>
                    </a:moveTo>
                    <a:lnTo>
                      <a:pt x="110" y="0"/>
                    </a:lnTo>
                    <a:lnTo>
                      <a:pt x="0" y="211"/>
                    </a:lnTo>
                    <a:lnTo>
                      <a:pt x="213" y="21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>
              <a:off x="1293840" y="2259000"/>
              <a:ext cx="1592280" cy="331920"/>
            </a:xfrm>
            <a:prstGeom prst="rect">
              <a:avLst/>
            </a:prstGeom>
            <a:solidFill>
              <a:srgbClr val="66ff66"/>
            </a:solidFill>
            <a:ln w="79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366200" y="2308320"/>
              <a:ext cx="143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292929"/>
                  </a:solidFill>
                  <a:latin typeface="Times New Roman"/>
                </a:rPr>
                <a:t>GENERAC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00320" y="4673520"/>
              <a:ext cx="415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75560" y="4721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40080" y="484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679840" y="372600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755440" y="3772080"/>
              <a:ext cx="37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500" spc="-1" strike="noStrike">
                  <a:solidFill>
                    <a:srgbClr val="cc9900"/>
                  </a:solidFill>
                  <a:latin typeface="Times New Roman"/>
                </a:rPr>
                <a:t>Cm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1973160" y="3794040"/>
              <a:ext cx="550800" cy="168480"/>
              <a:chOff x="1973160" y="3794040"/>
              <a:chExt cx="550800" cy="168480"/>
            </a:xfrm>
          </p:grpSpPr>
          <p:sp>
            <p:nvSpPr>
              <p:cNvPr id="1218" name=""/>
              <p:cNvSpPr/>
              <p:nvPr/>
            </p:nvSpPr>
            <p:spPr>
              <a:xfrm>
                <a:off x="1973160" y="3855960"/>
                <a:ext cx="436680" cy="44640"/>
              </a:xfrm>
              <a:custGeom>
                <a:avLst/>
                <a:gdLst/>
                <a:ahLst/>
                <a:rect l="l" t="t" r="r" b="b"/>
                <a:pathLst>
                  <a:path w="549" h="56">
                    <a:moveTo>
                      <a:pt x="0" y="3"/>
                    </a:moveTo>
                    <a:lnTo>
                      <a:pt x="0" y="56"/>
                    </a:lnTo>
                    <a:lnTo>
                      <a:pt x="549" y="53"/>
                    </a:lnTo>
                    <a:lnTo>
                      <a:pt x="54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352600" y="3794040"/>
                <a:ext cx="171360" cy="168480"/>
              </a:xfrm>
              <a:custGeom>
                <a:avLst/>
                <a:gdLst/>
                <a:ahLst/>
                <a:rect l="l" t="t" r="r" b="b"/>
                <a:pathLst>
                  <a:path w="215" h="214">
                    <a:moveTo>
                      <a:pt x="2" y="214"/>
                    </a:moveTo>
                    <a:lnTo>
                      <a:pt x="215" y="104"/>
                    </a:lnTo>
                    <a:lnTo>
                      <a:pt x="0" y="0"/>
                    </a:lnTo>
                    <a:lnTo>
                      <a:pt x="68" y="107"/>
                    </a:lnTo>
                    <a:lnTo>
                      <a:pt x="2" y="21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2070000" y="4610160"/>
              <a:ext cx="698760" cy="49356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073240" y="2695680"/>
              <a:ext cx="696960" cy="49356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208240" y="2746440"/>
              <a:ext cx="39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83480" y="27939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47640" y="291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135080" y="3649680"/>
              <a:ext cx="735120" cy="457200"/>
            </a:xfrm>
            <a:custGeom>
              <a:avLst/>
              <a:gdLst/>
              <a:ahLst/>
              <a:rect l="l" t="t" r="r" b="b"/>
              <a:pathLst>
                <a:path w="924" h="578">
                  <a:moveTo>
                    <a:pt x="71" y="0"/>
                  </a:moveTo>
                  <a:lnTo>
                    <a:pt x="56" y="2"/>
                  </a:lnTo>
                  <a:lnTo>
                    <a:pt x="43" y="5"/>
                  </a:lnTo>
                  <a:lnTo>
                    <a:pt x="31" y="12"/>
                  </a:lnTo>
                  <a:lnTo>
                    <a:pt x="21" y="22"/>
                  </a:lnTo>
                  <a:lnTo>
                    <a:pt x="11" y="32"/>
                  </a:lnTo>
                  <a:lnTo>
                    <a:pt x="5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06"/>
                  </a:lnTo>
                  <a:lnTo>
                    <a:pt x="1" y="521"/>
                  </a:lnTo>
                  <a:lnTo>
                    <a:pt x="5" y="534"/>
                  </a:lnTo>
                  <a:lnTo>
                    <a:pt x="11" y="546"/>
                  </a:lnTo>
                  <a:lnTo>
                    <a:pt x="21" y="558"/>
                  </a:lnTo>
                  <a:lnTo>
                    <a:pt x="31" y="566"/>
                  </a:lnTo>
                  <a:lnTo>
                    <a:pt x="43" y="573"/>
                  </a:lnTo>
                  <a:lnTo>
                    <a:pt x="56" y="576"/>
                  </a:lnTo>
                  <a:lnTo>
                    <a:pt x="71" y="578"/>
                  </a:lnTo>
                  <a:lnTo>
                    <a:pt x="852" y="578"/>
                  </a:lnTo>
                  <a:lnTo>
                    <a:pt x="867" y="576"/>
                  </a:lnTo>
                  <a:lnTo>
                    <a:pt x="881" y="573"/>
                  </a:lnTo>
                  <a:lnTo>
                    <a:pt x="892" y="566"/>
                  </a:lnTo>
                  <a:lnTo>
                    <a:pt x="904" y="558"/>
                  </a:lnTo>
                  <a:lnTo>
                    <a:pt x="912" y="546"/>
                  </a:lnTo>
                  <a:lnTo>
                    <a:pt x="919" y="534"/>
                  </a:lnTo>
                  <a:lnTo>
                    <a:pt x="922" y="521"/>
                  </a:lnTo>
                  <a:lnTo>
                    <a:pt x="924" y="506"/>
                  </a:lnTo>
                  <a:lnTo>
                    <a:pt x="924" y="72"/>
                  </a:lnTo>
                  <a:lnTo>
                    <a:pt x="922" y="57"/>
                  </a:lnTo>
                  <a:lnTo>
                    <a:pt x="919" y="44"/>
                  </a:lnTo>
                  <a:lnTo>
                    <a:pt x="912" y="32"/>
                  </a:lnTo>
                  <a:lnTo>
                    <a:pt x="904" y="22"/>
                  </a:lnTo>
                  <a:lnTo>
                    <a:pt x="892" y="12"/>
                  </a:lnTo>
                  <a:lnTo>
                    <a:pt x="881" y="5"/>
                  </a:lnTo>
                  <a:lnTo>
                    <a:pt x="867" y="2"/>
                  </a:lnTo>
                  <a:lnTo>
                    <a:pt x="85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c9900"/>
            </a:solidFill>
            <a:ln w="1116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199160" y="3760920"/>
              <a:ext cx="616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cc3300"/>
                  </a:solidFill>
                  <a:latin typeface="Times New Roman"/>
                </a:rPr>
                <a:t>CDE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1871640" y="3144960"/>
              <a:ext cx="333360" cy="485640"/>
              <a:chOff x="1871640" y="3144960"/>
              <a:chExt cx="333360" cy="485640"/>
            </a:xfrm>
          </p:grpSpPr>
          <p:sp>
            <p:nvSpPr>
              <p:cNvPr id="1228" name=""/>
              <p:cNvSpPr/>
              <p:nvPr/>
            </p:nvSpPr>
            <p:spPr>
              <a:xfrm>
                <a:off x="1871640" y="35877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9" y="9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9" y="45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5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9" y="7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919160" y="3517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7" y="7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967040" y="34480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6" y="6"/>
                    </a:moveTo>
                    <a:lnTo>
                      <a:pt x="1" y="16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6" y="45"/>
                    </a:lnTo>
                    <a:lnTo>
                      <a:pt x="15" y="51"/>
                    </a:lnTo>
                    <a:lnTo>
                      <a:pt x="26" y="53"/>
                    </a:lnTo>
                    <a:lnTo>
                      <a:pt x="36" y="51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0" y="36"/>
                    </a:lnTo>
                    <a:lnTo>
                      <a:pt x="53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6" y="1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013120" y="337824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7"/>
                    </a:moveTo>
                    <a:lnTo>
                      <a:pt x="3" y="17"/>
                    </a:lnTo>
                    <a:lnTo>
                      <a:pt x="0" y="27"/>
                    </a:lnTo>
                    <a:lnTo>
                      <a:pt x="3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8" y="52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lnTo>
                      <a:pt x="47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062080" y="3306600"/>
                <a:ext cx="41400" cy="432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6"/>
                    </a:move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5"/>
                    </a:ln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109960" y="323676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7" y="7"/>
                    </a:moveTo>
                    <a:lnTo>
                      <a:pt x="2" y="15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0"/>
                    </a:lnTo>
                    <a:lnTo>
                      <a:pt x="27" y="54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5"/>
                    </a:lnTo>
                    <a:lnTo>
                      <a:pt x="45" y="7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041560" y="3144960"/>
                <a:ext cx="163440" cy="187200"/>
              </a:xfrm>
              <a:custGeom>
                <a:avLst/>
                <a:gdLst/>
                <a:ahLst/>
                <a:rect l="l" t="t" r="r" b="b"/>
                <a:pathLst>
                  <a:path w="207" h="237">
                    <a:moveTo>
                      <a:pt x="179" y="237"/>
                    </a:moveTo>
                    <a:lnTo>
                      <a:pt x="207" y="0"/>
                    </a:lnTo>
                    <a:lnTo>
                      <a:pt x="0" y="119"/>
                    </a:lnTo>
                    <a:lnTo>
                      <a:pt x="127" y="121"/>
                    </a:lnTo>
                    <a:lnTo>
                      <a:pt x="179" y="23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1973160" y="4165560"/>
              <a:ext cx="285840" cy="460440"/>
              <a:chOff x="1973160" y="4165560"/>
              <a:chExt cx="285840" cy="460440"/>
            </a:xfrm>
          </p:grpSpPr>
          <p:sp>
            <p:nvSpPr>
              <p:cNvPr id="1236" name=""/>
              <p:cNvSpPr/>
              <p:nvPr/>
            </p:nvSpPr>
            <p:spPr>
              <a:xfrm>
                <a:off x="1973160" y="41655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7"/>
                    </a:move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017800" y="42386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062080" y="431172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5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104920" y="43830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8"/>
                    </a:lnTo>
                    <a:lnTo>
                      <a:pt x="37" y="3"/>
                    </a:lnTo>
                    <a:lnTo>
                      <a:pt x="27" y="0"/>
                    </a:lnTo>
                    <a:lnTo>
                      <a:pt x="17" y="3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6"/>
                    </a:lnTo>
                    <a:lnTo>
                      <a:pt x="17" y="51"/>
                    </a:lnTo>
                    <a:lnTo>
                      <a:pt x="27" y="53"/>
                    </a:lnTo>
                    <a:lnTo>
                      <a:pt x="37" y="51"/>
                    </a:lnTo>
                    <a:lnTo>
                      <a:pt x="45" y="46"/>
                    </a:lnTo>
                    <a:lnTo>
                      <a:pt x="52" y="38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149560" y="44560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2" y="17"/>
                    </a:moveTo>
                    <a:lnTo>
                      <a:pt x="47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9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7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098800" y="4435560"/>
                <a:ext cx="160200" cy="190440"/>
              </a:xfrm>
              <a:custGeom>
                <a:avLst/>
                <a:gdLst/>
                <a:ahLst/>
                <a:rect l="l" t="t" r="r" b="b"/>
                <a:pathLst>
                  <a:path w="202" h="239">
                    <a:moveTo>
                      <a:pt x="0" y="111"/>
                    </a:moveTo>
                    <a:lnTo>
                      <a:pt x="202" y="239"/>
                    </a:lnTo>
                    <a:lnTo>
                      <a:pt x="183" y="0"/>
                    </a:lnTo>
                    <a:lnTo>
                      <a:pt x="125" y="11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2228760" y="3240000"/>
              <a:ext cx="176400" cy="1355760"/>
              <a:chOff x="2228760" y="3240000"/>
              <a:chExt cx="176400" cy="1355760"/>
            </a:xfrm>
          </p:grpSpPr>
          <p:sp>
            <p:nvSpPr>
              <p:cNvPr id="1243" name=""/>
              <p:cNvSpPr/>
              <p:nvPr/>
            </p:nvSpPr>
            <p:spPr>
              <a:xfrm>
                <a:off x="2290680" y="3403440"/>
                <a:ext cx="50760" cy="1025640"/>
              </a:xfrm>
              <a:custGeom>
                <a:avLst/>
                <a:gdLst/>
                <a:ahLst/>
                <a:rect l="l" t="t" r="r" b="b"/>
                <a:pathLst>
                  <a:path w="63" h="1292">
                    <a:moveTo>
                      <a:pt x="0" y="1292"/>
                    </a:moveTo>
                    <a:lnTo>
                      <a:pt x="53" y="129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28760" y="4425840"/>
                <a:ext cx="168480" cy="169920"/>
              </a:xfrm>
              <a:custGeom>
                <a:avLst/>
                <a:gdLst/>
                <a:ahLst/>
                <a:rect l="l" t="t" r="r" b="b"/>
                <a:pathLst>
                  <a:path w="214" h="215">
                    <a:moveTo>
                      <a:pt x="0" y="0"/>
                    </a:moveTo>
                    <a:lnTo>
                      <a:pt x="105" y="215"/>
                    </a:lnTo>
                    <a:lnTo>
                      <a:pt x="2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240" y="32400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213" h="213">
                    <a:moveTo>
                      <a:pt x="213" y="213"/>
                    </a:moveTo>
                    <a:lnTo>
                      <a:pt x="110" y="0"/>
                    </a:lnTo>
                    <a:lnTo>
                      <a:pt x="0" y="211"/>
                    </a:lnTo>
                    <a:lnTo>
                      <a:pt x="213" y="21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1293840" y="2259000"/>
              <a:ext cx="1592280" cy="331920"/>
            </a:xfrm>
            <a:prstGeom prst="rect">
              <a:avLst/>
            </a:prstGeom>
            <a:solidFill>
              <a:srgbClr val="66ff66"/>
            </a:solidFill>
            <a:ln w="79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529640" y="230832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292929"/>
                  </a:solidFill>
                  <a:latin typeface="Times New Roman"/>
                </a:rPr>
                <a:t>Gene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200320" y="4673520"/>
              <a:ext cx="415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275560" y="4721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440080" y="484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79840" y="372600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55440" y="3772080"/>
              <a:ext cx="37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500" spc="-1" strike="noStrike">
                  <a:solidFill>
                    <a:srgbClr val="cc9900"/>
                  </a:solidFill>
                  <a:latin typeface="Times New Roman"/>
                </a:rPr>
                <a:t>Cm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1973160" y="3794040"/>
              <a:ext cx="550800" cy="168480"/>
              <a:chOff x="1973160" y="3794040"/>
              <a:chExt cx="550800" cy="168480"/>
            </a:xfrm>
          </p:grpSpPr>
          <p:sp>
            <p:nvSpPr>
              <p:cNvPr id="1254" name=""/>
              <p:cNvSpPr/>
              <p:nvPr/>
            </p:nvSpPr>
            <p:spPr>
              <a:xfrm>
                <a:off x="1973160" y="3855960"/>
                <a:ext cx="436680" cy="44640"/>
              </a:xfrm>
              <a:custGeom>
                <a:avLst/>
                <a:gdLst/>
                <a:ahLst/>
                <a:rect l="l" t="t" r="r" b="b"/>
                <a:pathLst>
                  <a:path w="549" h="56">
                    <a:moveTo>
                      <a:pt x="0" y="3"/>
                    </a:moveTo>
                    <a:lnTo>
                      <a:pt x="0" y="56"/>
                    </a:lnTo>
                    <a:lnTo>
                      <a:pt x="549" y="53"/>
                    </a:lnTo>
                    <a:lnTo>
                      <a:pt x="54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352600" y="3794040"/>
                <a:ext cx="171360" cy="168480"/>
              </a:xfrm>
              <a:custGeom>
                <a:avLst/>
                <a:gdLst/>
                <a:ahLst/>
                <a:rect l="l" t="t" r="r" b="b"/>
                <a:pathLst>
                  <a:path w="215" h="214">
                    <a:moveTo>
                      <a:pt x="2" y="214"/>
                    </a:moveTo>
                    <a:lnTo>
                      <a:pt x="215" y="104"/>
                    </a:lnTo>
                    <a:lnTo>
                      <a:pt x="0" y="0"/>
                    </a:lnTo>
                    <a:lnTo>
                      <a:pt x="68" y="107"/>
                    </a:lnTo>
                    <a:lnTo>
                      <a:pt x="2" y="21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6" name=""/>
            <p:cNvSpPr/>
            <p:nvPr/>
          </p:nvSpPr>
          <p:spPr>
            <a:xfrm>
              <a:off x="1078200" y="5410080"/>
              <a:ext cx="1253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Times New Roman"/>
                </a:rPr>
                <a:t>Mercado sp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54080" y="1676520"/>
              <a:ext cx="2222640" cy="434340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2691000" y="2244600"/>
            <a:ext cx="2517120" cy="2442960"/>
            <a:chOff x="2691000" y="2244600"/>
            <a:chExt cx="2517120" cy="2442960"/>
          </a:xfrm>
        </p:grpSpPr>
        <p:grpSp>
          <p:nvGrpSpPr>
            <p:cNvPr id="1259" name=""/>
            <p:cNvGrpSpPr/>
            <p:nvPr/>
          </p:nvGrpSpPr>
          <p:grpSpPr>
            <a:xfrm>
              <a:off x="2760840" y="2901960"/>
              <a:ext cx="2447280" cy="168120"/>
              <a:chOff x="2760840" y="2901960"/>
              <a:chExt cx="2447280" cy="168120"/>
            </a:xfrm>
          </p:grpSpPr>
          <p:sp>
            <p:nvSpPr>
              <p:cNvPr id="1260" name=""/>
              <p:cNvSpPr/>
              <p:nvPr/>
            </p:nvSpPr>
            <p:spPr>
              <a:xfrm>
                <a:off x="2760840" y="2962440"/>
                <a:ext cx="2334960" cy="44280"/>
              </a:xfrm>
              <a:custGeom>
                <a:avLst/>
                <a:gdLst/>
                <a:ahLst/>
                <a:rect l="l" t="t" r="r" b="b"/>
                <a:pathLst>
                  <a:path w="2942" h="55">
                    <a:moveTo>
                      <a:pt x="0" y="0"/>
                    </a:moveTo>
                    <a:lnTo>
                      <a:pt x="0" y="53"/>
                    </a:lnTo>
                    <a:lnTo>
                      <a:pt x="2942" y="55"/>
                    </a:lnTo>
                    <a:lnTo>
                      <a:pt x="294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40360" y="2901960"/>
                <a:ext cx="167760" cy="1681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0" y="212"/>
                    </a:moveTo>
                    <a:lnTo>
                      <a:pt x="212" y="105"/>
                    </a:lnTo>
                    <a:lnTo>
                      <a:pt x="0" y="0"/>
                    </a:lnTo>
                    <a:lnTo>
                      <a:pt x="67" y="105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2691000" y="3165840"/>
              <a:ext cx="2301480" cy="1521720"/>
              <a:chOff x="2691000" y="3165840"/>
              <a:chExt cx="2301480" cy="1521720"/>
            </a:xfrm>
          </p:grpSpPr>
          <p:sp>
            <p:nvSpPr>
              <p:cNvPr id="1263" name=""/>
              <p:cNvSpPr/>
              <p:nvPr/>
            </p:nvSpPr>
            <p:spPr>
              <a:xfrm rot="19668000">
                <a:off x="2515680" y="3962160"/>
                <a:ext cx="2498760" cy="64080"/>
              </a:xfrm>
              <a:custGeom>
                <a:avLst/>
                <a:gdLst/>
                <a:ahLst/>
                <a:rect l="l" t="t" r="r" b="b"/>
                <a:pathLst>
                  <a:path w="2872" h="58">
                    <a:moveTo>
                      <a:pt x="0" y="0"/>
                    </a:moveTo>
                    <a:lnTo>
                      <a:pt x="0" y="53"/>
                    </a:lnTo>
                    <a:lnTo>
                      <a:pt x="2872" y="58"/>
                    </a:lnTo>
                    <a:lnTo>
                      <a:pt x="287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19668000">
                <a:off x="4758120" y="3197160"/>
                <a:ext cx="186120" cy="234360"/>
              </a:xfrm>
              <a:custGeom>
                <a:avLst/>
                <a:gdLst/>
                <a:ahLst/>
                <a:rect l="l" t="t" r="r" b="b"/>
                <a:pathLst>
                  <a:path w="213" h="211">
                    <a:moveTo>
                      <a:pt x="0" y="211"/>
                    </a:moveTo>
                    <a:lnTo>
                      <a:pt x="213" y="106"/>
                    </a:lnTo>
                    <a:lnTo>
                      <a:pt x="0" y="0"/>
                    </a:lnTo>
                    <a:lnTo>
                      <a:pt x="67" y="10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3671640" y="2244600"/>
              <a:ext cx="1064520" cy="11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Times New Roman"/>
                </a:rPr>
                <a:t>Preci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7567560" y="3032280"/>
            <a:ext cx="990720" cy="634680"/>
            <a:chOff x="7567560" y="3032280"/>
            <a:chExt cx="990720" cy="634680"/>
          </a:xfrm>
        </p:grpSpPr>
        <p:grpSp>
          <p:nvGrpSpPr>
            <p:cNvPr id="1267" name=""/>
            <p:cNvGrpSpPr/>
            <p:nvPr/>
          </p:nvGrpSpPr>
          <p:grpSpPr>
            <a:xfrm>
              <a:off x="7792920" y="3070080"/>
              <a:ext cx="309600" cy="285840"/>
              <a:chOff x="7792920" y="3070080"/>
              <a:chExt cx="309600" cy="285840"/>
            </a:xfrm>
          </p:grpSpPr>
          <p:grpSp>
            <p:nvGrpSpPr>
              <p:cNvPr id="1268" name=""/>
              <p:cNvGrpSpPr/>
              <p:nvPr/>
            </p:nvGrpSpPr>
            <p:grpSpPr>
              <a:xfrm>
                <a:off x="7792920" y="3070080"/>
                <a:ext cx="309600" cy="285840"/>
                <a:chOff x="7792920" y="3070080"/>
                <a:chExt cx="309600" cy="28584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7792920" y="3132000"/>
                  <a:ext cx="309600" cy="39960"/>
                </a:xfrm>
                <a:custGeom>
                  <a:avLst/>
                  <a:gdLst/>
                  <a:ahLst/>
                  <a:rect l="l" t="t" r="r" b="b"/>
                  <a:pathLst>
                    <a:path w="587" h="152">
                      <a:moveTo>
                        <a:pt x="434" y="152"/>
                      </a:moveTo>
                      <a:lnTo>
                        <a:pt x="587" y="71"/>
                      </a:lnTo>
                      <a:lnTo>
                        <a:pt x="163" y="0"/>
                      </a:lnTo>
                      <a:lnTo>
                        <a:pt x="0" y="83"/>
                      </a:lnTo>
                      <a:lnTo>
                        <a:pt x="434" y="152"/>
                      </a:lnTo>
                      <a:close/>
                    </a:path>
                  </a:pathLst>
                </a:custGeom>
                <a:solidFill>
                  <a:srgbClr val="5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7807320" y="3070080"/>
                  <a:ext cx="258840" cy="20880"/>
                </a:xfrm>
                <a:custGeom>
                  <a:avLst/>
                  <a:gdLst/>
                  <a:ahLst/>
                  <a:rect l="l" t="t" r="r" b="b"/>
                  <a:pathLst>
                    <a:path w="488" h="74">
                      <a:moveTo>
                        <a:pt x="0" y="37"/>
                      </a:moveTo>
                      <a:lnTo>
                        <a:pt x="381" y="74"/>
                      </a:lnTo>
                      <a:lnTo>
                        <a:pt x="488" y="41"/>
                      </a:lnTo>
                      <a:lnTo>
                        <a:pt x="116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5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010360" y="3081240"/>
                  <a:ext cx="55800" cy="82800"/>
                </a:xfrm>
                <a:custGeom>
                  <a:avLst/>
                  <a:gdLst/>
                  <a:ahLst/>
                  <a:rect l="l" t="t" r="r" b="b"/>
                  <a:pathLst>
                    <a:path w="107" h="313">
                      <a:moveTo>
                        <a:pt x="0" y="32"/>
                      </a:moveTo>
                      <a:lnTo>
                        <a:pt x="107" y="0"/>
                      </a:lnTo>
                      <a:lnTo>
                        <a:pt x="107" y="261"/>
                      </a:lnTo>
                      <a:lnTo>
                        <a:pt x="0" y="313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7807320" y="3081240"/>
                  <a:ext cx="203040" cy="82800"/>
                </a:xfrm>
                <a:custGeom>
                  <a:avLst/>
                  <a:gdLst/>
                  <a:ahLst/>
                  <a:rect l="l" t="t" r="r" b="b"/>
                  <a:pathLst>
                    <a:path w="383" h="315">
                      <a:moveTo>
                        <a:pt x="1" y="0"/>
                      </a:moveTo>
                      <a:lnTo>
                        <a:pt x="383" y="37"/>
                      </a:lnTo>
                      <a:lnTo>
                        <a:pt x="383" y="315"/>
                      </a:lnTo>
                      <a:lnTo>
                        <a:pt x="0" y="25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8021520" y="3151080"/>
                  <a:ext cx="81000" cy="204840"/>
                </a:xfrm>
                <a:custGeom>
                  <a:avLst/>
                  <a:gdLst/>
                  <a:ahLst/>
                  <a:rect l="l" t="t" r="r" b="b"/>
                  <a:pathLst>
                    <a:path w="153" h="777">
                      <a:moveTo>
                        <a:pt x="153" y="0"/>
                      </a:moveTo>
                      <a:lnTo>
                        <a:pt x="0" y="82"/>
                      </a:lnTo>
                      <a:lnTo>
                        <a:pt x="0" y="777"/>
                      </a:lnTo>
                      <a:lnTo>
                        <a:pt x="153" y="677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7792920" y="3154320"/>
                  <a:ext cx="230400" cy="201600"/>
                </a:xfrm>
                <a:custGeom>
                  <a:avLst/>
                  <a:gdLst/>
                  <a:ahLst/>
                  <a:rect l="l" t="t" r="r" b="b"/>
                  <a:pathLst>
                    <a:path w="435" h="765">
                      <a:moveTo>
                        <a:pt x="0" y="0"/>
                      </a:moveTo>
                      <a:lnTo>
                        <a:pt x="435" y="70"/>
                      </a:lnTo>
                      <a:lnTo>
                        <a:pt x="434" y="765"/>
                      </a:lnTo>
                      <a:lnTo>
                        <a:pt x="0" y="6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7816680" y="3084480"/>
                <a:ext cx="195480" cy="119160"/>
                <a:chOff x="7816680" y="3084480"/>
                <a:chExt cx="195480" cy="1191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7816680" y="308448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57" h="28">
                      <a:moveTo>
                        <a:pt x="0" y="0"/>
                      </a:moveTo>
                      <a:lnTo>
                        <a:pt x="57" y="7"/>
                      </a:lnTo>
                      <a:lnTo>
                        <a:pt x="57" y="28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854840" y="309708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0" y="0"/>
                      </a:moveTo>
                      <a:lnTo>
                        <a:pt x="57" y="6"/>
                      </a:lnTo>
                      <a:lnTo>
                        <a:pt x="57" y="27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7897680" y="3087720"/>
                  <a:ext cx="30240" cy="792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0" y="0"/>
                      </a:moveTo>
                      <a:lnTo>
                        <a:pt x="56" y="6"/>
                      </a:lnTo>
                      <a:lnTo>
                        <a:pt x="56" y="27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7942320" y="3090960"/>
                  <a:ext cx="30240" cy="612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0" y="0"/>
                      </a:moveTo>
                      <a:lnTo>
                        <a:pt x="57" y="6"/>
                      </a:lnTo>
                      <a:lnTo>
                        <a:pt x="57" y="27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7942320" y="3102120"/>
                  <a:ext cx="30240" cy="612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0" y="0"/>
                      </a:moveTo>
                      <a:lnTo>
                        <a:pt x="57" y="6"/>
                      </a:lnTo>
                      <a:lnTo>
                        <a:pt x="57" y="27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7896240" y="311292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0" y="0"/>
                      </a:moveTo>
                      <a:lnTo>
                        <a:pt x="56" y="6"/>
                      </a:lnTo>
                      <a:lnTo>
                        <a:pt x="56" y="27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942320" y="3125880"/>
                  <a:ext cx="30240" cy="7920"/>
                </a:xfrm>
                <a:custGeom>
                  <a:avLst/>
                  <a:gdLst/>
                  <a:ahLst/>
                  <a:rect l="l" t="t" r="r" b="b"/>
                  <a:pathLst>
                    <a:path w="57" h="26">
                      <a:moveTo>
                        <a:pt x="0" y="0"/>
                      </a:moveTo>
                      <a:lnTo>
                        <a:pt x="57" y="6"/>
                      </a:lnTo>
                      <a:lnTo>
                        <a:pt x="57" y="26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981920" y="3174840"/>
                  <a:ext cx="30240" cy="7920"/>
                </a:xfrm>
                <a:custGeom>
                  <a:avLst/>
                  <a:gdLst/>
                  <a:ahLst/>
                  <a:rect l="l" t="t" r="r" b="b"/>
                  <a:pathLst>
                    <a:path w="57" h="28">
                      <a:moveTo>
                        <a:pt x="0" y="0"/>
                      </a:moveTo>
                      <a:lnTo>
                        <a:pt x="57" y="7"/>
                      </a:lnTo>
                      <a:lnTo>
                        <a:pt x="57" y="28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983360" y="3197160"/>
                  <a:ext cx="28800" cy="648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0" y="0"/>
                      </a:moveTo>
                      <a:lnTo>
                        <a:pt x="56" y="5"/>
                      </a:lnTo>
                      <a:lnTo>
                        <a:pt x="56" y="26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5" name=""/>
            <p:cNvGrpSpPr/>
            <p:nvPr/>
          </p:nvGrpSpPr>
          <p:grpSpPr>
            <a:xfrm>
              <a:off x="8039160" y="3032280"/>
              <a:ext cx="384120" cy="398160"/>
              <a:chOff x="8039160" y="3032280"/>
              <a:chExt cx="384120" cy="39816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8039160" y="3032280"/>
                <a:ext cx="384120" cy="398160"/>
                <a:chOff x="8039160" y="3032280"/>
                <a:chExt cx="384120" cy="39816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8042400" y="3146400"/>
                  <a:ext cx="380880" cy="76320"/>
                </a:xfrm>
                <a:custGeom>
                  <a:avLst/>
                  <a:gdLst/>
                  <a:ahLst/>
                  <a:rect l="l" t="t" r="r" b="b"/>
                  <a:pathLst>
                    <a:path w="721" h="289">
                      <a:moveTo>
                        <a:pt x="0" y="211"/>
                      </a:moveTo>
                      <a:lnTo>
                        <a:pt x="408" y="289"/>
                      </a:lnTo>
                      <a:lnTo>
                        <a:pt x="721" y="56"/>
                      </a:lnTo>
                      <a:lnTo>
                        <a:pt x="329" y="0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8094600" y="3081240"/>
                  <a:ext cx="158760" cy="130320"/>
                </a:xfrm>
                <a:custGeom>
                  <a:avLst/>
                  <a:gdLst/>
                  <a:ahLst/>
                  <a:rect l="l" t="t" r="r" b="b"/>
                  <a:pathLst>
                    <a:path w="300" h="491">
                      <a:moveTo>
                        <a:pt x="0" y="0"/>
                      </a:moveTo>
                      <a:lnTo>
                        <a:pt x="300" y="24"/>
                      </a:lnTo>
                      <a:lnTo>
                        <a:pt x="300" y="491"/>
                      </a:lnTo>
                      <a:lnTo>
                        <a:pt x="0" y="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250120" y="3059280"/>
                  <a:ext cx="136800" cy="150480"/>
                </a:xfrm>
                <a:custGeom>
                  <a:avLst/>
                  <a:gdLst/>
                  <a:ahLst/>
                  <a:rect l="l" t="t" r="r" b="b"/>
                  <a:pathLst>
                    <a:path w="258" h="569">
                      <a:moveTo>
                        <a:pt x="0" y="105"/>
                      </a:moveTo>
                      <a:lnTo>
                        <a:pt x="0" y="569"/>
                      </a:lnTo>
                      <a:lnTo>
                        <a:pt x="258" y="383"/>
                      </a:lnTo>
                      <a:lnTo>
                        <a:pt x="258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094600" y="3054240"/>
                  <a:ext cx="292320" cy="33480"/>
                </a:xfrm>
                <a:custGeom>
                  <a:avLst/>
                  <a:gdLst/>
                  <a:ahLst/>
                  <a:rect l="l" t="t" r="r" b="b"/>
                  <a:pathLst>
                    <a:path w="554" h="127">
                      <a:moveTo>
                        <a:pt x="0" y="103"/>
                      </a:moveTo>
                      <a:lnTo>
                        <a:pt x="296" y="127"/>
                      </a:lnTo>
                      <a:lnTo>
                        <a:pt x="554" y="22"/>
                      </a:lnTo>
                      <a:lnTo>
                        <a:pt x="296" y="0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132760" y="3032280"/>
                  <a:ext cx="212760" cy="18720"/>
                </a:xfrm>
                <a:custGeom>
                  <a:avLst/>
                  <a:gdLst/>
                  <a:ahLst/>
                  <a:rect l="l" t="t" r="r" b="b"/>
                  <a:pathLst>
                    <a:path w="404" h="77">
                      <a:moveTo>
                        <a:pt x="0" y="61"/>
                      </a:moveTo>
                      <a:lnTo>
                        <a:pt x="215" y="77"/>
                      </a:lnTo>
                      <a:lnTo>
                        <a:pt x="404" y="19"/>
                      </a:lnTo>
                      <a:lnTo>
                        <a:pt x="202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132760" y="3048120"/>
                  <a:ext cx="111240" cy="31680"/>
                </a:xfrm>
                <a:custGeom>
                  <a:avLst/>
                  <a:gdLst/>
                  <a:ahLst/>
                  <a:rect l="l" t="t" r="r" b="b"/>
                  <a:pathLst>
                    <a:path w="211" h="119">
                      <a:moveTo>
                        <a:pt x="0" y="0"/>
                      </a:moveTo>
                      <a:lnTo>
                        <a:pt x="211" y="15"/>
                      </a:lnTo>
                      <a:lnTo>
                        <a:pt x="211" y="119"/>
                      </a:lnTo>
                      <a:lnTo>
                        <a:pt x="0" y="1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8244000" y="3036960"/>
                  <a:ext cx="101520" cy="42840"/>
                </a:xfrm>
                <a:custGeom>
                  <a:avLst/>
                  <a:gdLst/>
                  <a:ahLst/>
                  <a:rect l="l" t="t" r="r" b="b"/>
                  <a:pathLst>
                    <a:path w="193" h="161">
                      <a:moveTo>
                        <a:pt x="0" y="58"/>
                      </a:moveTo>
                      <a:lnTo>
                        <a:pt x="0" y="161"/>
                      </a:lnTo>
                      <a:lnTo>
                        <a:pt x="193" y="83"/>
                      </a:lnTo>
                      <a:lnTo>
                        <a:pt x="193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256600" y="3160800"/>
                  <a:ext cx="166680" cy="269640"/>
                </a:xfrm>
                <a:custGeom>
                  <a:avLst/>
                  <a:gdLst/>
                  <a:ahLst/>
                  <a:rect l="l" t="t" r="r" b="b"/>
                  <a:pathLst>
                    <a:path w="316" h="1021">
                      <a:moveTo>
                        <a:pt x="316" y="0"/>
                      </a:moveTo>
                      <a:lnTo>
                        <a:pt x="2" y="236"/>
                      </a:lnTo>
                      <a:lnTo>
                        <a:pt x="0" y="1021"/>
                      </a:lnTo>
                      <a:lnTo>
                        <a:pt x="316" y="715"/>
                      </a:lnTo>
                      <a:lnTo>
                        <a:pt x="316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039160" y="3201840"/>
                  <a:ext cx="217440" cy="228600"/>
                </a:xfrm>
                <a:custGeom>
                  <a:avLst/>
                  <a:gdLst/>
                  <a:ahLst/>
                  <a:rect l="l" t="t" r="r" b="b"/>
                  <a:pathLst>
                    <a:path w="411" h="863">
                      <a:moveTo>
                        <a:pt x="4" y="0"/>
                      </a:moveTo>
                      <a:lnTo>
                        <a:pt x="411" y="78"/>
                      </a:lnTo>
                      <a:lnTo>
                        <a:pt x="411" y="863"/>
                      </a:lnTo>
                      <a:lnTo>
                        <a:pt x="0" y="7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8064360" y="3084480"/>
                <a:ext cx="171720" cy="169920"/>
                <a:chOff x="8064360" y="3084480"/>
                <a:chExt cx="171720" cy="16992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8104320" y="3084480"/>
                  <a:ext cx="131760" cy="38160"/>
                  <a:chOff x="8104320" y="3084480"/>
                  <a:chExt cx="131760" cy="3816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8104320" y="308448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7">
                        <a:moveTo>
                          <a:pt x="0" y="0"/>
                        </a:moveTo>
                        <a:lnTo>
                          <a:pt x="50" y="6"/>
                        </a:lnTo>
                        <a:lnTo>
                          <a:pt x="50" y="117"/>
                        </a:lnTo>
                        <a:lnTo>
                          <a:pt x="1" y="1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8139240" y="30862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7">
                        <a:moveTo>
                          <a:pt x="0" y="0"/>
                        </a:moveTo>
                        <a:lnTo>
                          <a:pt x="50" y="5"/>
                        </a:lnTo>
                        <a:lnTo>
                          <a:pt x="50" y="11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8174160" y="3087720"/>
                    <a:ext cx="270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20">
                        <a:moveTo>
                          <a:pt x="0" y="0"/>
                        </a:moveTo>
                        <a:lnTo>
                          <a:pt x="52" y="5"/>
                        </a:lnTo>
                        <a:lnTo>
                          <a:pt x="50" y="120"/>
                        </a:lnTo>
                        <a:lnTo>
                          <a:pt x="0" y="11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8209080" y="30909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24">
                        <a:moveTo>
                          <a:pt x="0" y="0"/>
                        </a:moveTo>
                        <a:lnTo>
                          <a:pt x="50" y="6"/>
                        </a:lnTo>
                        <a:lnTo>
                          <a:pt x="50" y="124"/>
                        </a:lnTo>
                        <a:lnTo>
                          <a:pt x="0" y="1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2" name=""/>
                <p:cNvGrpSpPr/>
                <p:nvPr/>
              </p:nvGrpSpPr>
              <p:grpSpPr>
                <a:xfrm>
                  <a:off x="8104320" y="3121200"/>
                  <a:ext cx="131760" cy="39600"/>
                  <a:chOff x="8104320" y="3121200"/>
                  <a:chExt cx="131760" cy="396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8104320" y="31212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20">
                        <a:moveTo>
                          <a:pt x="0" y="0"/>
                        </a:moveTo>
                        <a:lnTo>
                          <a:pt x="50" y="8"/>
                        </a:lnTo>
                        <a:lnTo>
                          <a:pt x="50" y="120"/>
                        </a:lnTo>
                        <a:lnTo>
                          <a:pt x="1" y="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8139240" y="3124080"/>
                    <a:ext cx="270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21">
                        <a:moveTo>
                          <a:pt x="1" y="0"/>
                        </a:moveTo>
                        <a:lnTo>
                          <a:pt x="51" y="10"/>
                        </a:lnTo>
                        <a:lnTo>
                          <a:pt x="50" y="121"/>
                        </a:lnTo>
                        <a:lnTo>
                          <a:pt x="0" y="11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8174160" y="31258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19">
                        <a:moveTo>
                          <a:pt x="0" y="0"/>
                        </a:moveTo>
                        <a:lnTo>
                          <a:pt x="52" y="7"/>
                        </a:lnTo>
                        <a:lnTo>
                          <a:pt x="50" y="119"/>
                        </a:lnTo>
                        <a:lnTo>
                          <a:pt x="0" y="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8209080" y="312912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20">
                        <a:moveTo>
                          <a:pt x="0" y="0"/>
                        </a:moveTo>
                        <a:lnTo>
                          <a:pt x="50" y="9"/>
                        </a:lnTo>
                        <a:lnTo>
                          <a:pt x="50" y="120"/>
                        </a:lnTo>
                        <a:lnTo>
                          <a:pt x="0" y="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7" name=""/>
                <p:cNvGrpSpPr/>
                <p:nvPr/>
              </p:nvGrpSpPr>
              <p:grpSpPr>
                <a:xfrm>
                  <a:off x="8064360" y="3209760"/>
                  <a:ext cx="163800" cy="44640"/>
                  <a:chOff x="8064360" y="3209760"/>
                  <a:chExt cx="163800" cy="44640"/>
                </a:xfrm>
              </p:grpSpPr>
              <p:grpSp>
                <p:nvGrpSpPr>
                  <p:cNvPr id="1308" name=""/>
                  <p:cNvGrpSpPr/>
                  <p:nvPr/>
                </p:nvGrpSpPr>
                <p:grpSpPr>
                  <a:xfrm>
                    <a:off x="8064360" y="3209760"/>
                    <a:ext cx="163800" cy="28800"/>
                    <a:chOff x="8064360" y="3209760"/>
                    <a:chExt cx="163800" cy="28800"/>
                  </a:xfrm>
                </p:grpSpPr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8105760" y="3214800"/>
                      <a:ext cx="349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5">
                          <a:moveTo>
                            <a:pt x="1" y="0"/>
                          </a:moveTo>
                          <a:lnTo>
                            <a:pt x="67" y="13"/>
                          </a:lnTo>
                          <a:lnTo>
                            <a:pt x="67" y="55"/>
                          </a:lnTo>
                          <a:lnTo>
                            <a:pt x="0" y="4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8150400" y="3218040"/>
                      <a:ext cx="3492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9">
                          <a:moveTo>
                            <a:pt x="0" y="0"/>
                          </a:moveTo>
                          <a:lnTo>
                            <a:pt x="67" y="15"/>
                          </a:lnTo>
                          <a:lnTo>
                            <a:pt x="67" y="59"/>
                          </a:lnTo>
                          <a:lnTo>
                            <a:pt x="0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>
                      <a:off x="8193240" y="3222720"/>
                      <a:ext cx="3492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8">
                          <a:moveTo>
                            <a:pt x="0" y="0"/>
                          </a:moveTo>
                          <a:lnTo>
                            <a:pt x="67" y="14"/>
                          </a:lnTo>
                          <a:lnTo>
                            <a:pt x="67" y="58"/>
                          </a:lnTo>
                          <a:lnTo>
                            <a:pt x="0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2" name=""/>
                    <p:cNvSpPr/>
                    <p:nvPr/>
                  </p:nvSpPr>
                  <p:spPr>
                    <a:xfrm>
                      <a:off x="8064360" y="3209760"/>
                      <a:ext cx="349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4">
                          <a:moveTo>
                            <a:pt x="0" y="0"/>
                          </a:moveTo>
                          <a:lnTo>
                            <a:pt x="66" y="13"/>
                          </a:lnTo>
                          <a:lnTo>
                            <a:pt x="66" y="54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3" name=""/>
                  <p:cNvGrpSpPr/>
                  <p:nvPr/>
                </p:nvGrpSpPr>
                <p:grpSpPr>
                  <a:xfrm>
                    <a:off x="8064360" y="3225960"/>
                    <a:ext cx="163800" cy="28440"/>
                    <a:chOff x="8064360" y="3225960"/>
                    <a:chExt cx="163800" cy="28440"/>
                  </a:xfrm>
                </p:grpSpPr>
                <p:sp>
                  <p:nvSpPr>
                    <p:cNvPr id="1314" name=""/>
                    <p:cNvSpPr/>
                    <p:nvPr/>
                  </p:nvSpPr>
                  <p:spPr>
                    <a:xfrm>
                      <a:off x="8105760" y="3230640"/>
                      <a:ext cx="349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6">
                          <a:moveTo>
                            <a:pt x="2" y="0"/>
                          </a:moveTo>
                          <a:lnTo>
                            <a:pt x="67" y="14"/>
                          </a:lnTo>
                          <a:lnTo>
                            <a:pt x="67" y="56"/>
                          </a:lnTo>
                          <a:lnTo>
                            <a:pt x="0" y="43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8148600" y="3233880"/>
                      <a:ext cx="3672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6">
                          <a:moveTo>
                            <a:pt x="0" y="0"/>
                          </a:moveTo>
                          <a:lnTo>
                            <a:pt x="67" y="14"/>
                          </a:lnTo>
                          <a:lnTo>
                            <a:pt x="67" y="56"/>
                          </a:lnTo>
                          <a:lnTo>
                            <a:pt x="0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8193240" y="3238560"/>
                      <a:ext cx="3492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6">
                          <a:moveTo>
                            <a:pt x="0" y="0"/>
                          </a:moveTo>
                          <a:lnTo>
                            <a:pt x="67" y="16"/>
                          </a:lnTo>
                          <a:lnTo>
                            <a:pt x="67" y="56"/>
                          </a:lnTo>
                          <a:lnTo>
                            <a:pt x="0" y="4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8064360" y="3225960"/>
                      <a:ext cx="349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6">
                          <a:moveTo>
                            <a:pt x="0" y="0"/>
                          </a:moveTo>
                          <a:lnTo>
                            <a:pt x="66" y="13"/>
                          </a:lnTo>
                          <a:lnTo>
                            <a:pt x="66" y="56"/>
                          </a:lnTo>
                          <a:lnTo>
                            <a:pt x="0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18" name=""/>
            <p:cNvGrpSpPr/>
            <p:nvPr/>
          </p:nvGrpSpPr>
          <p:grpSpPr>
            <a:xfrm>
              <a:off x="8286840" y="3174840"/>
              <a:ext cx="271440" cy="360360"/>
              <a:chOff x="8286840" y="3174840"/>
              <a:chExt cx="271440" cy="360360"/>
            </a:xfrm>
          </p:grpSpPr>
          <p:grpSp>
            <p:nvGrpSpPr>
              <p:cNvPr id="1319" name=""/>
              <p:cNvGrpSpPr/>
              <p:nvPr/>
            </p:nvGrpSpPr>
            <p:grpSpPr>
              <a:xfrm>
                <a:off x="8286840" y="3174840"/>
                <a:ext cx="271440" cy="360360"/>
                <a:chOff x="8286840" y="3174840"/>
                <a:chExt cx="271440" cy="3603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8335800" y="3187800"/>
                  <a:ext cx="160560" cy="30240"/>
                </a:xfrm>
                <a:custGeom>
                  <a:avLst/>
                  <a:gdLst/>
                  <a:ahLst/>
                  <a:rect l="l" t="t" r="r" b="b"/>
                  <a:pathLst>
                    <a:path w="302" h="117">
                      <a:moveTo>
                        <a:pt x="0" y="92"/>
                      </a:moveTo>
                      <a:lnTo>
                        <a:pt x="186" y="117"/>
                      </a:lnTo>
                      <a:lnTo>
                        <a:pt x="302" y="17"/>
                      </a:lnTo>
                      <a:lnTo>
                        <a:pt x="127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8362800" y="3174840"/>
                  <a:ext cx="111240" cy="38160"/>
                  <a:chOff x="8362800" y="3174840"/>
                  <a:chExt cx="111240" cy="3816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8362800" y="3189240"/>
                    <a:ext cx="66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86">
                        <a:moveTo>
                          <a:pt x="1" y="0"/>
                        </a:moveTo>
                        <a:lnTo>
                          <a:pt x="127" y="13"/>
                        </a:lnTo>
                        <a:lnTo>
                          <a:pt x="127" y="86"/>
                        </a:lnTo>
                        <a:lnTo>
                          <a:pt x="0" y="6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8429760" y="3178080"/>
                    <a:ext cx="442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30">
                        <a:moveTo>
                          <a:pt x="0" y="60"/>
                        </a:moveTo>
                        <a:lnTo>
                          <a:pt x="0" y="130"/>
                        </a:lnTo>
                        <a:lnTo>
                          <a:pt x="84" y="60"/>
                        </a:lnTo>
                        <a:lnTo>
                          <a:pt x="84" y="0"/>
                        </a:lnTo>
                        <a:lnTo>
                          <a:pt x="0" y="6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8362800" y="3174840"/>
                    <a:ext cx="111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70">
                        <a:moveTo>
                          <a:pt x="0" y="56"/>
                        </a:moveTo>
                        <a:lnTo>
                          <a:pt x="126" y="70"/>
                        </a:lnTo>
                        <a:lnTo>
                          <a:pt x="210" y="12"/>
                        </a:lnTo>
                        <a:lnTo>
                          <a:pt x="85" y="0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5" name=""/>
                <p:cNvSpPr/>
                <p:nvPr/>
              </p:nvSpPr>
              <p:spPr>
                <a:xfrm>
                  <a:off x="8337600" y="3211560"/>
                  <a:ext cx="96840" cy="123840"/>
                </a:xfrm>
                <a:custGeom>
                  <a:avLst/>
                  <a:gdLst/>
                  <a:ahLst/>
                  <a:rect l="l" t="t" r="r" b="b"/>
                  <a:pathLst>
                    <a:path w="184" h="471">
                      <a:moveTo>
                        <a:pt x="0" y="0"/>
                      </a:moveTo>
                      <a:lnTo>
                        <a:pt x="184" y="24"/>
                      </a:lnTo>
                      <a:lnTo>
                        <a:pt x="184" y="471"/>
                      </a:lnTo>
                      <a:lnTo>
                        <a:pt x="0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8434440" y="3191040"/>
                  <a:ext cx="61920" cy="144360"/>
                </a:xfrm>
                <a:custGeom>
                  <a:avLst/>
                  <a:gdLst/>
                  <a:ahLst/>
                  <a:rect l="l" t="t" r="r" b="b"/>
                  <a:pathLst>
                    <a:path w="116" h="545">
                      <a:moveTo>
                        <a:pt x="0" y="99"/>
                      </a:moveTo>
                      <a:lnTo>
                        <a:pt x="116" y="0"/>
                      </a:lnTo>
                      <a:lnTo>
                        <a:pt x="116" y="417"/>
                      </a:lnTo>
                      <a:lnTo>
                        <a:pt x="0" y="545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432640" y="3301920"/>
                  <a:ext cx="125640" cy="103320"/>
                </a:xfrm>
                <a:custGeom>
                  <a:avLst/>
                  <a:gdLst/>
                  <a:ahLst/>
                  <a:rect l="l" t="t" r="r" b="b"/>
                  <a:pathLst>
                    <a:path w="236" h="389">
                      <a:moveTo>
                        <a:pt x="118" y="0"/>
                      </a:moveTo>
                      <a:lnTo>
                        <a:pt x="0" y="127"/>
                      </a:lnTo>
                      <a:lnTo>
                        <a:pt x="44" y="389"/>
                      </a:lnTo>
                      <a:lnTo>
                        <a:pt x="236" y="144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8286840" y="3324240"/>
                  <a:ext cx="169920" cy="81000"/>
                </a:xfrm>
                <a:custGeom>
                  <a:avLst/>
                  <a:gdLst/>
                  <a:ahLst/>
                  <a:rect l="l" t="t" r="r" b="b"/>
                  <a:pathLst>
                    <a:path w="321" h="308">
                      <a:moveTo>
                        <a:pt x="92" y="0"/>
                      </a:moveTo>
                      <a:lnTo>
                        <a:pt x="278" y="46"/>
                      </a:lnTo>
                      <a:lnTo>
                        <a:pt x="321" y="308"/>
                      </a:lnTo>
                      <a:lnTo>
                        <a:pt x="0" y="222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8454960" y="3340080"/>
                  <a:ext cx="103320" cy="195120"/>
                </a:xfrm>
                <a:custGeom>
                  <a:avLst/>
                  <a:gdLst/>
                  <a:ahLst/>
                  <a:rect l="l" t="t" r="r" b="b"/>
                  <a:pathLst>
                    <a:path w="193" h="739">
                      <a:moveTo>
                        <a:pt x="1" y="245"/>
                      </a:moveTo>
                      <a:lnTo>
                        <a:pt x="193" y="0"/>
                      </a:lnTo>
                      <a:lnTo>
                        <a:pt x="193" y="401"/>
                      </a:lnTo>
                      <a:lnTo>
                        <a:pt x="0" y="739"/>
                      </a:lnTo>
                      <a:lnTo>
                        <a:pt x="1" y="245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8286840" y="3381480"/>
                  <a:ext cx="169920" cy="153720"/>
                </a:xfrm>
                <a:custGeom>
                  <a:avLst/>
                  <a:gdLst/>
                  <a:ahLst/>
                  <a:rect l="l" t="t" r="r" b="b"/>
                  <a:pathLst>
                    <a:path w="320" h="579">
                      <a:moveTo>
                        <a:pt x="0" y="0"/>
                      </a:moveTo>
                      <a:lnTo>
                        <a:pt x="320" y="85"/>
                      </a:lnTo>
                      <a:lnTo>
                        <a:pt x="320" y="579"/>
                      </a:lnTo>
                      <a:lnTo>
                        <a:pt x="0" y="4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8346960" y="3218040"/>
                <a:ext cx="73080" cy="79200"/>
                <a:chOff x="8346960" y="3218040"/>
                <a:chExt cx="73080" cy="79200"/>
              </a:xfrm>
            </p:grpSpPr>
            <p:grpSp>
              <p:nvGrpSpPr>
                <p:cNvPr id="1332" name=""/>
                <p:cNvGrpSpPr/>
                <p:nvPr/>
              </p:nvGrpSpPr>
              <p:grpSpPr>
                <a:xfrm>
                  <a:off x="8346960" y="3218040"/>
                  <a:ext cx="73080" cy="25200"/>
                  <a:chOff x="8346960" y="3218040"/>
                  <a:chExt cx="73080" cy="25200"/>
                </a:xfrm>
              </p:grpSpPr>
              <p:sp>
                <p:nvSpPr>
                  <p:cNvPr id="1333" name=""/>
                  <p:cNvSpPr/>
                  <p:nvPr/>
                </p:nvSpPr>
                <p:spPr>
                  <a:xfrm>
                    <a:off x="8346960" y="3218040"/>
                    <a:ext cx="15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2">
                        <a:moveTo>
                          <a:pt x="0" y="0"/>
                        </a:moveTo>
                        <a:lnTo>
                          <a:pt x="30" y="3"/>
                        </a:lnTo>
                        <a:lnTo>
                          <a:pt x="30" y="82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8375760" y="321948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6">
                        <a:moveTo>
                          <a:pt x="0" y="0"/>
                        </a:moveTo>
                        <a:lnTo>
                          <a:pt x="30" y="4"/>
                        </a:lnTo>
                        <a:lnTo>
                          <a:pt x="30" y="86"/>
                        </a:lnTo>
                        <a:lnTo>
                          <a:pt x="0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8404200" y="322092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4">
                        <a:moveTo>
                          <a:pt x="0" y="0"/>
                        </a:moveTo>
                        <a:lnTo>
                          <a:pt x="29" y="4"/>
                        </a:lnTo>
                        <a:lnTo>
                          <a:pt x="29" y="84"/>
                        </a:lnTo>
                        <a:lnTo>
                          <a:pt x="0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8346960" y="3243240"/>
                  <a:ext cx="73080" cy="28440"/>
                  <a:chOff x="8346960" y="3243240"/>
                  <a:chExt cx="73080" cy="2844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8346960" y="324324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5">
                        <a:moveTo>
                          <a:pt x="0" y="0"/>
                        </a:moveTo>
                        <a:lnTo>
                          <a:pt x="30" y="6"/>
                        </a:lnTo>
                        <a:lnTo>
                          <a:pt x="30" y="85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8375760" y="324648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5">
                        <a:moveTo>
                          <a:pt x="0" y="0"/>
                        </a:moveTo>
                        <a:lnTo>
                          <a:pt x="30" y="6"/>
                        </a:lnTo>
                        <a:lnTo>
                          <a:pt x="30" y="85"/>
                        </a:lnTo>
                        <a:lnTo>
                          <a:pt x="0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8404200" y="3247920"/>
                    <a:ext cx="15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5">
                        <a:moveTo>
                          <a:pt x="0" y="0"/>
                        </a:moveTo>
                        <a:lnTo>
                          <a:pt x="29" y="6"/>
                        </a:lnTo>
                        <a:lnTo>
                          <a:pt x="29" y="85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0" name=""/>
                <p:cNvGrpSpPr/>
                <p:nvPr/>
              </p:nvGrpSpPr>
              <p:grpSpPr>
                <a:xfrm>
                  <a:off x="8346960" y="3268800"/>
                  <a:ext cx="73080" cy="28440"/>
                  <a:chOff x="8346960" y="3268800"/>
                  <a:chExt cx="73080" cy="28440"/>
                </a:xfrm>
              </p:grpSpPr>
              <p:sp>
                <p:nvSpPr>
                  <p:cNvPr id="1341" name=""/>
                  <p:cNvSpPr/>
                  <p:nvPr/>
                </p:nvSpPr>
                <p:spPr>
                  <a:xfrm>
                    <a:off x="8346960" y="3268800"/>
                    <a:ext cx="158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7">
                        <a:moveTo>
                          <a:pt x="0" y="0"/>
                        </a:moveTo>
                        <a:lnTo>
                          <a:pt x="30" y="8"/>
                        </a:lnTo>
                        <a:lnTo>
                          <a:pt x="30" y="87"/>
                        </a:lnTo>
                        <a:lnTo>
                          <a:pt x="0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8375760" y="327168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6">
                        <a:moveTo>
                          <a:pt x="0" y="0"/>
                        </a:moveTo>
                        <a:lnTo>
                          <a:pt x="30" y="6"/>
                        </a:lnTo>
                        <a:lnTo>
                          <a:pt x="30" y="86"/>
                        </a:lnTo>
                        <a:lnTo>
                          <a:pt x="0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8404200" y="327492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6">
                        <a:moveTo>
                          <a:pt x="0" y="0"/>
                        </a:moveTo>
                        <a:lnTo>
                          <a:pt x="29" y="7"/>
                        </a:lnTo>
                        <a:lnTo>
                          <a:pt x="29" y="86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44" name=""/>
            <p:cNvGrpSpPr/>
            <p:nvPr/>
          </p:nvGrpSpPr>
          <p:grpSpPr>
            <a:xfrm>
              <a:off x="7567560" y="3098880"/>
              <a:ext cx="406440" cy="439560"/>
              <a:chOff x="7567560" y="3098880"/>
              <a:chExt cx="406440" cy="439560"/>
            </a:xfrm>
          </p:grpSpPr>
          <p:sp>
            <p:nvSpPr>
              <p:cNvPr id="1345" name=""/>
              <p:cNvSpPr/>
              <p:nvPr/>
            </p:nvSpPr>
            <p:spPr>
              <a:xfrm>
                <a:off x="7567560" y="3124080"/>
                <a:ext cx="405000" cy="49320"/>
              </a:xfrm>
              <a:custGeom>
                <a:avLst/>
                <a:gdLst/>
                <a:ahLst/>
                <a:rect l="l" t="t" r="r" b="b"/>
                <a:pathLst>
                  <a:path w="766" h="183">
                    <a:moveTo>
                      <a:pt x="0" y="108"/>
                    </a:moveTo>
                    <a:lnTo>
                      <a:pt x="437" y="183"/>
                    </a:lnTo>
                    <a:lnTo>
                      <a:pt x="766" y="53"/>
                    </a:lnTo>
                    <a:lnTo>
                      <a:pt x="365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567560" y="3152880"/>
                <a:ext cx="231840" cy="385560"/>
              </a:xfrm>
              <a:custGeom>
                <a:avLst/>
                <a:gdLst/>
                <a:ahLst/>
                <a:rect l="l" t="t" r="r" b="b"/>
                <a:pathLst>
                  <a:path w="437" h="1459">
                    <a:moveTo>
                      <a:pt x="0" y="0"/>
                    </a:moveTo>
                    <a:lnTo>
                      <a:pt x="437" y="76"/>
                    </a:lnTo>
                    <a:lnTo>
                      <a:pt x="437" y="1459"/>
                    </a:lnTo>
                    <a:lnTo>
                      <a:pt x="345" y="1428"/>
                    </a:lnTo>
                    <a:lnTo>
                      <a:pt x="346" y="1253"/>
                    </a:lnTo>
                    <a:lnTo>
                      <a:pt x="222" y="1203"/>
                    </a:lnTo>
                    <a:lnTo>
                      <a:pt x="222" y="1359"/>
                    </a:lnTo>
                    <a:lnTo>
                      <a:pt x="153" y="1327"/>
                    </a:lnTo>
                    <a:lnTo>
                      <a:pt x="153" y="1171"/>
                    </a:lnTo>
                    <a:lnTo>
                      <a:pt x="55" y="1125"/>
                    </a:lnTo>
                    <a:lnTo>
                      <a:pt x="55" y="1283"/>
                    </a:lnTo>
                    <a:lnTo>
                      <a:pt x="0" y="12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7" name=""/>
              <p:cNvGrpSpPr/>
              <p:nvPr/>
            </p:nvGrpSpPr>
            <p:grpSpPr>
              <a:xfrm>
                <a:off x="7575480" y="3098880"/>
                <a:ext cx="398520" cy="439560"/>
                <a:chOff x="7575480" y="3098880"/>
                <a:chExt cx="398520" cy="4395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7799400" y="3138480"/>
                  <a:ext cx="174600" cy="399960"/>
                </a:xfrm>
                <a:custGeom>
                  <a:avLst/>
                  <a:gdLst/>
                  <a:ahLst/>
                  <a:rect l="l" t="t" r="r" b="b"/>
                  <a:pathLst>
                    <a:path w="330" h="1514">
                      <a:moveTo>
                        <a:pt x="0" y="128"/>
                      </a:moveTo>
                      <a:lnTo>
                        <a:pt x="326" y="0"/>
                      </a:lnTo>
                      <a:lnTo>
                        <a:pt x="330" y="1171"/>
                      </a:lnTo>
                      <a:lnTo>
                        <a:pt x="0" y="1514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9" name=""/>
                <p:cNvGrpSpPr/>
                <p:nvPr/>
              </p:nvGrpSpPr>
              <p:grpSpPr>
                <a:xfrm>
                  <a:off x="7684920" y="3470400"/>
                  <a:ext cx="68400" cy="41040"/>
                  <a:chOff x="7684920" y="3470400"/>
                  <a:chExt cx="68400" cy="41040"/>
                </a:xfrm>
              </p:grpSpPr>
              <p:sp>
                <p:nvSpPr>
                  <p:cNvPr id="1350" name=""/>
                  <p:cNvSpPr/>
                  <p:nvPr/>
                </p:nvSpPr>
                <p:spPr>
                  <a:xfrm>
                    <a:off x="7723080" y="347832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14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57" y="114"/>
                        </a:lnTo>
                        <a:lnTo>
                          <a:pt x="57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7684920" y="347040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62">
                        <a:moveTo>
                          <a:pt x="0" y="0"/>
                        </a:moveTo>
                        <a:lnTo>
                          <a:pt x="0" y="162"/>
                        </a:lnTo>
                        <a:lnTo>
                          <a:pt x="74" y="116"/>
                        </a:lnTo>
                        <a:lnTo>
                          <a:pt x="74" y="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2" name=""/>
                <p:cNvGrpSpPr/>
                <p:nvPr/>
              </p:nvGrpSpPr>
              <p:grpSpPr>
                <a:xfrm>
                  <a:off x="7596360" y="3449520"/>
                  <a:ext cx="68040" cy="42840"/>
                  <a:chOff x="7596360" y="3449520"/>
                  <a:chExt cx="68040" cy="42840"/>
                </a:xfrm>
              </p:grpSpPr>
              <p:sp>
                <p:nvSpPr>
                  <p:cNvPr id="1353" name=""/>
                  <p:cNvSpPr/>
                  <p:nvPr/>
                </p:nvSpPr>
                <p:spPr>
                  <a:xfrm>
                    <a:off x="7634160" y="345744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14">
                        <a:moveTo>
                          <a:pt x="0" y="0"/>
                        </a:moveTo>
                        <a:lnTo>
                          <a:pt x="0" y="88"/>
                        </a:lnTo>
                        <a:lnTo>
                          <a:pt x="57" y="114"/>
                        </a:lnTo>
                        <a:lnTo>
                          <a:pt x="57" y="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7596360" y="3449520"/>
                    <a:ext cx="37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64">
                        <a:moveTo>
                          <a:pt x="0" y="0"/>
                        </a:moveTo>
                        <a:lnTo>
                          <a:pt x="0" y="164"/>
                        </a:lnTo>
                        <a:lnTo>
                          <a:pt x="73" y="118"/>
                        </a:lnTo>
                        <a:lnTo>
                          <a:pt x="73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5" name=""/>
                <p:cNvGrpSpPr/>
                <p:nvPr/>
              </p:nvGrpSpPr>
              <p:grpSpPr>
                <a:xfrm>
                  <a:off x="7575480" y="3162240"/>
                  <a:ext cx="208080" cy="304920"/>
                  <a:chOff x="7575480" y="3162240"/>
                  <a:chExt cx="208080" cy="30492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>
                    <a:off x="7583400" y="3162240"/>
                    <a:ext cx="18900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1152">
                        <a:moveTo>
                          <a:pt x="0" y="0"/>
                        </a:moveTo>
                        <a:lnTo>
                          <a:pt x="358" y="62"/>
                        </a:lnTo>
                        <a:lnTo>
                          <a:pt x="358" y="1152"/>
                        </a:lnTo>
                        <a:lnTo>
                          <a:pt x="3" y="9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7" name=""/>
                  <p:cNvGrpSpPr/>
                  <p:nvPr/>
                </p:nvGrpSpPr>
                <p:grpSpPr>
                  <a:xfrm>
                    <a:off x="7575480" y="3162240"/>
                    <a:ext cx="208080" cy="298440"/>
                    <a:chOff x="7575480" y="3162240"/>
                    <a:chExt cx="208080" cy="298440"/>
                  </a:xfrm>
                </p:grpSpPr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7577280" y="3390840"/>
                      <a:ext cx="206280" cy="3672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>
                      <a:off x="7575480" y="3352680"/>
                      <a:ext cx="206280" cy="3024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7580160" y="3313080"/>
                      <a:ext cx="201600" cy="2700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>
                      <a:off x="7578720" y="3271680"/>
                      <a:ext cx="201600" cy="2556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2" name=""/>
                    <p:cNvSpPr/>
                    <p:nvPr/>
                  </p:nvSpPr>
                  <p:spPr>
                    <a:xfrm>
                      <a:off x="7581960" y="3232080"/>
                      <a:ext cx="198360" cy="2088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>
                      <a:off x="7575480" y="3195720"/>
                      <a:ext cx="203400" cy="1908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4" name=""/>
                    <p:cNvSpPr/>
                    <p:nvPr/>
                  </p:nvSpPr>
                  <p:spPr>
                    <a:xfrm>
                      <a:off x="7623000" y="3162240"/>
                      <a:ext cx="1800" cy="27792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5" name=""/>
                    <p:cNvSpPr/>
                    <p:nvPr/>
                  </p:nvSpPr>
                  <p:spPr>
                    <a:xfrm>
                      <a:off x="7670880" y="3166920"/>
                      <a:ext cx="1440" cy="28440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>
                      <a:off x="7721640" y="3170160"/>
                      <a:ext cx="1440" cy="29052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67" name=""/>
                <p:cNvGrpSpPr/>
                <p:nvPr/>
              </p:nvGrpSpPr>
              <p:grpSpPr>
                <a:xfrm>
                  <a:off x="7653240" y="3098880"/>
                  <a:ext cx="243000" cy="61920"/>
                  <a:chOff x="7653240" y="3098880"/>
                  <a:chExt cx="243000" cy="61920"/>
                </a:xfrm>
              </p:grpSpPr>
              <p:grpSp>
                <p:nvGrpSpPr>
                  <p:cNvPr id="1368" name=""/>
                  <p:cNvGrpSpPr/>
                  <p:nvPr/>
                </p:nvGrpSpPr>
                <p:grpSpPr>
                  <a:xfrm>
                    <a:off x="7653240" y="3098880"/>
                    <a:ext cx="243000" cy="61920"/>
                    <a:chOff x="7653240" y="3098880"/>
                    <a:chExt cx="243000" cy="61920"/>
                  </a:xfrm>
                </p:grpSpPr>
                <p:sp>
                  <p:nvSpPr>
                    <p:cNvPr id="1369" name=""/>
                    <p:cNvSpPr/>
                    <p:nvPr/>
                  </p:nvSpPr>
                  <p:spPr>
                    <a:xfrm>
                      <a:off x="7653240" y="3098880"/>
                      <a:ext cx="2430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8" h="93">
                          <a:moveTo>
                            <a:pt x="0" y="60"/>
                          </a:moveTo>
                          <a:lnTo>
                            <a:pt x="267" y="93"/>
                          </a:lnTo>
                          <a:lnTo>
                            <a:pt x="458" y="31"/>
                          </a:lnTo>
                          <a:lnTo>
                            <a:pt x="199" y="0"/>
                          </a:lnTo>
                          <a:lnTo>
                            <a:pt x="0" y="60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0" name=""/>
                    <p:cNvSpPr/>
                    <p:nvPr/>
                  </p:nvSpPr>
                  <p:spPr>
                    <a:xfrm>
                      <a:off x="7794720" y="3106800"/>
                      <a:ext cx="100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204">
                          <a:moveTo>
                            <a:pt x="0" y="62"/>
                          </a:moveTo>
                          <a:lnTo>
                            <a:pt x="189" y="0"/>
                          </a:lnTo>
                          <a:lnTo>
                            <a:pt x="189" y="129"/>
                          </a:lnTo>
                          <a:lnTo>
                            <a:pt x="0" y="204"/>
                          </a:lnTo>
                          <a:lnTo>
                            <a:pt x="0" y="62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1" name=""/>
                    <p:cNvSpPr/>
                    <p:nvPr/>
                  </p:nvSpPr>
                  <p:spPr>
                    <a:xfrm>
                      <a:off x="7653240" y="3114720"/>
                      <a:ext cx="1414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175">
                          <a:moveTo>
                            <a:pt x="266" y="33"/>
                          </a:moveTo>
                          <a:lnTo>
                            <a:pt x="266" y="175"/>
                          </a:lnTo>
                          <a:lnTo>
                            <a:pt x="0" y="135"/>
                          </a:lnTo>
                          <a:lnTo>
                            <a:pt x="0" y="0"/>
                          </a:lnTo>
                          <a:lnTo>
                            <a:pt x="266" y="33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2" name=""/>
                  <p:cNvSpPr/>
                  <p:nvPr/>
                </p:nvSpPr>
                <p:spPr>
                  <a:xfrm>
                    <a:off x="7672320" y="3122640"/>
                    <a:ext cx="81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41">
                        <a:moveTo>
                          <a:pt x="1" y="0"/>
                        </a:moveTo>
                        <a:lnTo>
                          <a:pt x="153" y="16"/>
                        </a:lnTo>
                        <a:lnTo>
                          <a:pt x="153" y="41"/>
                        </a:lnTo>
                        <a:lnTo>
                          <a:pt x="0" y="2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73" name=""/>
            <p:cNvGrpSpPr/>
            <p:nvPr/>
          </p:nvGrpSpPr>
          <p:grpSpPr>
            <a:xfrm>
              <a:off x="7832880" y="3238560"/>
              <a:ext cx="387360" cy="352440"/>
              <a:chOff x="7832880" y="3238560"/>
              <a:chExt cx="387360" cy="352440"/>
            </a:xfrm>
          </p:grpSpPr>
          <p:grpSp>
            <p:nvGrpSpPr>
              <p:cNvPr id="1374" name=""/>
              <p:cNvGrpSpPr/>
              <p:nvPr/>
            </p:nvGrpSpPr>
            <p:grpSpPr>
              <a:xfrm>
                <a:off x="7832880" y="3238560"/>
                <a:ext cx="387360" cy="352440"/>
                <a:chOff x="7832880" y="3238560"/>
                <a:chExt cx="387360" cy="35244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7832880" y="3243240"/>
                  <a:ext cx="387360" cy="96840"/>
                </a:xfrm>
                <a:custGeom>
                  <a:avLst/>
                  <a:gdLst/>
                  <a:ahLst/>
                  <a:rect l="l" t="t" r="r" b="b"/>
                  <a:pathLst>
                    <a:path w="732" h="363">
                      <a:moveTo>
                        <a:pt x="0" y="266"/>
                      </a:moveTo>
                      <a:lnTo>
                        <a:pt x="354" y="363"/>
                      </a:lnTo>
                      <a:lnTo>
                        <a:pt x="732" y="67"/>
                      </a:lnTo>
                      <a:lnTo>
                        <a:pt x="426" y="0"/>
                      </a:lnTo>
                      <a:lnTo>
                        <a:pt x="0" y="266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832880" y="3314880"/>
                  <a:ext cx="187200" cy="276120"/>
                </a:xfrm>
                <a:custGeom>
                  <a:avLst/>
                  <a:gdLst/>
                  <a:ahLst/>
                  <a:rect l="l" t="t" r="r" b="b"/>
                  <a:pathLst>
                    <a:path w="354" h="1048">
                      <a:moveTo>
                        <a:pt x="0" y="0"/>
                      </a:moveTo>
                      <a:lnTo>
                        <a:pt x="354" y="95"/>
                      </a:lnTo>
                      <a:lnTo>
                        <a:pt x="354" y="1048"/>
                      </a:lnTo>
                      <a:lnTo>
                        <a:pt x="0" y="8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8020080" y="3260880"/>
                  <a:ext cx="200160" cy="330120"/>
                </a:xfrm>
                <a:custGeom>
                  <a:avLst/>
                  <a:gdLst/>
                  <a:ahLst/>
                  <a:rect l="l" t="t" r="r" b="b"/>
                  <a:pathLst>
                    <a:path w="378" h="1247">
                      <a:moveTo>
                        <a:pt x="0" y="296"/>
                      </a:moveTo>
                      <a:lnTo>
                        <a:pt x="0" y="1247"/>
                      </a:lnTo>
                      <a:lnTo>
                        <a:pt x="378" y="795"/>
                      </a:lnTo>
                      <a:lnTo>
                        <a:pt x="378" y="0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8" name=""/>
                <p:cNvGrpSpPr/>
                <p:nvPr/>
              </p:nvGrpSpPr>
              <p:grpSpPr>
                <a:xfrm>
                  <a:off x="7880400" y="3238560"/>
                  <a:ext cx="295200" cy="87120"/>
                  <a:chOff x="7880400" y="3238560"/>
                  <a:chExt cx="295200" cy="87120"/>
                </a:xfrm>
              </p:grpSpPr>
              <p:sp>
                <p:nvSpPr>
                  <p:cNvPr id="1379" name=""/>
                  <p:cNvSpPr/>
                  <p:nvPr/>
                </p:nvSpPr>
                <p:spPr>
                  <a:xfrm>
                    <a:off x="7880400" y="3238560"/>
                    <a:ext cx="2952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8" h="272">
                        <a:moveTo>
                          <a:pt x="0" y="204"/>
                        </a:moveTo>
                        <a:lnTo>
                          <a:pt x="254" y="272"/>
                        </a:lnTo>
                        <a:lnTo>
                          <a:pt x="558" y="45"/>
                        </a:lnTo>
                        <a:lnTo>
                          <a:pt x="333" y="0"/>
                        </a:lnTo>
                        <a:lnTo>
                          <a:pt x="0" y="204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8015400" y="3249720"/>
                    <a:ext cx="1602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285">
                        <a:moveTo>
                          <a:pt x="0" y="226"/>
                        </a:moveTo>
                        <a:lnTo>
                          <a:pt x="305" y="0"/>
                        </a:lnTo>
                        <a:lnTo>
                          <a:pt x="305" y="54"/>
                        </a:lnTo>
                        <a:lnTo>
                          <a:pt x="0" y="285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7880400" y="3292560"/>
                    <a:ext cx="1350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26">
                        <a:moveTo>
                          <a:pt x="253" y="67"/>
                        </a:moveTo>
                        <a:lnTo>
                          <a:pt x="253" y="126"/>
                        </a:lnTo>
                        <a:lnTo>
                          <a:pt x="0" y="56"/>
                        </a:lnTo>
                        <a:lnTo>
                          <a:pt x="0" y="0"/>
                        </a:lnTo>
                        <a:lnTo>
                          <a:pt x="253" y="67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2" name=""/>
              <p:cNvGrpSpPr/>
              <p:nvPr/>
            </p:nvGrpSpPr>
            <p:grpSpPr>
              <a:xfrm>
                <a:off x="7842240" y="3322800"/>
                <a:ext cx="166680" cy="257040"/>
                <a:chOff x="7842240" y="3322800"/>
                <a:chExt cx="166680" cy="25704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7842240" y="3322800"/>
                  <a:ext cx="166680" cy="257040"/>
                </a:xfrm>
                <a:custGeom>
                  <a:avLst/>
                  <a:gdLst/>
                  <a:ahLst/>
                  <a:rect l="l" t="t" r="r" b="b"/>
                  <a:pathLst>
                    <a:path w="317" h="970">
                      <a:moveTo>
                        <a:pt x="0" y="0"/>
                      </a:moveTo>
                      <a:lnTo>
                        <a:pt x="317" y="87"/>
                      </a:lnTo>
                      <a:lnTo>
                        <a:pt x="317" y="970"/>
                      </a:lnTo>
                      <a:lnTo>
                        <a:pt x="0" y="8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7866000" y="3325680"/>
                  <a:ext cx="17640" cy="227160"/>
                </a:xfrm>
                <a:custGeom>
                  <a:avLst/>
                  <a:gdLst/>
                  <a:ahLst/>
                  <a:rect l="l" t="t" r="r" b="b"/>
                  <a:pathLst>
                    <a:path w="33" h="858">
                      <a:moveTo>
                        <a:pt x="1" y="0"/>
                      </a:moveTo>
                      <a:lnTo>
                        <a:pt x="0" y="845"/>
                      </a:lnTo>
                      <a:lnTo>
                        <a:pt x="32" y="858"/>
                      </a:lnTo>
                      <a:lnTo>
                        <a:pt x="33" y="9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912080" y="3330720"/>
                  <a:ext cx="19080" cy="231480"/>
                </a:xfrm>
                <a:custGeom>
                  <a:avLst/>
                  <a:gdLst/>
                  <a:ahLst/>
                  <a:rect l="l" t="t" r="r" b="b"/>
                  <a:pathLst>
                    <a:path w="36" h="876">
                      <a:moveTo>
                        <a:pt x="0" y="0"/>
                      </a:moveTo>
                      <a:lnTo>
                        <a:pt x="0" y="860"/>
                      </a:lnTo>
                      <a:lnTo>
                        <a:pt x="34" y="876"/>
                      </a:lnTo>
                      <a:lnTo>
                        <a:pt x="3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7961400" y="3338640"/>
                  <a:ext cx="19080" cy="233280"/>
                </a:xfrm>
                <a:custGeom>
                  <a:avLst/>
                  <a:gdLst/>
                  <a:ahLst/>
                  <a:rect l="l" t="t" r="r" b="b"/>
                  <a:pathLst>
                    <a:path w="37" h="883">
                      <a:moveTo>
                        <a:pt x="1" y="0"/>
                      </a:moveTo>
                      <a:lnTo>
                        <a:pt x="0" y="864"/>
                      </a:lnTo>
                      <a:lnTo>
                        <a:pt x="37" y="883"/>
                      </a:lnTo>
                      <a:lnTo>
                        <a:pt x="35" y="8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7" name=""/>
            <p:cNvGrpSpPr/>
            <p:nvPr/>
          </p:nvGrpSpPr>
          <p:grpSpPr>
            <a:xfrm>
              <a:off x="8101080" y="3255840"/>
              <a:ext cx="360360" cy="411120"/>
              <a:chOff x="8101080" y="3255840"/>
              <a:chExt cx="360360" cy="411120"/>
            </a:xfrm>
          </p:grpSpPr>
          <p:grpSp>
            <p:nvGrpSpPr>
              <p:cNvPr id="1388" name=""/>
              <p:cNvGrpSpPr/>
              <p:nvPr/>
            </p:nvGrpSpPr>
            <p:grpSpPr>
              <a:xfrm>
                <a:off x="8101080" y="3255840"/>
                <a:ext cx="360360" cy="411120"/>
                <a:chOff x="8101080" y="3255840"/>
                <a:chExt cx="360360" cy="411120"/>
              </a:xfrm>
            </p:grpSpPr>
            <p:grpSp>
              <p:nvGrpSpPr>
                <p:cNvPr id="1389" name=""/>
                <p:cNvGrpSpPr/>
                <p:nvPr/>
              </p:nvGrpSpPr>
              <p:grpSpPr>
                <a:xfrm>
                  <a:off x="8142120" y="3565440"/>
                  <a:ext cx="279720" cy="101520"/>
                  <a:chOff x="8142120" y="3565440"/>
                  <a:chExt cx="279720" cy="101520"/>
                </a:xfrm>
              </p:grpSpPr>
              <p:sp>
                <p:nvSpPr>
                  <p:cNvPr id="1390" name=""/>
                  <p:cNvSpPr/>
                  <p:nvPr/>
                </p:nvSpPr>
                <p:spPr>
                  <a:xfrm>
                    <a:off x="8142120" y="3603600"/>
                    <a:ext cx="1796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238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338" y="238"/>
                        </a:lnTo>
                        <a:lnTo>
                          <a:pt x="338" y="1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8321760" y="3565440"/>
                    <a:ext cx="1000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383">
                        <a:moveTo>
                          <a:pt x="0" y="308"/>
                        </a:moveTo>
                        <a:lnTo>
                          <a:pt x="0" y="383"/>
                        </a:lnTo>
                        <a:lnTo>
                          <a:pt x="190" y="60"/>
                        </a:lnTo>
                        <a:lnTo>
                          <a:pt x="190" y="0"/>
                        </a:lnTo>
                        <a:lnTo>
                          <a:pt x="0" y="308"/>
                        </a:lnTo>
                        <a:close/>
                      </a:path>
                    </a:pathLst>
                  </a:custGeom>
                  <a:solidFill>
                    <a:srgbClr val="001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8101080" y="3497400"/>
                  <a:ext cx="360360" cy="156960"/>
                </a:xfrm>
                <a:custGeom>
                  <a:avLst/>
                  <a:gdLst/>
                  <a:ahLst/>
                  <a:rect l="l" t="t" r="r" b="b"/>
                  <a:pathLst>
                    <a:path w="680" h="589">
                      <a:moveTo>
                        <a:pt x="0" y="370"/>
                      </a:moveTo>
                      <a:lnTo>
                        <a:pt x="452" y="589"/>
                      </a:lnTo>
                      <a:lnTo>
                        <a:pt x="680" y="199"/>
                      </a:lnTo>
                      <a:lnTo>
                        <a:pt x="247" y="0"/>
                      </a:lnTo>
                      <a:lnTo>
                        <a:pt x="0" y="370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8134200" y="3400560"/>
                  <a:ext cx="282600" cy="88920"/>
                </a:xfrm>
                <a:custGeom>
                  <a:avLst/>
                  <a:gdLst/>
                  <a:ahLst/>
                  <a:rect l="l" t="t" r="r" b="b"/>
                  <a:pathLst>
                    <a:path w="536" h="335">
                      <a:moveTo>
                        <a:pt x="353" y="335"/>
                      </a:moveTo>
                      <a:lnTo>
                        <a:pt x="536" y="116"/>
                      </a:lnTo>
                      <a:lnTo>
                        <a:pt x="202" y="0"/>
                      </a:lnTo>
                      <a:lnTo>
                        <a:pt x="0" y="214"/>
                      </a:lnTo>
                      <a:lnTo>
                        <a:pt x="353" y="335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8277120" y="3255840"/>
                  <a:ext cx="96840" cy="104760"/>
                </a:xfrm>
                <a:custGeom>
                  <a:avLst/>
                  <a:gdLst/>
                  <a:ahLst/>
                  <a:rect l="l" t="t" r="r" b="b"/>
                  <a:pathLst>
                    <a:path w="185" h="393">
                      <a:moveTo>
                        <a:pt x="0" y="0"/>
                      </a:moveTo>
                      <a:lnTo>
                        <a:pt x="45" y="393"/>
                      </a:lnTo>
                      <a:lnTo>
                        <a:pt x="185" y="2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8191440" y="3255840"/>
                  <a:ext cx="109440" cy="104760"/>
                </a:xfrm>
                <a:custGeom>
                  <a:avLst/>
                  <a:gdLst/>
                  <a:ahLst/>
                  <a:rect l="l" t="t" r="r" b="b"/>
                  <a:pathLst>
                    <a:path w="207" h="395">
                      <a:moveTo>
                        <a:pt x="163" y="0"/>
                      </a:moveTo>
                      <a:lnTo>
                        <a:pt x="207" y="395"/>
                      </a:lnTo>
                      <a:lnTo>
                        <a:pt x="0" y="354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8191440" y="3349800"/>
                  <a:ext cx="108000" cy="125280"/>
                </a:xfrm>
                <a:custGeom>
                  <a:avLst/>
                  <a:gdLst/>
                  <a:ahLst/>
                  <a:rect l="l" t="t" r="r" b="b"/>
                  <a:pathLst>
                    <a:path w="206" h="477">
                      <a:moveTo>
                        <a:pt x="0" y="0"/>
                      </a:moveTo>
                      <a:lnTo>
                        <a:pt x="206" y="40"/>
                      </a:lnTo>
                      <a:lnTo>
                        <a:pt x="206" y="477"/>
                      </a:lnTo>
                      <a:lnTo>
                        <a:pt x="0" y="4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8299440" y="3325680"/>
                  <a:ext cx="74520" cy="149400"/>
                </a:xfrm>
                <a:custGeom>
                  <a:avLst/>
                  <a:gdLst/>
                  <a:ahLst/>
                  <a:rect l="l" t="t" r="r" b="b"/>
                  <a:pathLst>
                    <a:path w="140" h="568">
                      <a:moveTo>
                        <a:pt x="0" y="130"/>
                      </a:moveTo>
                      <a:lnTo>
                        <a:pt x="140" y="0"/>
                      </a:lnTo>
                      <a:lnTo>
                        <a:pt x="140" y="406"/>
                      </a:lnTo>
                      <a:lnTo>
                        <a:pt x="0" y="568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8134200" y="3457440"/>
                  <a:ext cx="185760" cy="169920"/>
                </a:xfrm>
                <a:custGeom>
                  <a:avLst/>
                  <a:gdLst/>
                  <a:ahLst/>
                  <a:rect l="l" t="t" r="r" b="b"/>
                  <a:pathLst>
                    <a:path w="351" h="640">
                      <a:moveTo>
                        <a:pt x="0" y="0"/>
                      </a:moveTo>
                      <a:lnTo>
                        <a:pt x="351" y="121"/>
                      </a:lnTo>
                      <a:lnTo>
                        <a:pt x="351" y="640"/>
                      </a:lnTo>
                      <a:lnTo>
                        <a:pt x="0" y="4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8319960" y="3432240"/>
                  <a:ext cx="96840" cy="195120"/>
                </a:xfrm>
                <a:custGeom>
                  <a:avLst/>
                  <a:gdLst/>
                  <a:ahLst/>
                  <a:rect l="l" t="t" r="r" b="b"/>
                  <a:pathLst>
                    <a:path w="184" h="739">
                      <a:moveTo>
                        <a:pt x="0" y="220"/>
                      </a:moveTo>
                      <a:lnTo>
                        <a:pt x="184" y="0"/>
                      </a:lnTo>
                      <a:lnTo>
                        <a:pt x="184" y="443"/>
                      </a:lnTo>
                      <a:lnTo>
                        <a:pt x="0" y="739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8169120" y="3363840"/>
                <a:ext cx="114480" cy="235080"/>
                <a:chOff x="8169120" y="3363840"/>
                <a:chExt cx="114480" cy="23508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8226360" y="3363840"/>
                  <a:ext cx="39240" cy="66600"/>
                  <a:chOff x="8226360" y="3363840"/>
                  <a:chExt cx="39240" cy="6660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8234640" y="3363840"/>
                    <a:ext cx="309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58126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581268"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8228160" y="3363840"/>
                    <a:ext cx="248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2" y="9321"/>
                        </a:moveTo>
                        <a:arcTo wR="10800" hR="10800" stAng="-10327855" swAng="45347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2" y="9321"/>
                        </a:moveTo>
                        <a:arcTo wR="10800" hR="10800" stAng="-10327855" swAng="4534766"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8226360" y="3395520"/>
                    <a:ext cx="126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3">
                        <a:moveTo>
                          <a:pt x="0" y="0"/>
                        </a:moveTo>
                        <a:lnTo>
                          <a:pt x="0" y="104"/>
                        </a:lnTo>
                        <a:lnTo>
                          <a:pt x="24" y="113"/>
                        </a:lnTo>
                        <a:lnTo>
                          <a:pt x="24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8250120" y="3400560"/>
                    <a:ext cx="12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2">
                        <a:moveTo>
                          <a:pt x="0" y="0"/>
                        </a:moveTo>
                        <a:lnTo>
                          <a:pt x="0" y="104"/>
                        </a:lnTo>
                        <a:lnTo>
                          <a:pt x="24" y="112"/>
                        </a:lnTo>
                        <a:lnTo>
                          <a:pt x="24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6" name=""/>
                <p:cNvGrpSpPr/>
                <p:nvPr/>
              </p:nvGrpSpPr>
              <p:grpSpPr>
                <a:xfrm>
                  <a:off x="8169120" y="3494160"/>
                  <a:ext cx="114480" cy="104760"/>
                  <a:chOff x="8169120" y="3494160"/>
                  <a:chExt cx="114480" cy="104760"/>
                </a:xfrm>
              </p:grpSpPr>
              <p:sp>
                <p:nvSpPr>
                  <p:cNvPr id="1407" name=""/>
                  <p:cNvSpPr/>
                  <p:nvPr/>
                </p:nvSpPr>
                <p:spPr>
                  <a:xfrm>
                    <a:off x="8169120" y="3530520"/>
                    <a:ext cx="1144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57">
                        <a:moveTo>
                          <a:pt x="0" y="0"/>
                        </a:moveTo>
                        <a:lnTo>
                          <a:pt x="0" y="161"/>
                        </a:lnTo>
                        <a:lnTo>
                          <a:pt x="217" y="257"/>
                        </a:lnTo>
                        <a:lnTo>
                          <a:pt x="217" y="9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8170920" y="3494160"/>
                    <a:ext cx="1080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92">
                        <a:moveTo>
                          <a:pt x="0" y="0"/>
                        </a:moveTo>
                        <a:lnTo>
                          <a:pt x="0" y="111"/>
                        </a:lnTo>
                        <a:lnTo>
                          <a:pt x="205" y="192"/>
                        </a:lnTo>
                        <a:lnTo>
                          <a:pt x="205" y="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409" name=""/>
          <p:cNvSpPr/>
          <p:nvPr/>
        </p:nvSpPr>
        <p:spPr>
          <a:xfrm>
            <a:off x="6673680" y="2259000"/>
            <a:ext cx="1686240" cy="331920"/>
          </a:xfrm>
          <a:prstGeom prst="rect">
            <a:avLst/>
          </a:prstGeom>
          <a:solidFill>
            <a:srgbClr val="ff505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745680" y="2308320"/>
            <a:ext cx="156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292929"/>
                </a:solidFill>
                <a:latin typeface="Times New Roman"/>
              </a:rPr>
              <a:t>DISTRIBUC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5067360" y="1714680"/>
            <a:ext cx="3848040" cy="2501640"/>
            <a:chOff x="5067360" y="1714680"/>
            <a:chExt cx="3848040" cy="2501640"/>
          </a:xfrm>
        </p:grpSpPr>
        <p:grpSp>
          <p:nvGrpSpPr>
            <p:cNvPr id="1412" name=""/>
            <p:cNvGrpSpPr/>
            <p:nvPr/>
          </p:nvGrpSpPr>
          <p:grpSpPr>
            <a:xfrm>
              <a:off x="5999040" y="3192480"/>
              <a:ext cx="1559160" cy="168120"/>
              <a:chOff x="5999040" y="3192480"/>
              <a:chExt cx="1559160" cy="168120"/>
            </a:xfrm>
          </p:grpSpPr>
          <p:sp>
            <p:nvSpPr>
              <p:cNvPr id="1413" name=""/>
              <p:cNvSpPr/>
              <p:nvPr/>
            </p:nvSpPr>
            <p:spPr>
              <a:xfrm>
                <a:off x="5999040" y="3254040"/>
                <a:ext cx="1444680" cy="45720"/>
              </a:xfrm>
              <a:custGeom>
                <a:avLst/>
                <a:gdLst/>
                <a:ahLst/>
                <a:rect l="l" t="t" r="r" b="b"/>
                <a:pathLst>
                  <a:path w="1821" h="58">
                    <a:moveTo>
                      <a:pt x="0" y="5"/>
                    </a:moveTo>
                    <a:lnTo>
                      <a:pt x="0" y="58"/>
                    </a:lnTo>
                    <a:lnTo>
                      <a:pt x="1821" y="53"/>
                    </a:lnTo>
                    <a:lnTo>
                      <a:pt x="182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388280" y="3192480"/>
                <a:ext cx="169920" cy="168120"/>
              </a:xfrm>
              <a:custGeom>
                <a:avLst/>
                <a:gdLst/>
                <a:ahLst/>
                <a:rect l="l" t="t" r="r" b="b"/>
                <a:pathLst>
                  <a:path w="213" h="212">
                    <a:moveTo>
                      <a:pt x="0" y="212"/>
                    </a:moveTo>
                    <a:lnTo>
                      <a:pt x="213" y="107"/>
                    </a:lnTo>
                    <a:lnTo>
                      <a:pt x="0" y="0"/>
                    </a:lnTo>
                    <a:lnTo>
                      <a:pt x="67" y="107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7567560" y="3032280"/>
              <a:ext cx="990720" cy="634680"/>
              <a:chOff x="7567560" y="3032280"/>
              <a:chExt cx="990720" cy="634680"/>
            </a:xfrm>
          </p:grpSpPr>
          <p:grpSp>
            <p:nvGrpSpPr>
              <p:cNvPr id="1416" name=""/>
              <p:cNvGrpSpPr/>
              <p:nvPr/>
            </p:nvGrpSpPr>
            <p:grpSpPr>
              <a:xfrm>
                <a:off x="7792920" y="3070080"/>
                <a:ext cx="309600" cy="285840"/>
                <a:chOff x="7792920" y="3070080"/>
                <a:chExt cx="309600" cy="285840"/>
              </a:xfrm>
            </p:grpSpPr>
            <p:grpSp>
              <p:nvGrpSpPr>
                <p:cNvPr id="1417" name=""/>
                <p:cNvGrpSpPr/>
                <p:nvPr/>
              </p:nvGrpSpPr>
              <p:grpSpPr>
                <a:xfrm>
                  <a:off x="7792920" y="3070080"/>
                  <a:ext cx="309600" cy="285840"/>
                  <a:chOff x="7792920" y="3070080"/>
                  <a:chExt cx="309600" cy="28584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>
                    <a:off x="7792920" y="3132000"/>
                    <a:ext cx="30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7" h="152">
                        <a:moveTo>
                          <a:pt x="434" y="152"/>
                        </a:moveTo>
                        <a:lnTo>
                          <a:pt x="587" y="71"/>
                        </a:lnTo>
                        <a:lnTo>
                          <a:pt x="163" y="0"/>
                        </a:lnTo>
                        <a:lnTo>
                          <a:pt x="0" y="83"/>
                        </a:lnTo>
                        <a:lnTo>
                          <a:pt x="434" y="152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7807320" y="3070080"/>
                    <a:ext cx="2588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74">
                        <a:moveTo>
                          <a:pt x="0" y="37"/>
                        </a:moveTo>
                        <a:lnTo>
                          <a:pt x="381" y="74"/>
                        </a:lnTo>
                        <a:lnTo>
                          <a:pt x="488" y="41"/>
                        </a:lnTo>
                        <a:lnTo>
                          <a:pt x="116" y="0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8010360" y="3081240"/>
                    <a:ext cx="55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13">
                        <a:moveTo>
                          <a:pt x="0" y="32"/>
                        </a:moveTo>
                        <a:lnTo>
                          <a:pt x="107" y="0"/>
                        </a:lnTo>
                        <a:lnTo>
                          <a:pt x="107" y="261"/>
                        </a:lnTo>
                        <a:lnTo>
                          <a:pt x="0" y="313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7807320" y="3081240"/>
                    <a:ext cx="203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315">
                        <a:moveTo>
                          <a:pt x="1" y="0"/>
                        </a:moveTo>
                        <a:lnTo>
                          <a:pt x="383" y="37"/>
                        </a:lnTo>
                        <a:lnTo>
                          <a:pt x="383" y="315"/>
                        </a:lnTo>
                        <a:lnTo>
                          <a:pt x="0" y="25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8021520" y="3151080"/>
                    <a:ext cx="810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777">
                        <a:moveTo>
                          <a:pt x="153" y="0"/>
                        </a:moveTo>
                        <a:lnTo>
                          <a:pt x="0" y="82"/>
                        </a:lnTo>
                        <a:lnTo>
                          <a:pt x="0" y="777"/>
                        </a:lnTo>
                        <a:lnTo>
                          <a:pt x="153" y="677"/>
                        </a:lnTo>
                        <a:lnTo>
                          <a:pt x="153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7792920" y="3154320"/>
                    <a:ext cx="23040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65">
                        <a:moveTo>
                          <a:pt x="0" y="0"/>
                        </a:moveTo>
                        <a:lnTo>
                          <a:pt x="435" y="70"/>
                        </a:lnTo>
                        <a:lnTo>
                          <a:pt x="434" y="765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4" name=""/>
                <p:cNvGrpSpPr/>
                <p:nvPr/>
              </p:nvGrpSpPr>
              <p:grpSpPr>
                <a:xfrm>
                  <a:off x="7816680" y="3084480"/>
                  <a:ext cx="195480" cy="119160"/>
                  <a:chOff x="7816680" y="3084480"/>
                  <a:chExt cx="195480" cy="119160"/>
                </a:xfrm>
              </p:grpSpPr>
              <p:sp>
                <p:nvSpPr>
                  <p:cNvPr id="1425" name=""/>
                  <p:cNvSpPr/>
                  <p:nvPr/>
                </p:nvSpPr>
                <p:spPr>
                  <a:xfrm>
                    <a:off x="7816680" y="3084480"/>
                    <a:ext cx="30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8">
                        <a:moveTo>
                          <a:pt x="0" y="0"/>
                        </a:moveTo>
                        <a:lnTo>
                          <a:pt x="57" y="7"/>
                        </a:lnTo>
                        <a:lnTo>
                          <a:pt x="57" y="28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7854840" y="3097080"/>
                    <a:ext cx="30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7">
                        <a:moveTo>
                          <a:pt x="0" y="0"/>
                        </a:moveTo>
                        <a:lnTo>
                          <a:pt x="57" y="6"/>
                        </a:lnTo>
                        <a:lnTo>
                          <a:pt x="57" y="27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7897680" y="3087720"/>
                    <a:ext cx="30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7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7942320" y="309096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7">
                        <a:moveTo>
                          <a:pt x="0" y="0"/>
                        </a:moveTo>
                        <a:lnTo>
                          <a:pt x="57" y="6"/>
                        </a:lnTo>
                        <a:lnTo>
                          <a:pt x="57" y="27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7942320" y="310212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7">
                        <a:moveTo>
                          <a:pt x="0" y="0"/>
                        </a:moveTo>
                        <a:lnTo>
                          <a:pt x="57" y="6"/>
                        </a:lnTo>
                        <a:lnTo>
                          <a:pt x="57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7896240" y="3112920"/>
                    <a:ext cx="30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7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7942320" y="3125880"/>
                    <a:ext cx="30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6">
                        <a:moveTo>
                          <a:pt x="0" y="0"/>
                        </a:moveTo>
                        <a:lnTo>
                          <a:pt x="57" y="6"/>
                        </a:lnTo>
                        <a:lnTo>
                          <a:pt x="57" y="26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7981920" y="3174840"/>
                    <a:ext cx="30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8">
                        <a:moveTo>
                          <a:pt x="0" y="0"/>
                        </a:moveTo>
                        <a:lnTo>
                          <a:pt x="57" y="7"/>
                        </a:lnTo>
                        <a:lnTo>
                          <a:pt x="57" y="28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7983360" y="3197160"/>
                    <a:ext cx="28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6">
                        <a:moveTo>
                          <a:pt x="0" y="0"/>
                        </a:moveTo>
                        <a:lnTo>
                          <a:pt x="56" y="5"/>
                        </a:lnTo>
                        <a:lnTo>
                          <a:pt x="56" y="26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34" name=""/>
              <p:cNvGrpSpPr/>
              <p:nvPr/>
            </p:nvGrpSpPr>
            <p:grpSpPr>
              <a:xfrm>
                <a:off x="8039160" y="3032280"/>
                <a:ext cx="384120" cy="398160"/>
                <a:chOff x="8039160" y="3032280"/>
                <a:chExt cx="384120" cy="398160"/>
              </a:xfrm>
            </p:grpSpPr>
            <p:grpSp>
              <p:nvGrpSpPr>
                <p:cNvPr id="1435" name=""/>
                <p:cNvGrpSpPr/>
                <p:nvPr/>
              </p:nvGrpSpPr>
              <p:grpSpPr>
                <a:xfrm>
                  <a:off x="8039160" y="3032280"/>
                  <a:ext cx="384120" cy="398160"/>
                  <a:chOff x="8039160" y="3032280"/>
                  <a:chExt cx="384120" cy="39816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8042400" y="3146400"/>
                    <a:ext cx="38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1" h="289">
                        <a:moveTo>
                          <a:pt x="0" y="211"/>
                        </a:moveTo>
                        <a:lnTo>
                          <a:pt x="408" y="289"/>
                        </a:lnTo>
                        <a:lnTo>
                          <a:pt x="721" y="56"/>
                        </a:lnTo>
                        <a:lnTo>
                          <a:pt x="329" y="0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8094600" y="3081240"/>
                    <a:ext cx="158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491">
                        <a:moveTo>
                          <a:pt x="0" y="0"/>
                        </a:moveTo>
                        <a:lnTo>
                          <a:pt x="300" y="24"/>
                        </a:lnTo>
                        <a:lnTo>
                          <a:pt x="300" y="491"/>
                        </a:lnTo>
                        <a:lnTo>
                          <a:pt x="0" y="4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8250120" y="3059280"/>
                    <a:ext cx="1368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569">
                        <a:moveTo>
                          <a:pt x="0" y="105"/>
                        </a:moveTo>
                        <a:lnTo>
                          <a:pt x="0" y="569"/>
                        </a:lnTo>
                        <a:lnTo>
                          <a:pt x="258" y="383"/>
                        </a:lnTo>
                        <a:lnTo>
                          <a:pt x="258" y="0"/>
                        </a:lnTo>
                        <a:lnTo>
                          <a:pt x="0" y="105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8094600" y="3054240"/>
                    <a:ext cx="29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127">
                        <a:moveTo>
                          <a:pt x="0" y="103"/>
                        </a:moveTo>
                        <a:lnTo>
                          <a:pt x="296" y="127"/>
                        </a:lnTo>
                        <a:lnTo>
                          <a:pt x="554" y="22"/>
                        </a:lnTo>
                        <a:lnTo>
                          <a:pt x="296" y="0"/>
                        </a:lnTo>
                        <a:lnTo>
                          <a:pt x="0" y="103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8132760" y="3032280"/>
                    <a:ext cx="2127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77">
                        <a:moveTo>
                          <a:pt x="0" y="61"/>
                        </a:moveTo>
                        <a:lnTo>
                          <a:pt x="215" y="77"/>
                        </a:lnTo>
                        <a:lnTo>
                          <a:pt x="404" y="19"/>
                        </a:lnTo>
                        <a:lnTo>
                          <a:pt x="202" y="0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8132760" y="3048120"/>
                    <a:ext cx="111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119">
                        <a:moveTo>
                          <a:pt x="0" y="0"/>
                        </a:moveTo>
                        <a:lnTo>
                          <a:pt x="211" y="15"/>
                        </a:lnTo>
                        <a:lnTo>
                          <a:pt x="211" y="119"/>
                        </a:lnTo>
                        <a:lnTo>
                          <a:pt x="0" y="1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8244000" y="3036960"/>
                    <a:ext cx="101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61">
                        <a:moveTo>
                          <a:pt x="0" y="58"/>
                        </a:moveTo>
                        <a:lnTo>
                          <a:pt x="0" y="161"/>
                        </a:lnTo>
                        <a:lnTo>
                          <a:pt x="193" y="83"/>
                        </a:lnTo>
                        <a:lnTo>
                          <a:pt x="193" y="0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8256600" y="3160800"/>
                    <a:ext cx="1666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1021">
                        <a:moveTo>
                          <a:pt x="316" y="0"/>
                        </a:moveTo>
                        <a:lnTo>
                          <a:pt x="2" y="236"/>
                        </a:lnTo>
                        <a:lnTo>
                          <a:pt x="0" y="1021"/>
                        </a:lnTo>
                        <a:lnTo>
                          <a:pt x="316" y="715"/>
                        </a:lnTo>
                        <a:lnTo>
                          <a:pt x="316" y="0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8039160" y="3201840"/>
                    <a:ext cx="21744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863">
                        <a:moveTo>
                          <a:pt x="4" y="0"/>
                        </a:moveTo>
                        <a:lnTo>
                          <a:pt x="411" y="78"/>
                        </a:lnTo>
                        <a:lnTo>
                          <a:pt x="411" y="863"/>
                        </a:lnTo>
                        <a:lnTo>
                          <a:pt x="0" y="723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5" name=""/>
                <p:cNvGrpSpPr/>
                <p:nvPr/>
              </p:nvGrpSpPr>
              <p:grpSpPr>
                <a:xfrm>
                  <a:off x="8064360" y="3084480"/>
                  <a:ext cx="171720" cy="169920"/>
                  <a:chOff x="8064360" y="3084480"/>
                  <a:chExt cx="171720" cy="169920"/>
                </a:xfrm>
              </p:grpSpPr>
              <p:grpSp>
                <p:nvGrpSpPr>
                  <p:cNvPr id="1446" name=""/>
                  <p:cNvGrpSpPr/>
                  <p:nvPr/>
                </p:nvGrpSpPr>
                <p:grpSpPr>
                  <a:xfrm>
                    <a:off x="8104320" y="3084480"/>
                    <a:ext cx="131760" cy="38160"/>
                    <a:chOff x="8104320" y="3084480"/>
                    <a:chExt cx="131760" cy="38160"/>
                  </a:xfrm>
                </p:grpSpPr>
                <p:sp>
                  <p:nvSpPr>
                    <p:cNvPr id="1447" name=""/>
                    <p:cNvSpPr/>
                    <p:nvPr/>
                  </p:nvSpPr>
                  <p:spPr>
                    <a:xfrm>
                      <a:off x="8104320" y="3084480"/>
                      <a:ext cx="270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17">
                          <a:moveTo>
                            <a:pt x="0" y="0"/>
                          </a:moveTo>
                          <a:lnTo>
                            <a:pt x="50" y="6"/>
                          </a:lnTo>
                          <a:lnTo>
                            <a:pt x="50" y="117"/>
                          </a:lnTo>
                          <a:lnTo>
                            <a:pt x="1" y="1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8139240" y="308628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17">
                          <a:moveTo>
                            <a:pt x="0" y="0"/>
                          </a:moveTo>
                          <a:lnTo>
                            <a:pt x="50" y="5"/>
                          </a:lnTo>
                          <a:lnTo>
                            <a:pt x="50" y="117"/>
                          </a:lnTo>
                          <a:lnTo>
                            <a:pt x="0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9" name=""/>
                    <p:cNvSpPr/>
                    <p:nvPr/>
                  </p:nvSpPr>
                  <p:spPr>
                    <a:xfrm>
                      <a:off x="8174160" y="3087720"/>
                      <a:ext cx="2700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120">
                          <a:moveTo>
                            <a:pt x="0" y="0"/>
                          </a:moveTo>
                          <a:lnTo>
                            <a:pt x="52" y="5"/>
                          </a:lnTo>
                          <a:lnTo>
                            <a:pt x="50" y="120"/>
                          </a:lnTo>
                          <a:lnTo>
                            <a:pt x="0" y="1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0" name=""/>
                    <p:cNvSpPr/>
                    <p:nvPr/>
                  </p:nvSpPr>
                  <p:spPr>
                    <a:xfrm>
                      <a:off x="8209080" y="30909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24">
                          <a:moveTo>
                            <a:pt x="0" y="0"/>
                          </a:moveTo>
                          <a:lnTo>
                            <a:pt x="50" y="6"/>
                          </a:lnTo>
                          <a:lnTo>
                            <a:pt x="50" y="124"/>
                          </a:lnTo>
                          <a:lnTo>
                            <a:pt x="0" y="1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1" name=""/>
                  <p:cNvGrpSpPr/>
                  <p:nvPr/>
                </p:nvGrpSpPr>
                <p:grpSpPr>
                  <a:xfrm>
                    <a:off x="8104320" y="3121200"/>
                    <a:ext cx="131760" cy="39600"/>
                    <a:chOff x="8104320" y="3121200"/>
                    <a:chExt cx="131760" cy="39600"/>
                  </a:xfrm>
                </p:grpSpPr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8104320" y="31212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20">
                          <a:moveTo>
                            <a:pt x="0" y="0"/>
                          </a:moveTo>
                          <a:lnTo>
                            <a:pt x="50" y="8"/>
                          </a:lnTo>
                          <a:lnTo>
                            <a:pt x="50" y="120"/>
                          </a:lnTo>
                          <a:lnTo>
                            <a:pt x="1" y="1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3" name=""/>
                    <p:cNvSpPr/>
                    <p:nvPr/>
                  </p:nvSpPr>
                  <p:spPr>
                    <a:xfrm>
                      <a:off x="8139240" y="3124080"/>
                      <a:ext cx="2700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121">
                          <a:moveTo>
                            <a:pt x="1" y="0"/>
                          </a:moveTo>
                          <a:lnTo>
                            <a:pt x="51" y="10"/>
                          </a:lnTo>
                          <a:lnTo>
                            <a:pt x="50" y="121"/>
                          </a:lnTo>
                          <a:lnTo>
                            <a:pt x="0" y="11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8174160" y="312588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119">
                          <a:moveTo>
                            <a:pt x="0" y="0"/>
                          </a:moveTo>
                          <a:lnTo>
                            <a:pt x="52" y="7"/>
                          </a:lnTo>
                          <a:lnTo>
                            <a:pt x="50" y="119"/>
                          </a:lnTo>
                          <a:lnTo>
                            <a:pt x="0" y="1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>
                      <a:off x="8209080" y="312912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20">
                          <a:moveTo>
                            <a:pt x="0" y="0"/>
                          </a:moveTo>
                          <a:lnTo>
                            <a:pt x="50" y="9"/>
                          </a:lnTo>
                          <a:lnTo>
                            <a:pt x="50" y="120"/>
                          </a:lnTo>
                          <a:lnTo>
                            <a:pt x="0" y="1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6" name=""/>
                  <p:cNvGrpSpPr/>
                  <p:nvPr/>
                </p:nvGrpSpPr>
                <p:grpSpPr>
                  <a:xfrm>
                    <a:off x="8064360" y="3209760"/>
                    <a:ext cx="163800" cy="44640"/>
                    <a:chOff x="8064360" y="3209760"/>
                    <a:chExt cx="163800" cy="44640"/>
                  </a:xfrm>
                </p:grpSpPr>
                <p:grpSp>
                  <p:nvGrpSpPr>
                    <p:cNvPr id="1457" name=""/>
                    <p:cNvGrpSpPr/>
                    <p:nvPr/>
                  </p:nvGrpSpPr>
                  <p:grpSpPr>
                    <a:xfrm>
                      <a:off x="8064360" y="3209760"/>
                      <a:ext cx="163800" cy="28800"/>
                      <a:chOff x="8064360" y="3209760"/>
                      <a:chExt cx="163800" cy="28800"/>
                    </a:xfrm>
                  </p:grpSpPr>
                  <p:sp>
                    <p:nvSpPr>
                      <p:cNvPr id="1458" name=""/>
                      <p:cNvSpPr/>
                      <p:nvPr/>
                    </p:nvSpPr>
                    <p:spPr>
                      <a:xfrm>
                        <a:off x="8105760" y="3214800"/>
                        <a:ext cx="349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5">
                            <a:moveTo>
                              <a:pt x="1" y="0"/>
                            </a:moveTo>
                            <a:lnTo>
                              <a:pt x="67" y="13"/>
                            </a:lnTo>
                            <a:lnTo>
                              <a:pt x="67" y="55"/>
                            </a:lnTo>
                            <a:lnTo>
                              <a:pt x="0" y="4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9" name=""/>
                      <p:cNvSpPr/>
                      <p:nvPr/>
                    </p:nvSpPr>
                    <p:spPr>
                      <a:xfrm>
                        <a:off x="8150400" y="3218040"/>
                        <a:ext cx="349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9">
                            <a:moveTo>
                              <a:pt x="0" y="0"/>
                            </a:moveTo>
                            <a:lnTo>
                              <a:pt x="67" y="15"/>
                            </a:lnTo>
                            <a:lnTo>
                              <a:pt x="67" y="59"/>
                            </a:lnTo>
                            <a:lnTo>
                              <a:pt x="0" y="4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0" name=""/>
                      <p:cNvSpPr/>
                      <p:nvPr/>
                    </p:nvSpPr>
                    <p:spPr>
                      <a:xfrm>
                        <a:off x="8193240" y="3222720"/>
                        <a:ext cx="349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8">
                            <a:moveTo>
                              <a:pt x="0" y="0"/>
                            </a:moveTo>
                            <a:lnTo>
                              <a:pt x="67" y="14"/>
                            </a:lnTo>
                            <a:lnTo>
                              <a:pt x="67" y="58"/>
                            </a:lnTo>
                            <a:lnTo>
                              <a:pt x="0" y="4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1" name=""/>
                      <p:cNvSpPr/>
                      <p:nvPr/>
                    </p:nvSpPr>
                    <p:spPr>
                      <a:xfrm>
                        <a:off x="8064360" y="3209760"/>
                        <a:ext cx="349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54">
                            <a:moveTo>
                              <a:pt x="0" y="0"/>
                            </a:moveTo>
                            <a:lnTo>
                              <a:pt x="66" y="13"/>
                            </a:lnTo>
                            <a:lnTo>
                              <a:pt x="66" y="54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62" name=""/>
                    <p:cNvGrpSpPr/>
                    <p:nvPr/>
                  </p:nvGrpSpPr>
                  <p:grpSpPr>
                    <a:xfrm>
                      <a:off x="8064360" y="3225960"/>
                      <a:ext cx="163800" cy="28440"/>
                      <a:chOff x="8064360" y="3225960"/>
                      <a:chExt cx="163800" cy="28440"/>
                    </a:xfrm>
                  </p:grpSpPr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8105760" y="3230640"/>
                        <a:ext cx="349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6">
                            <a:moveTo>
                              <a:pt x="2" y="0"/>
                            </a:moveTo>
                            <a:lnTo>
                              <a:pt x="67" y="14"/>
                            </a:lnTo>
                            <a:lnTo>
                              <a:pt x="67" y="56"/>
                            </a:lnTo>
                            <a:lnTo>
                              <a:pt x="0" y="4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8148600" y="3233880"/>
                        <a:ext cx="367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6">
                            <a:moveTo>
                              <a:pt x="0" y="0"/>
                            </a:moveTo>
                            <a:lnTo>
                              <a:pt x="67" y="14"/>
                            </a:lnTo>
                            <a:lnTo>
                              <a:pt x="67" y="56"/>
                            </a:lnTo>
                            <a:lnTo>
                              <a:pt x="0" y="4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8193240" y="3238560"/>
                        <a:ext cx="349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6">
                            <a:moveTo>
                              <a:pt x="0" y="0"/>
                            </a:moveTo>
                            <a:lnTo>
                              <a:pt x="67" y="16"/>
                            </a:lnTo>
                            <a:lnTo>
                              <a:pt x="67" y="56"/>
                            </a:lnTo>
                            <a:lnTo>
                              <a:pt x="0" y="4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8064360" y="3225960"/>
                        <a:ext cx="349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56">
                            <a:moveTo>
                              <a:pt x="0" y="0"/>
                            </a:moveTo>
                            <a:lnTo>
                              <a:pt x="66" y="13"/>
                            </a:lnTo>
                            <a:lnTo>
                              <a:pt x="66" y="56"/>
                            </a:lnTo>
                            <a:lnTo>
                              <a:pt x="0" y="4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467" name=""/>
              <p:cNvGrpSpPr/>
              <p:nvPr/>
            </p:nvGrpSpPr>
            <p:grpSpPr>
              <a:xfrm>
                <a:off x="8286840" y="3174840"/>
                <a:ext cx="271440" cy="360360"/>
                <a:chOff x="8286840" y="3174840"/>
                <a:chExt cx="271440" cy="360360"/>
              </a:xfrm>
            </p:grpSpPr>
            <p:grpSp>
              <p:nvGrpSpPr>
                <p:cNvPr id="1468" name=""/>
                <p:cNvGrpSpPr/>
                <p:nvPr/>
              </p:nvGrpSpPr>
              <p:grpSpPr>
                <a:xfrm>
                  <a:off x="8286840" y="3174840"/>
                  <a:ext cx="271440" cy="360360"/>
                  <a:chOff x="8286840" y="3174840"/>
                  <a:chExt cx="271440" cy="36036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>
                    <a:off x="8335800" y="3187800"/>
                    <a:ext cx="1605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17">
                        <a:moveTo>
                          <a:pt x="0" y="92"/>
                        </a:moveTo>
                        <a:lnTo>
                          <a:pt x="186" y="117"/>
                        </a:lnTo>
                        <a:lnTo>
                          <a:pt x="302" y="17"/>
                        </a:lnTo>
                        <a:lnTo>
                          <a:pt x="127" y="0"/>
                        </a:lnTo>
                        <a:lnTo>
                          <a:pt x="0" y="92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8362800" y="3174840"/>
                    <a:ext cx="111240" cy="38160"/>
                    <a:chOff x="8362800" y="3174840"/>
                    <a:chExt cx="111240" cy="38160"/>
                  </a:xfrm>
                </p:grpSpPr>
                <p:sp>
                  <p:nvSpPr>
                    <p:cNvPr id="1471" name=""/>
                    <p:cNvSpPr/>
                    <p:nvPr/>
                  </p:nvSpPr>
                  <p:spPr>
                    <a:xfrm>
                      <a:off x="8362800" y="3189240"/>
                      <a:ext cx="669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86">
                          <a:moveTo>
                            <a:pt x="1" y="0"/>
                          </a:moveTo>
                          <a:lnTo>
                            <a:pt x="127" y="13"/>
                          </a:lnTo>
                          <a:lnTo>
                            <a:pt x="127" y="86"/>
                          </a:lnTo>
                          <a:lnTo>
                            <a:pt x="0" y="69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8429760" y="3178080"/>
                      <a:ext cx="442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30">
                          <a:moveTo>
                            <a:pt x="0" y="60"/>
                          </a:moveTo>
                          <a:lnTo>
                            <a:pt x="0" y="130"/>
                          </a:lnTo>
                          <a:lnTo>
                            <a:pt x="84" y="60"/>
                          </a:lnTo>
                          <a:lnTo>
                            <a:pt x="84" y="0"/>
                          </a:lnTo>
                          <a:lnTo>
                            <a:pt x="0" y="60"/>
                          </a:lnTo>
                          <a:close/>
                        </a:path>
                      </a:pathLst>
                    </a:custGeom>
                    <a:solidFill>
                      <a:srgbClr val="00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3" name=""/>
                    <p:cNvSpPr/>
                    <p:nvPr/>
                  </p:nvSpPr>
                  <p:spPr>
                    <a:xfrm>
                      <a:off x="8362800" y="3174840"/>
                      <a:ext cx="1112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70">
                          <a:moveTo>
                            <a:pt x="0" y="56"/>
                          </a:moveTo>
                          <a:lnTo>
                            <a:pt x="126" y="70"/>
                          </a:lnTo>
                          <a:lnTo>
                            <a:pt x="210" y="12"/>
                          </a:lnTo>
                          <a:lnTo>
                            <a:pt x="85" y="0"/>
                          </a:lnTo>
                          <a:lnTo>
                            <a:pt x="0" y="56"/>
                          </a:lnTo>
                          <a:close/>
                        </a:path>
                      </a:pathLst>
                    </a:custGeom>
                    <a:solidFill>
                      <a:srgbClr val="00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4" name=""/>
                  <p:cNvSpPr/>
                  <p:nvPr/>
                </p:nvSpPr>
                <p:spPr>
                  <a:xfrm>
                    <a:off x="8337600" y="3211560"/>
                    <a:ext cx="968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471">
                        <a:moveTo>
                          <a:pt x="0" y="0"/>
                        </a:moveTo>
                        <a:lnTo>
                          <a:pt x="184" y="24"/>
                        </a:lnTo>
                        <a:lnTo>
                          <a:pt x="184" y="471"/>
                        </a:lnTo>
                        <a:lnTo>
                          <a:pt x="0" y="4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8434440" y="3191040"/>
                    <a:ext cx="619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545">
                        <a:moveTo>
                          <a:pt x="0" y="99"/>
                        </a:moveTo>
                        <a:lnTo>
                          <a:pt x="116" y="0"/>
                        </a:lnTo>
                        <a:lnTo>
                          <a:pt x="116" y="417"/>
                        </a:lnTo>
                        <a:lnTo>
                          <a:pt x="0" y="545"/>
                        </a:lnTo>
                        <a:lnTo>
                          <a:pt x="0" y="99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8432640" y="3301920"/>
                    <a:ext cx="1256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389">
                        <a:moveTo>
                          <a:pt x="118" y="0"/>
                        </a:moveTo>
                        <a:lnTo>
                          <a:pt x="0" y="127"/>
                        </a:lnTo>
                        <a:lnTo>
                          <a:pt x="44" y="389"/>
                        </a:lnTo>
                        <a:lnTo>
                          <a:pt x="236" y="144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8286840" y="3324240"/>
                    <a:ext cx="169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308">
                        <a:moveTo>
                          <a:pt x="92" y="0"/>
                        </a:moveTo>
                        <a:lnTo>
                          <a:pt x="278" y="46"/>
                        </a:lnTo>
                        <a:lnTo>
                          <a:pt x="321" y="308"/>
                        </a:lnTo>
                        <a:lnTo>
                          <a:pt x="0" y="222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8454960" y="3340080"/>
                    <a:ext cx="1033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739">
                        <a:moveTo>
                          <a:pt x="1" y="245"/>
                        </a:moveTo>
                        <a:lnTo>
                          <a:pt x="193" y="0"/>
                        </a:lnTo>
                        <a:lnTo>
                          <a:pt x="193" y="401"/>
                        </a:lnTo>
                        <a:lnTo>
                          <a:pt x="0" y="739"/>
                        </a:lnTo>
                        <a:lnTo>
                          <a:pt x="1" y="245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8286840" y="3381480"/>
                    <a:ext cx="1699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579">
                        <a:moveTo>
                          <a:pt x="0" y="0"/>
                        </a:moveTo>
                        <a:lnTo>
                          <a:pt x="320" y="85"/>
                        </a:lnTo>
                        <a:lnTo>
                          <a:pt x="320" y="579"/>
                        </a:lnTo>
                        <a:lnTo>
                          <a:pt x="0" y="46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0" name=""/>
                <p:cNvGrpSpPr/>
                <p:nvPr/>
              </p:nvGrpSpPr>
              <p:grpSpPr>
                <a:xfrm>
                  <a:off x="8346960" y="3218040"/>
                  <a:ext cx="73080" cy="79200"/>
                  <a:chOff x="8346960" y="3218040"/>
                  <a:chExt cx="73080" cy="79200"/>
                </a:xfrm>
              </p:grpSpPr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8346960" y="3218040"/>
                    <a:ext cx="73080" cy="25200"/>
                    <a:chOff x="8346960" y="3218040"/>
                    <a:chExt cx="73080" cy="2520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8346960" y="3218040"/>
                      <a:ext cx="1584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2">
                          <a:moveTo>
                            <a:pt x="0" y="0"/>
                          </a:moveTo>
                          <a:lnTo>
                            <a:pt x="30" y="3"/>
                          </a:lnTo>
                          <a:lnTo>
                            <a:pt x="30" y="82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8375760" y="321948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6">
                          <a:moveTo>
                            <a:pt x="0" y="0"/>
                          </a:moveTo>
                          <a:lnTo>
                            <a:pt x="30" y="4"/>
                          </a:lnTo>
                          <a:lnTo>
                            <a:pt x="30" y="86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8404200" y="322092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4">
                          <a:moveTo>
                            <a:pt x="0" y="0"/>
                          </a:moveTo>
                          <a:lnTo>
                            <a:pt x="29" y="4"/>
                          </a:lnTo>
                          <a:lnTo>
                            <a:pt x="29" y="84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8346960" y="3243240"/>
                    <a:ext cx="73080" cy="28440"/>
                    <a:chOff x="8346960" y="3243240"/>
                    <a:chExt cx="73080" cy="28440"/>
                  </a:xfrm>
                </p:grpSpPr>
                <p:sp>
                  <p:nvSpPr>
                    <p:cNvPr id="1486" name=""/>
                    <p:cNvSpPr/>
                    <p:nvPr/>
                  </p:nvSpPr>
                  <p:spPr>
                    <a:xfrm>
                      <a:off x="8346960" y="324324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5">
                          <a:moveTo>
                            <a:pt x="0" y="0"/>
                          </a:moveTo>
                          <a:lnTo>
                            <a:pt x="30" y="6"/>
                          </a:lnTo>
                          <a:lnTo>
                            <a:pt x="30" y="85"/>
                          </a:lnTo>
                          <a:lnTo>
                            <a:pt x="0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8375760" y="324648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5">
                          <a:moveTo>
                            <a:pt x="0" y="0"/>
                          </a:moveTo>
                          <a:lnTo>
                            <a:pt x="30" y="6"/>
                          </a:lnTo>
                          <a:lnTo>
                            <a:pt x="30" y="85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8404200" y="3247920"/>
                      <a:ext cx="158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5">
                          <a:moveTo>
                            <a:pt x="0" y="0"/>
                          </a:moveTo>
                          <a:lnTo>
                            <a:pt x="29" y="6"/>
                          </a:lnTo>
                          <a:lnTo>
                            <a:pt x="29" y="85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9" name=""/>
                  <p:cNvGrpSpPr/>
                  <p:nvPr/>
                </p:nvGrpSpPr>
                <p:grpSpPr>
                  <a:xfrm>
                    <a:off x="8346960" y="3268800"/>
                    <a:ext cx="73080" cy="28440"/>
                    <a:chOff x="8346960" y="3268800"/>
                    <a:chExt cx="73080" cy="28440"/>
                  </a:xfrm>
                </p:grpSpPr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8346960" y="3268800"/>
                      <a:ext cx="158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7">
                          <a:moveTo>
                            <a:pt x="0" y="0"/>
                          </a:moveTo>
                          <a:lnTo>
                            <a:pt x="30" y="8"/>
                          </a:lnTo>
                          <a:lnTo>
                            <a:pt x="30" y="87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>
                      <a:off x="8375760" y="327168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6">
                          <a:moveTo>
                            <a:pt x="0" y="0"/>
                          </a:moveTo>
                          <a:lnTo>
                            <a:pt x="30" y="6"/>
                          </a:lnTo>
                          <a:lnTo>
                            <a:pt x="30" y="86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8404200" y="327492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6">
                          <a:moveTo>
                            <a:pt x="0" y="0"/>
                          </a:moveTo>
                          <a:lnTo>
                            <a:pt x="29" y="7"/>
                          </a:lnTo>
                          <a:lnTo>
                            <a:pt x="29" y="86"/>
                          </a:lnTo>
                          <a:lnTo>
                            <a:pt x="0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93" name=""/>
              <p:cNvGrpSpPr/>
              <p:nvPr/>
            </p:nvGrpSpPr>
            <p:grpSpPr>
              <a:xfrm>
                <a:off x="7567560" y="3098880"/>
                <a:ext cx="406440" cy="439560"/>
                <a:chOff x="7567560" y="3098880"/>
                <a:chExt cx="406440" cy="43956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7567560" y="3124080"/>
                  <a:ext cx="405000" cy="49320"/>
                </a:xfrm>
                <a:custGeom>
                  <a:avLst/>
                  <a:gdLst/>
                  <a:ahLst/>
                  <a:rect l="l" t="t" r="r" b="b"/>
                  <a:pathLst>
                    <a:path w="766" h="183">
                      <a:moveTo>
                        <a:pt x="0" y="108"/>
                      </a:moveTo>
                      <a:lnTo>
                        <a:pt x="437" y="183"/>
                      </a:lnTo>
                      <a:lnTo>
                        <a:pt x="766" y="53"/>
                      </a:lnTo>
                      <a:lnTo>
                        <a:pt x="365" y="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567560" y="3152880"/>
                  <a:ext cx="231840" cy="385560"/>
                </a:xfrm>
                <a:custGeom>
                  <a:avLst/>
                  <a:gdLst/>
                  <a:ahLst/>
                  <a:rect l="l" t="t" r="r" b="b"/>
                  <a:pathLst>
                    <a:path w="437" h="1459">
                      <a:moveTo>
                        <a:pt x="0" y="0"/>
                      </a:moveTo>
                      <a:lnTo>
                        <a:pt x="437" y="76"/>
                      </a:lnTo>
                      <a:lnTo>
                        <a:pt x="437" y="1459"/>
                      </a:lnTo>
                      <a:lnTo>
                        <a:pt x="345" y="1428"/>
                      </a:lnTo>
                      <a:lnTo>
                        <a:pt x="346" y="1253"/>
                      </a:lnTo>
                      <a:lnTo>
                        <a:pt x="222" y="1203"/>
                      </a:lnTo>
                      <a:lnTo>
                        <a:pt x="222" y="1359"/>
                      </a:lnTo>
                      <a:lnTo>
                        <a:pt x="153" y="1327"/>
                      </a:lnTo>
                      <a:lnTo>
                        <a:pt x="153" y="1171"/>
                      </a:lnTo>
                      <a:lnTo>
                        <a:pt x="55" y="1125"/>
                      </a:lnTo>
                      <a:lnTo>
                        <a:pt x="55" y="1283"/>
                      </a:lnTo>
                      <a:lnTo>
                        <a:pt x="0" y="12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6" name=""/>
                <p:cNvGrpSpPr/>
                <p:nvPr/>
              </p:nvGrpSpPr>
              <p:grpSpPr>
                <a:xfrm>
                  <a:off x="7575480" y="3098880"/>
                  <a:ext cx="398520" cy="439560"/>
                  <a:chOff x="7575480" y="3098880"/>
                  <a:chExt cx="398520" cy="43956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7799400" y="3138480"/>
                    <a:ext cx="17460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14">
                        <a:moveTo>
                          <a:pt x="0" y="128"/>
                        </a:moveTo>
                        <a:lnTo>
                          <a:pt x="326" y="0"/>
                        </a:lnTo>
                        <a:lnTo>
                          <a:pt x="330" y="1171"/>
                        </a:lnTo>
                        <a:lnTo>
                          <a:pt x="0" y="1514"/>
                        </a:lnTo>
                        <a:lnTo>
                          <a:pt x="0" y="128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98" name=""/>
                  <p:cNvGrpSpPr/>
                  <p:nvPr/>
                </p:nvGrpSpPr>
                <p:grpSpPr>
                  <a:xfrm>
                    <a:off x="7684920" y="3470400"/>
                    <a:ext cx="68400" cy="41040"/>
                    <a:chOff x="7684920" y="3470400"/>
                    <a:chExt cx="68400" cy="41040"/>
                  </a:xfrm>
                </p:grpSpPr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7723080" y="3478320"/>
                      <a:ext cx="30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14">
                          <a:moveTo>
                            <a:pt x="0" y="0"/>
                          </a:moveTo>
                          <a:lnTo>
                            <a:pt x="0" y="87"/>
                          </a:lnTo>
                          <a:lnTo>
                            <a:pt x="57" y="114"/>
                          </a:lnTo>
                          <a:lnTo>
                            <a:pt x="57" y="2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7684920" y="3470400"/>
                      <a:ext cx="3996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62">
                          <a:moveTo>
                            <a:pt x="0" y="0"/>
                          </a:moveTo>
                          <a:lnTo>
                            <a:pt x="0" y="162"/>
                          </a:lnTo>
                          <a:lnTo>
                            <a:pt x="74" y="116"/>
                          </a:lnTo>
                          <a:lnTo>
                            <a:pt x="74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7596360" y="3449520"/>
                    <a:ext cx="68040" cy="42840"/>
                    <a:chOff x="7596360" y="3449520"/>
                    <a:chExt cx="68040" cy="4284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7634160" y="3457440"/>
                      <a:ext cx="30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14">
                          <a:moveTo>
                            <a:pt x="0" y="0"/>
                          </a:moveTo>
                          <a:lnTo>
                            <a:pt x="0" y="88"/>
                          </a:lnTo>
                          <a:lnTo>
                            <a:pt x="57" y="114"/>
                          </a:lnTo>
                          <a:lnTo>
                            <a:pt x="57" y="2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7596360" y="3449520"/>
                      <a:ext cx="37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164">
                          <a:moveTo>
                            <a:pt x="0" y="0"/>
                          </a:moveTo>
                          <a:lnTo>
                            <a:pt x="0" y="164"/>
                          </a:lnTo>
                          <a:lnTo>
                            <a:pt x="73" y="118"/>
                          </a:lnTo>
                          <a:lnTo>
                            <a:pt x="73" y="3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4" name=""/>
                  <p:cNvGrpSpPr/>
                  <p:nvPr/>
                </p:nvGrpSpPr>
                <p:grpSpPr>
                  <a:xfrm>
                    <a:off x="7575480" y="3162240"/>
                    <a:ext cx="208080" cy="304920"/>
                    <a:chOff x="7575480" y="3162240"/>
                    <a:chExt cx="208080" cy="304920"/>
                  </a:xfrm>
                </p:grpSpPr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7583400" y="3162240"/>
                      <a:ext cx="189000" cy="3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8" h="1152">
                          <a:moveTo>
                            <a:pt x="0" y="0"/>
                          </a:moveTo>
                          <a:lnTo>
                            <a:pt x="358" y="62"/>
                          </a:lnTo>
                          <a:lnTo>
                            <a:pt x="358" y="1152"/>
                          </a:lnTo>
                          <a:lnTo>
                            <a:pt x="3" y="99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06" name=""/>
                    <p:cNvGrpSpPr/>
                    <p:nvPr/>
                  </p:nvGrpSpPr>
                  <p:grpSpPr>
                    <a:xfrm>
                      <a:off x="7575480" y="3162240"/>
                      <a:ext cx="208080" cy="298440"/>
                      <a:chOff x="7575480" y="3162240"/>
                      <a:chExt cx="208080" cy="298440"/>
                    </a:xfrm>
                  </p:grpSpPr>
                  <p:sp>
                    <p:nvSpPr>
                      <p:cNvPr id="1507" name=""/>
                      <p:cNvSpPr/>
                      <p:nvPr/>
                    </p:nvSpPr>
                    <p:spPr>
                      <a:xfrm>
                        <a:off x="7577280" y="3390840"/>
                        <a:ext cx="206280" cy="3672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8" name=""/>
                      <p:cNvSpPr/>
                      <p:nvPr/>
                    </p:nvSpPr>
                    <p:spPr>
                      <a:xfrm>
                        <a:off x="7575480" y="3352680"/>
                        <a:ext cx="206280" cy="3024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9" name=""/>
                      <p:cNvSpPr/>
                      <p:nvPr/>
                    </p:nvSpPr>
                    <p:spPr>
                      <a:xfrm>
                        <a:off x="7580160" y="3313080"/>
                        <a:ext cx="201600" cy="2700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0" name=""/>
                      <p:cNvSpPr/>
                      <p:nvPr/>
                    </p:nvSpPr>
                    <p:spPr>
                      <a:xfrm>
                        <a:off x="7578720" y="3271680"/>
                        <a:ext cx="201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1" name=""/>
                      <p:cNvSpPr/>
                      <p:nvPr/>
                    </p:nvSpPr>
                    <p:spPr>
                      <a:xfrm>
                        <a:off x="7581960" y="3232080"/>
                        <a:ext cx="198360" cy="2088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2" name=""/>
                      <p:cNvSpPr/>
                      <p:nvPr/>
                    </p:nvSpPr>
                    <p:spPr>
                      <a:xfrm>
                        <a:off x="7575480" y="3195720"/>
                        <a:ext cx="203400" cy="1908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3" name=""/>
                      <p:cNvSpPr/>
                      <p:nvPr/>
                    </p:nvSpPr>
                    <p:spPr>
                      <a:xfrm>
                        <a:off x="7623000" y="3162240"/>
                        <a:ext cx="1800" cy="27792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4" name=""/>
                      <p:cNvSpPr/>
                      <p:nvPr/>
                    </p:nvSpPr>
                    <p:spPr>
                      <a:xfrm>
                        <a:off x="7670880" y="3166920"/>
                        <a:ext cx="1440" cy="28440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5" name=""/>
                      <p:cNvSpPr/>
                      <p:nvPr/>
                    </p:nvSpPr>
                    <p:spPr>
                      <a:xfrm>
                        <a:off x="7721640" y="3170160"/>
                        <a:ext cx="1440" cy="29052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7653240" y="3098880"/>
                    <a:ext cx="243000" cy="61920"/>
                    <a:chOff x="7653240" y="3098880"/>
                    <a:chExt cx="243000" cy="61920"/>
                  </a:xfrm>
                </p:grpSpPr>
                <p:grpSp>
                  <p:nvGrpSpPr>
                    <p:cNvPr id="1517" name=""/>
                    <p:cNvGrpSpPr/>
                    <p:nvPr/>
                  </p:nvGrpSpPr>
                  <p:grpSpPr>
                    <a:xfrm>
                      <a:off x="7653240" y="3098880"/>
                      <a:ext cx="243000" cy="61920"/>
                      <a:chOff x="7653240" y="3098880"/>
                      <a:chExt cx="243000" cy="61920"/>
                    </a:xfrm>
                  </p:grpSpPr>
                  <p:sp>
                    <p:nvSpPr>
                      <p:cNvPr id="1518" name=""/>
                      <p:cNvSpPr/>
                      <p:nvPr/>
                    </p:nvSpPr>
                    <p:spPr>
                      <a:xfrm>
                        <a:off x="7653240" y="3098880"/>
                        <a:ext cx="2430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8" h="93">
                            <a:moveTo>
                              <a:pt x="0" y="60"/>
                            </a:moveTo>
                            <a:lnTo>
                              <a:pt x="267" y="93"/>
                            </a:lnTo>
                            <a:lnTo>
                              <a:pt x="458" y="31"/>
                            </a:lnTo>
                            <a:lnTo>
                              <a:pt x="199" y="0"/>
                            </a:lnTo>
                            <a:lnTo>
                              <a:pt x="0" y="60"/>
                            </a:lnTo>
                            <a:close/>
                          </a:path>
                        </a:pathLst>
                      </a:custGeom>
                      <a:solidFill>
                        <a:srgbClr val="df3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9" name=""/>
                      <p:cNvSpPr/>
                      <p:nvPr/>
                    </p:nvSpPr>
                    <p:spPr>
                      <a:xfrm>
                        <a:off x="7794720" y="3106800"/>
                        <a:ext cx="10008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204">
                            <a:moveTo>
                              <a:pt x="0" y="62"/>
                            </a:moveTo>
                            <a:lnTo>
                              <a:pt x="189" y="0"/>
                            </a:lnTo>
                            <a:lnTo>
                              <a:pt x="189" y="129"/>
                            </a:lnTo>
                            <a:lnTo>
                              <a:pt x="0" y="204"/>
                            </a:lnTo>
                            <a:lnTo>
                              <a:pt x="0" y="62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0" name=""/>
                      <p:cNvSpPr/>
                      <p:nvPr/>
                    </p:nvSpPr>
                    <p:spPr>
                      <a:xfrm>
                        <a:off x="7653240" y="3114720"/>
                        <a:ext cx="14148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6" h="175">
                            <a:moveTo>
                              <a:pt x="266" y="33"/>
                            </a:moveTo>
                            <a:lnTo>
                              <a:pt x="266" y="175"/>
                            </a:lnTo>
                            <a:lnTo>
                              <a:pt x="0" y="135"/>
                            </a:lnTo>
                            <a:lnTo>
                              <a:pt x="0" y="0"/>
                            </a:lnTo>
                            <a:lnTo>
                              <a:pt x="266" y="33"/>
                            </a:lnTo>
                            <a:close/>
                          </a:path>
                        </a:pathLst>
                      </a:custGeom>
                      <a:solidFill>
                        <a:srgbClr val="ff5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1" name=""/>
                    <p:cNvSpPr/>
                    <p:nvPr/>
                  </p:nvSpPr>
                  <p:spPr>
                    <a:xfrm>
                      <a:off x="7672320" y="3122640"/>
                      <a:ext cx="810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41">
                          <a:moveTo>
                            <a:pt x="1" y="0"/>
                          </a:moveTo>
                          <a:lnTo>
                            <a:pt x="153" y="16"/>
                          </a:lnTo>
                          <a:lnTo>
                            <a:pt x="153" y="41"/>
                          </a:lnTo>
                          <a:lnTo>
                            <a:pt x="0" y="2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22" name=""/>
              <p:cNvGrpSpPr/>
              <p:nvPr/>
            </p:nvGrpSpPr>
            <p:grpSpPr>
              <a:xfrm>
                <a:off x="7832880" y="3238560"/>
                <a:ext cx="387360" cy="352440"/>
                <a:chOff x="7832880" y="3238560"/>
                <a:chExt cx="387360" cy="352440"/>
              </a:xfrm>
            </p:grpSpPr>
            <p:grpSp>
              <p:nvGrpSpPr>
                <p:cNvPr id="1523" name=""/>
                <p:cNvGrpSpPr/>
                <p:nvPr/>
              </p:nvGrpSpPr>
              <p:grpSpPr>
                <a:xfrm>
                  <a:off x="7832880" y="3238560"/>
                  <a:ext cx="387360" cy="352440"/>
                  <a:chOff x="7832880" y="3238560"/>
                  <a:chExt cx="387360" cy="35244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7832880" y="3243240"/>
                    <a:ext cx="3873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2" h="363">
                        <a:moveTo>
                          <a:pt x="0" y="266"/>
                        </a:moveTo>
                        <a:lnTo>
                          <a:pt x="354" y="363"/>
                        </a:lnTo>
                        <a:lnTo>
                          <a:pt x="732" y="67"/>
                        </a:lnTo>
                        <a:lnTo>
                          <a:pt x="426" y="0"/>
                        </a:lnTo>
                        <a:lnTo>
                          <a:pt x="0" y="266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7832880" y="3314880"/>
                    <a:ext cx="18720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1048">
                        <a:moveTo>
                          <a:pt x="0" y="0"/>
                        </a:moveTo>
                        <a:lnTo>
                          <a:pt x="354" y="95"/>
                        </a:lnTo>
                        <a:lnTo>
                          <a:pt x="354" y="1048"/>
                        </a:lnTo>
                        <a:lnTo>
                          <a:pt x="0" y="89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8020080" y="3260880"/>
                    <a:ext cx="20016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247">
                        <a:moveTo>
                          <a:pt x="0" y="296"/>
                        </a:moveTo>
                        <a:lnTo>
                          <a:pt x="0" y="1247"/>
                        </a:lnTo>
                        <a:lnTo>
                          <a:pt x="378" y="795"/>
                        </a:lnTo>
                        <a:lnTo>
                          <a:pt x="378" y="0"/>
                        </a:lnTo>
                        <a:lnTo>
                          <a:pt x="0" y="296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27" name=""/>
                  <p:cNvGrpSpPr/>
                  <p:nvPr/>
                </p:nvGrpSpPr>
                <p:grpSpPr>
                  <a:xfrm>
                    <a:off x="7880400" y="3238560"/>
                    <a:ext cx="295200" cy="87120"/>
                    <a:chOff x="7880400" y="3238560"/>
                    <a:chExt cx="295200" cy="87120"/>
                  </a:xfrm>
                </p:grpSpPr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7880400" y="3238560"/>
                      <a:ext cx="29520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272">
                          <a:moveTo>
                            <a:pt x="0" y="204"/>
                          </a:moveTo>
                          <a:lnTo>
                            <a:pt x="254" y="272"/>
                          </a:lnTo>
                          <a:lnTo>
                            <a:pt x="558" y="45"/>
                          </a:lnTo>
                          <a:lnTo>
                            <a:pt x="333" y="0"/>
                          </a:lnTo>
                          <a:lnTo>
                            <a:pt x="0" y="204"/>
                          </a:lnTo>
                          <a:close/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8015400" y="3249720"/>
                      <a:ext cx="1602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285">
                          <a:moveTo>
                            <a:pt x="0" y="226"/>
                          </a:moveTo>
                          <a:lnTo>
                            <a:pt x="305" y="0"/>
                          </a:lnTo>
                          <a:lnTo>
                            <a:pt x="305" y="54"/>
                          </a:lnTo>
                          <a:lnTo>
                            <a:pt x="0" y="285"/>
                          </a:lnTo>
                          <a:lnTo>
                            <a:pt x="0" y="226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7880400" y="3292560"/>
                      <a:ext cx="13500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126">
                          <a:moveTo>
                            <a:pt x="253" y="67"/>
                          </a:moveTo>
                          <a:lnTo>
                            <a:pt x="253" y="126"/>
                          </a:lnTo>
                          <a:lnTo>
                            <a:pt x="0" y="56"/>
                          </a:lnTo>
                          <a:lnTo>
                            <a:pt x="0" y="0"/>
                          </a:lnTo>
                          <a:lnTo>
                            <a:pt x="253" y="67"/>
                          </a:lnTo>
                          <a:close/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7842240" y="3322800"/>
                  <a:ext cx="166680" cy="257040"/>
                  <a:chOff x="7842240" y="3322800"/>
                  <a:chExt cx="166680" cy="25704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7842240" y="3322800"/>
                    <a:ext cx="16668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70">
                        <a:moveTo>
                          <a:pt x="0" y="0"/>
                        </a:moveTo>
                        <a:lnTo>
                          <a:pt x="317" y="87"/>
                        </a:lnTo>
                        <a:lnTo>
                          <a:pt x="317" y="970"/>
                        </a:lnTo>
                        <a:lnTo>
                          <a:pt x="0" y="8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7866000" y="3325680"/>
                    <a:ext cx="1764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858">
                        <a:moveTo>
                          <a:pt x="1" y="0"/>
                        </a:moveTo>
                        <a:lnTo>
                          <a:pt x="0" y="845"/>
                        </a:lnTo>
                        <a:lnTo>
                          <a:pt x="32" y="858"/>
                        </a:lnTo>
                        <a:lnTo>
                          <a:pt x="33" y="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7912080" y="3330720"/>
                    <a:ext cx="1908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876">
                        <a:moveTo>
                          <a:pt x="0" y="0"/>
                        </a:moveTo>
                        <a:lnTo>
                          <a:pt x="0" y="860"/>
                        </a:lnTo>
                        <a:lnTo>
                          <a:pt x="34" y="876"/>
                        </a:lnTo>
                        <a:lnTo>
                          <a:pt x="36" y="1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7961400" y="3338640"/>
                    <a:ext cx="19080" cy="23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883">
                        <a:moveTo>
                          <a:pt x="1" y="0"/>
                        </a:moveTo>
                        <a:lnTo>
                          <a:pt x="0" y="864"/>
                        </a:lnTo>
                        <a:lnTo>
                          <a:pt x="37" y="883"/>
                        </a:lnTo>
                        <a:lnTo>
                          <a:pt x="35" y="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36" name=""/>
              <p:cNvGrpSpPr/>
              <p:nvPr/>
            </p:nvGrpSpPr>
            <p:grpSpPr>
              <a:xfrm>
                <a:off x="8101080" y="3255840"/>
                <a:ext cx="360360" cy="411120"/>
                <a:chOff x="8101080" y="3255840"/>
                <a:chExt cx="360360" cy="411120"/>
              </a:xfrm>
            </p:grpSpPr>
            <p:grpSp>
              <p:nvGrpSpPr>
                <p:cNvPr id="1537" name=""/>
                <p:cNvGrpSpPr/>
                <p:nvPr/>
              </p:nvGrpSpPr>
              <p:grpSpPr>
                <a:xfrm>
                  <a:off x="8101080" y="3255840"/>
                  <a:ext cx="360360" cy="411120"/>
                  <a:chOff x="8101080" y="3255840"/>
                  <a:chExt cx="360360" cy="411120"/>
                </a:xfrm>
              </p:grpSpPr>
              <p:grpSp>
                <p:nvGrpSpPr>
                  <p:cNvPr id="1538" name=""/>
                  <p:cNvGrpSpPr/>
                  <p:nvPr/>
                </p:nvGrpSpPr>
                <p:grpSpPr>
                  <a:xfrm>
                    <a:off x="8142120" y="3565440"/>
                    <a:ext cx="279720" cy="101520"/>
                    <a:chOff x="8142120" y="3565440"/>
                    <a:chExt cx="279720" cy="101520"/>
                  </a:xfrm>
                </p:grpSpPr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8142120" y="3603600"/>
                      <a:ext cx="1796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238">
                          <a:moveTo>
                            <a:pt x="0" y="0"/>
                          </a:moveTo>
                          <a:lnTo>
                            <a:pt x="0" y="71"/>
                          </a:lnTo>
                          <a:lnTo>
                            <a:pt x="338" y="238"/>
                          </a:lnTo>
                          <a:lnTo>
                            <a:pt x="338" y="1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8321760" y="3565440"/>
                      <a:ext cx="10008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383">
                          <a:moveTo>
                            <a:pt x="0" y="308"/>
                          </a:moveTo>
                          <a:lnTo>
                            <a:pt x="0" y="383"/>
                          </a:lnTo>
                          <a:lnTo>
                            <a:pt x="190" y="60"/>
                          </a:lnTo>
                          <a:lnTo>
                            <a:pt x="190" y="0"/>
                          </a:lnTo>
                          <a:lnTo>
                            <a:pt x="0" y="308"/>
                          </a:lnTo>
                          <a:close/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1" name=""/>
                  <p:cNvSpPr/>
                  <p:nvPr/>
                </p:nvSpPr>
                <p:spPr>
                  <a:xfrm>
                    <a:off x="8101080" y="3497400"/>
                    <a:ext cx="36036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680" h="589">
                        <a:moveTo>
                          <a:pt x="0" y="370"/>
                        </a:moveTo>
                        <a:lnTo>
                          <a:pt x="452" y="589"/>
                        </a:lnTo>
                        <a:lnTo>
                          <a:pt x="680" y="199"/>
                        </a:lnTo>
                        <a:lnTo>
                          <a:pt x="247" y="0"/>
                        </a:lnTo>
                        <a:lnTo>
                          <a:pt x="0" y="37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8134200" y="3400560"/>
                    <a:ext cx="282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335">
                        <a:moveTo>
                          <a:pt x="353" y="335"/>
                        </a:moveTo>
                        <a:lnTo>
                          <a:pt x="536" y="116"/>
                        </a:lnTo>
                        <a:lnTo>
                          <a:pt x="202" y="0"/>
                        </a:lnTo>
                        <a:lnTo>
                          <a:pt x="0" y="214"/>
                        </a:lnTo>
                        <a:lnTo>
                          <a:pt x="353" y="335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8277120" y="3255840"/>
                    <a:ext cx="9684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393">
                        <a:moveTo>
                          <a:pt x="0" y="0"/>
                        </a:moveTo>
                        <a:lnTo>
                          <a:pt x="45" y="393"/>
                        </a:lnTo>
                        <a:lnTo>
                          <a:pt x="185" y="2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8191440" y="3255840"/>
                    <a:ext cx="10944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95">
                        <a:moveTo>
                          <a:pt x="163" y="0"/>
                        </a:moveTo>
                        <a:lnTo>
                          <a:pt x="207" y="395"/>
                        </a:lnTo>
                        <a:lnTo>
                          <a:pt x="0" y="354"/>
                        </a:lnTo>
                        <a:lnTo>
                          <a:pt x="163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8191440" y="3349800"/>
                    <a:ext cx="1080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77">
                        <a:moveTo>
                          <a:pt x="0" y="0"/>
                        </a:moveTo>
                        <a:lnTo>
                          <a:pt x="206" y="40"/>
                        </a:lnTo>
                        <a:lnTo>
                          <a:pt x="206" y="477"/>
                        </a:lnTo>
                        <a:lnTo>
                          <a:pt x="0" y="40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8299440" y="3325680"/>
                    <a:ext cx="74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568">
                        <a:moveTo>
                          <a:pt x="0" y="130"/>
                        </a:moveTo>
                        <a:lnTo>
                          <a:pt x="140" y="0"/>
                        </a:lnTo>
                        <a:lnTo>
                          <a:pt x="140" y="406"/>
                        </a:lnTo>
                        <a:lnTo>
                          <a:pt x="0" y="568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8134200" y="3457440"/>
                    <a:ext cx="18576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1" h="640">
                        <a:moveTo>
                          <a:pt x="0" y="0"/>
                        </a:moveTo>
                        <a:lnTo>
                          <a:pt x="351" y="121"/>
                        </a:lnTo>
                        <a:lnTo>
                          <a:pt x="351" y="640"/>
                        </a:lnTo>
                        <a:lnTo>
                          <a:pt x="0" y="4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8319960" y="3432240"/>
                    <a:ext cx="9684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739">
                        <a:moveTo>
                          <a:pt x="0" y="220"/>
                        </a:moveTo>
                        <a:lnTo>
                          <a:pt x="184" y="0"/>
                        </a:lnTo>
                        <a:lnTo>
                          <a:pt x="184" y="443"/>
                        </a:lnTo>
                        <a:lnTo>
                          <a:pt x="0" y="739"/>
                        </a:lnTo>
                        <a:lnTo>
                          <a:pt x="0" y="22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9" name=""/>
                <p:cNvGrpSpPr/>
                <p:nvPr/>
              </p:nvGrpSpPr>
              <p:grpSpPr>
                <a:xfrm>
                  <a:off x="8169120" y="3363840"/>
                  <a:ext cx="114480" cy="235080"/>
                  <a:chOff x="8169120" y="3363840"/>
                  <a:chExt cx="114480" cy="235080"/>
                </a:xfrm>
              </p:grpSpPr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8226360" y="3363840"/>
                    <a:ext cx="39240" cy="66600"/>
                    <a:chOff x="8226360" y="3363840"/>
                    <a:chExt cx="39240" cy="6660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>
                      <a:off x="8234640" y="3363840"/>
                      <a:ext cx="3096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58126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581268"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>
                      <a:off x="8228160" y="3363840"/>
                      <a:ext cx="248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2" y="9321"/>
                          </a:moveTo>
                          <a:arcTo wR="10800" hR="10800" stAng="-10327855" swAng="453476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2" y="9321"/>
                          </a:moveTo>
                          <a:arcTo wR="10800" hR="10800" stAng="-10327855" swAng="4534766"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8226360" y="3395520"/>
                      <a:ext cx="12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13">
                          <a:moveTo>
                            <a:pt x="0" y="0"/>
                          </a:moveTo>
                          <a:lnTo>
                            <a:pt x="0" y="104"/>
                          </a:lnTo>
                          <a:lnTo>
                            <a:pt x="24" y="113"/>
                          </a:lnTo>
                          <a:lnTo>
                            <a:pt x="24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4" name=""/>
                    <p:cNvSpPr/>
                    <p:nvPr/>
                  </p:nvSpPr>
                  <p:spPr>
                    <a:xfrm>
                      <a:off x="8250120" y="3400560"/>
                      <a:ext cx="129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12">
                          <a:moveTo>
                            <a:pt x="0" y="0"/>
                          </a:moveTo>
                          <a:lnTo>
                            <a:pt x="0" y="104"/>
                          </a:lnTo>
                          <a:lnTo>
                            <a:pt x="24" y="112"/>
                          </a:lnTo>
                          <a:lnTo>
                            <a:pt x="24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55" name=""/>
                  <p:cNvGrpSpPr/>
                  <p:nvPr/>
                </p:nvGrpSpPr>
                <p:grpSpPr>
                  <a:xfrm>
                    <a:off x="8169120" y="3494160"/>
                    <a:ext cx="114480" cy="104760"/>
                    <a:chOff x="8169120" y="3494160"/>
                    <a:chExt cx="114480" cy="104760"/>
                  </a:xfrm>
                </p:grpSpPr>
                <p:sp>
                  <p:nvSpPr>
                    <p:cNvPr id="1556" name=""/>
                    <p:cNvSpPr/>
                    <p:nvPr/>
                  </p:nvSpPr>
                  <p:spPr>
                    <a:xfrm>
                      <a:off x="8169120" y="3530520"/>
                      <a:ext cx="1144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257">
                          <a:moveTo>
                            <a:pt x="0" y="0"/>
                          </a:moveTo>
                          <a:lnTo>
                            <a:pt x="0" y="161"/>
                          </a:lnTo>
                          <a:lnTo>
                            <a:pt x="217" y="257"/>
                          </a:lnTo>
                          <a:lnTo>
                            <a:pt x="217" y="9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7" name=""/>
                    <p:cNvSpPr/>
                    <p:nvPr/>
                  </p:nvSpPr>
                  <p:spPr>
                    <a:xfrm>
                      <a:off x="8170920" y="3494160"/>
                      <a:ext cx="1080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192">
                          <a:moveTo>
                            <a:pt x="0" y="0"/>
                          </a:moveTo>
                          <a:lnTo>
                            <a:pt x="0" y="111"/>
                          </a:lnTo>
                          <a:lnTo>
                            <a:pt x="205" y="192"/>
                          </a:lnTo>
                          <a:lnTo>
                            <a:pt x="205" y="8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558" name=""/>
            <p:cNvSpPr/>
            <p:nvPr/>
          </p:nvSpPr>
          <p:spPr>
            <a:xfrm>
              <a:off x="5211720" y="2190600"/>
              <a:ext cx="916200" cy="1793880"/>
            </a:xfrm>
            <a:prstGeom prst="rect">
              <a:avLst/>
            </a:prstGeom>
            <a:solidFill>
              <a:srgbClr val="66ffff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73680" y="2259000"/>
              <a:ext cx="1686240" cy="331920"/>
            </a:xfrm>
            <a:prstGeom prst="rect">
              <a:avLst/>
            </a:prstGeom>
            <a:solidFill>
              <a:srgbClr val="66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52520" y="230832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Comerci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67360" y="1714680"/>
              <a:ext cx="3848040" cy="250164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206760" y="3567240"/>
              <a:ext cx="110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ff"/>
                  </a:solidFill>
                  <a:latin typeface="Times New Roman"/>
                </a:rPr>
                <a:t>Preci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3" name=""/>
          <p:cNvSpPr/>
          <p:nvPr/>
        </p:nvSpPr>
        <p:spPr>
          <a:xfrm>
            <a:off x="5423040" y="2959200"/>
            <a:ext cx="48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4343400" y="3787920"/>
            <a:ext cx="3809880" cy="2815920"/>
            <a:chOff x="4343400" y="3787920"/>
            <a:chExt cx="3809880" cy="2815920"/>
          </a:xfrm>
        </p:grpSpPr>
        <p:sp>
          <p:nvSpPr>
            <p:cNvPr id="1565" name=""/>
            <p:cNvSpPr/>
            <p:nvPr/>
          </p:nvSpPr>
          <p:spPr>
            <a:xfrm>
              <a:off x="6064200" y="5859360"/>
              <a:ext cx="1685880" cy="331920"/>
            </a:xfrm>
            <a:prstGeom prst="rect">
              <a:avLst/>
            </a:prstGeom>
            <a:solidFill>
              <a:srgbClr val="ff505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687920" y="4886280"/>
              <a:ext cx="906480" cy="1511280"/>
            </a:xfrm>
            <a:prstGeom prst="rect">
              <a:avLst/>
            </a:prstGeom>
            <a:solidFill>
              <a:srgbClr val="ff7c80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071680" y="5524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122880" y="5900760"/>
              <a:ext cx="1152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292929"/>
                  </a:solidFill>
                  <a:latin typeface="Times New Roman"/>
                </a:rPr>
                <a:t>Distribu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43400" y="4495680"/>
              <a:ext cx="3809880" cy="210816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0" name=""/>
            <p:cNvGrpSpPr/>
            <p:nvPr/>
          </p:nvGrpSpPr>
          <p:grpSpPr>
            <a:xfrm>
              <a:off x="5700960" y="3787920"/>
              <a:ext cx="2301480" cy="1521360"/>
              <a:chOff x="5700960" y="3787920"/>
              <a:chExt cx="2301480" cy="1521360"/>
            </a:xfrm>
          </p:grpSpPr>
          <p:sp>
            <p:nvSpPr>
              <p:cNvPr id="1571" name=""/>
              <p:cNvSpPr/>
              <p:nvPr/>
            </p:nvSpPr>
            <p:spPr>
              <a:xfrm rot="19668000">
                <a:off x="5525640" y="4584240"/>
                <a:ext cx="2498400" cy="64080"/>
              </a:xfrm>
              <a:custGeom>
                <a:avLst/>
                <a:gdLst/>
                <a:ahLst/>
                <a:rect l="l" t="t" r="r" b="b"/>
                <a:pathLst>
                  <a:path w="2872" h="58">
                    <a:moveTo>
                      <a:pt x="0" y="0"/>
                    </a:moveTo>
                    <a:lnTo>
                      <a:pt x="0" y="53"/>
                    </a:lnTo>
                    <a:lnTo>
                      <a:pt x="2872" y="58"/>
                    </a:lnTo>
                    <a:lnTo>
                      <a:pt x="287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19668000">
                <a:off x="7767720" y="3819240"/>
                <a:ext cx="186120" cy="234720"/>
              </a:xfrm>
              <a:custGeom>
                <a:avLst/>
                <a:gdLst/>
                <a:ahLst/>
                <a:rect l="l" t="t" r="r" b="b"/>
                <a:pathLst>
                  <a:path w="213" h="211">
                    <a:moveTo>
                      <a:pt x="0" y="211"/>
                    </a:moveTo>
                    <a:lnTo>
                      <a:pt x="213" y="106"/>
                    </a:lnTo>
                    <a:lnTo>
                      <a:pt x="0" y="0"/>
                    </a:lnTo>
                    <a:lnTo>
                      <a:pt x="67" y="10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3" name=""/>
            <p:cNvSpPr/>
            <p:nvPr/>
          </p:nvSpPr>
          <p:spPr>
            <a:xfrm>
              <a:off x="6858000" y="48513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V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II Los defectos del contrato regul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rato” reg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bastecimiento a todo evento a precio de nu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a usted le cortan la luz, lo compensan a costo de falla (22,8 centavos/KWh contra 9 ó 4 centavos/KW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ensación se paga cuando hay un decreto de ra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gulador define las condiciones del decr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l mecanismo de compens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9" name="" descr=""/>
          <p:cNvPicPr/>
          <p:nvPr/>
        </p:nvPicPr>
        <p:blipFill>
          <a:blip r:embed="rId1"/>
          <a:stretch/>
        </p:blipFill>
        <p:spPr>
          <a:xfrm>
            <a:off x="1951200" y="1600200"/>
            <a:ext cx="5240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ecto 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El contrato impone una sola condición de abastecimiento; impide que los consumidores elijan el riesgo que asumen; la matriz energética es más 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ecto 2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l contrato regulado es difuso; riesgos los asigna el gobierno durante la crisis con la vista puesta en e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eople 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ecto 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Las compensaciones son inflexibles; el precio de nudo impide que los usuarios contraten libremente sus restricciones de consumo en escas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ecto 4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En la práctica, se raciona mediante cortes; esto es mucho más caro que lo neces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IV La propues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"/>
          <p:cNvGrpSpPr/>
          <p:nvPr/>
        </p:nvGrpSpPr>
        <p:grpSpPr>
          <a:xfrm>
            <a:off x="1054080" y="1676520"/>
            <a:ext cx="2222640" cy="4343400"/>
            <a:chOff x="1054080" y="1676520"/>
            <a:chExt cx="2222640" cy="4343400"/>
          </a:xfrm>
        </p:grpSpPr>
        <p:sp>
          <p:nvSpPr>
            <p:cNvPr id="1584" name=""/>
            <p:cNvSpPr/>
            <p:nvPr/>
          </p:nvSpPr>
          <p:spPr>
            <a:xfrm>
              <a:off x="2065320" y="4605480"/>
              <a:ext cx="708120" cy="50292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73240" y="2695680"/>
              <a:ext cx="696960" cy="49356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08240" y="2746440"/>
              <a:ext cx="39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83480" y="27939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447640" y="291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135080" y="3649680"/>
              <a:ext cx="735120" cy="457200"/>
            </a:xfrm>
            <a:custGeom>
              <a:avLst/>
              <a:gdLst/>
              <a:ahLst/>
              <a:rect l="l" t="t" r="r" b="b"/>
              <a:pathLst>
                <a:path w="924" h="578">
                  <a:moveTo>
                    <a:pt x="71" y="0"/>
                  </a:moveTo>
                  <a:lnTo>
                    <a:pt x="56" y="2"/>
                  </a:lnTo>
                  <a:lnTo>
                    <a:pt x="43" y="5"/>
                  </a:lnTo>
                  <a:lnTo>
                    <a:pt x="31" y="12"/>
                  </a:lnTo>
                  <a:lnTo>
                    <a:pt x="21" y="22"/>
                  </a:lnTo>
                  <a:lnTo>
                    <a:pt x="11" y="32"/>
                  </a:lnTo>
                  <a:lnTo>
                    <a:pt x="5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06"/>
                  </a:lnTo>
                  <a:lnTo>
                    <a:pt x="1" y="521"/>
                  </a:lnTo>
                  <a:lnTo>
                    <a:pt x="5" y="534"/>
                  </a:lnTo>
                  <a:lnTo>
                    <a:pt x="11" y="546"/>
                  </a:lnTo>
                  <a:lnTo>
                    <a:pt x="21" y="558"/>
                  </a:lnTo>
                  <a:lnTo>
                    <a:pt x="31" y="566"/>
                  </a:lnTo>
                  <a:lnTo>
                    <a:pt x="43" y="573"/>
                  </a:lnTo>
                  <a:lnTo>
                    <a:pt x="56" y="576"/>
                  </a:lnTo>
                  <a:lnTo>
                    <a:pt x="71" y="578"/>
                  </a:lnTo>
                  <a:lnTo>
                    <a:pt x="852" y="578"/>
                  </a:lnTo>
                  <a:lnTo>
                    <a:pt x="867" y="576"/>
                  </a:lnTo>
                  <a:lnTo>
                    <a:pt x="881" y="573"/>
                  </a:lnTo>
                  <a:lnTo>
                    <a:pt x="892" y="566"/>
                  </a:lnTo>
                  <a:lnTo>
                    <a:pt x="904" y="558"/>
                  </a:lnTo>
                  <a:lnTo>
                    <a:pt x="912" y="546"/>
                  </a:lnTo>
                  <a:lnTo>
                    <a:pt x="919" y="534"/>
                  </a:lnTo>
                  <a:lnTo>
                    <a:pt x="922" y="521"/>
                  </a:lnTo>
                  <a:lnTo>
                    <a:pt x="924" y="506"/>
                  </a:lnTo>
                  <a:lnTo>
                    <a:pt x="924" y="72"/>
                  </a:lnTo>
                  <a:lnTo>
                    <a:pt x="922" y="57"/>
                  </a:lnTo>
                  <a:lnTo>
                    <a:pt x="919" y="44"/>
                  </a:lnTo>
                  <a:lnTo>
                    <a:pt x="912" y="32"/>
                  </a:lnTo>
                  <a:lnTo>
                    <a:pt x="904" y="22"/>
                  </a:lnTo>
                  <a:lnTo>
                    <a:pt x="892" y="12"/>
                  </a:lnTo>
                  <a:lnTo>
                    <a:pt x="881" y="5"/>
                  </a:lnTo>
                  <a:lnTo>
                    <a:pt x="867" y="2"/>
                  </a:lnTo>
                  <a:lnTo>
                    <a:pt x="85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c9900"/>
            </a:solidFill>
            <a:ln w="1116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200240" y="3760920"/>
              <a:ext cx="59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CDE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1" name=""/>
            <p:cNvGrpSpPr/>
            <p:nvPr/>
          </p:nvGrpSpPr>
          <p:grpSpPr>
            <a:xfrm>
              <a:off x="1871640" y="3144960"/>
              <a:ext cx="333360" cy="485640"/>
              <a:chOff x="1871640" y="3144960"/>
              <a:chExt cx="333360" cy="485640"/>
            </a:xfrm>
          </p:grpSpPr>
          <p:sp>
            <p:nvSpPr>
              <p:cNvPr id="1592" name=""/>
              <p:cNvSpPr/>
              <p:nvPr/>
            </p:nvSpPr>
            <p:spPr>
              <a:xfrm>
                <a:off x="1871640" y="35877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9" y="9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9" y="45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5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9" y="7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919160" y="3517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7" y="7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967040" y="34480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6" y="6"/>
                    </a:moveTo>
                    <a:lnTo>
                      <a:pt x="1" y="16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6" y="45"/>
                    </a:lnTo>
                    <a:lnTo>
                      <a:pt x="15" y="51"/>
                    </a:lnTo>
                    <a:lnTo>
                      <a:pt x="26" y="53"/>
                    </a:lnTo>
                    <a:lnTo>
                      <a:pt x="36" y="51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0" y="36"/>
                    </a:lnTo>
                    <a:lnTo>
                      <a:pt x="53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6" y="1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013120" y="337824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7"/>
                    </a:moveTo>
                    <a:lnTo>
                      <a:pt x="3" y="17"/>
                    </a:lnTo>
                    <a:lnTo>
                      <a:pt x="0" y="27"/>
                    </a:lnTo>
                    <a:lnTo>
                      <a:pt x="3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8" y="52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lnTo>
                      <a:pt x="47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062080" y="3306600"/>
                <a:ext cx="41400" cy="432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6"/>
                    </a:move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5"/>
                    </a:ln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09960" y="323676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7" y="7"/>
                    </a:moveTo>
                    <a:lnTo>
                      <a:pt x="2" y="15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0"/>
                    </a:lnTo>
                    <a:lnTo>
                      <a:pt x="27" y="54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5"/>
                    </a:lnTo>
                    <a:lnTo>
                      <a:pt x="45" y="7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041560" y="3144960"/>
                <a:ext cx="163440" cy="187200"/>
              </a:xfrm>
              <a:custGeom>
                <a:avLst/>
                <a:gdLst/>
                <a:ahLst/>
                <a:rect l="l" t="t" r="r" b="b"/>
                <a:pathLst>
                  <a:path w="207" h="237">
                    <a:moveTo>
                      <a:pt x="179" y="237"/>
                    </a:moveTo>
                    <a:lnTo>
                      <a:pt x="207" y="0"/>
                    </a:lnTo>
                    <a:lnTo>
                      <a:pt x="0" y="119"/>
                    </a:lnTo>
                    <a:lnTo>
                      <a:pt x="127" y="121"/>
                    </a:lnTo>
                    <a:lnTo>
                      <a:pt x="179" y="23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1973160" y="4165560"/>
              <a:ext cx="285840" cy="460440"/>
              <a:chOff x="1973160" y="4165560"/>
              <a:chExt cx="285840" cy="460440"/>
            </a:xfrm>
          </p:grpSpPr>
          <p:sp>
            <p:nvSpPr>
              <p:cNvPr id="1600" name=""/>
              <p:cNvSpPr/>
              <p:nvPr/>
            </p:nvSpPr>
            <p:spPr>
              <a:xfrm>
                <a:off x="1973160" y="41655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7"/>
                    </a:move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017800" y="42386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062080" y="431172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5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104920" y="43830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8"/>
                    </a:lnTo>
                    <a:lnTo>
                      <a:pt x="37" y="3"/>
                    </a:lnTo>
                    <a:lnTo>
                      <a:pt x="27" y="0"/>
                    </a:lnTo>
                    <a:lnTo>
                      <a:pt x="17" y="3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6"/>
                    </a:lnTo>
                    <a:lnTo>
                      <a:pt x="17" y="51"/>
                    </a:lnTo>
                    <a:lnTo>
                      <a:pt x="27" y="53"/>
                    </a:lnTo>
                    <a:lnTo>
                      <a:pt x="37" y="51"/>
                    </a:lnTo>
                    <a:lnTo>
                      <a:pt x="45" y="46"/>
                    </a:lnTo>
                    <a:lnTo>
                      <a:pt x="52" y="38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149560" y="44560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2" y="17"/>
                    </a:moveTo>
                    <a:lnTo>
                      <a:pt x="47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9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7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098800" y="4435560"/>
                <a:ext cx="160200" cy="190440"/>
              </a:xfrm>
              <a:custGeom>
                <a:avLst/>
                <a:gdLst/>
                <a:ahLst/>
                <a:rect l="l" t="t" r="r" b="b"/>
                <a:pathLst>
                  <a:path w="202" h="239">
                    <a:moveTo>
                      <a:pt x="0" y="111"/>
                    </a:moveTo>
                    <a:lnTo>
                      <a:pt x="202" y="239"/>
                    </a:lnTo>
                    <a:lnTo>
                      <a:pt x="183" y="0"/>
                    </a:lnTo>
                    <a:lnTo>
                      <a:pt x="125" y="11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2228760" y="3240000"/>
              <a:ext cx="176400" cy="1355760"/>
              <a:chOff x="2228760" y="3240000"/>
              <a:chExt cx="176400" cy="1355760"/>
            </a:xfrm>
          </p:grpSpPr>
          <p:sp>
            <p:nvSpPr>
              <p:cNvPr id="1607" name=""/>
              <p:cNvSpPr/>
              <p:nvPr/>
            </p:nvSpPr>
            <p:spPr>
              <a:xfrm>
                <a:off x="2290680" y="3403440"/>
                <a:ext cx="50760" cy="1025640"/>
              </a:xfrm>
              <a:custGeom>
                <a:avLst/>
                <a:gdLst/>
                <a:ahLst/>
                <a:rect l="l" t="t" r="r" b="b"/>
                <a:pathLst>
                  <a:path w="63" h="1292">
                    <a:moveTo>
                      <a:pt x="0" y="1292"/>
                    </a:moveTo>
                    <a:lnTo>
                      <a:pt x="53" y="129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228760" y="4425840"/>
                <a:ext cx="168480" cy="169920"/>
              </a:xfrm>
              <a:custGeom>
                <a:avLst/>
                <a:gdLst/>
                <a:ahLst/>
                <a:rect l="l" t="t" r="r" b="b"/>
                <a:pathLst>
                  <a:path w="214" h="215">
                    <a:moveTo>
                      <a:pt x="0" y="0"/>
                    </a:moveTo>
                    <a:lnTo>
                      <a:pt x="105" y="215"/>
                    </a:lnTo>
                    <a:lnTo>
                      <a:pt x="2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235240" y="32400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213" h="213">
                    <a:moveTo>
                      <a:pt x="213" y="213"/>
                    </a:moveTo>
                    <a:lnTo>
                      <a:pt x="110" y="0"/>
                    </a:lnTo>
                    <a:lnTo>
                      <a:pt x="0" y="211"/>
                    </a:lnTo>
                    <a:lnTo>
                      <a:pt x="213" y="21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0" name=""/>
            <p:cNvSpPr/>
            <p:nvPr/>
          </p:nvSpPr>
          <p:spPr>
            <a:xfrm>
              <a:off x="1293840" y="2259000"/>
              <a:ext cx="1592280" cy="331920"/>
            </a:xfrm>
            <a:prstGeom prst="rect">
              <a:avLst/>
            </a:prstGeom>
            <a:solidFill>
              <a:srgbClr val="66ff66"/>
            </a:solidFill>
            <a:ln w="79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366200" y="2308320"/>
              <a:ext cx="143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292929"/>
                  </a:solidFill>
                  <a:latin typeface="Times New Roman"/>
                </a:rPr>
                <a:t>GENERAC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200320" y="4673520"/>
              <a:ext cx="415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275560" y="4721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40080" y="484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679840" y="372600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755440" y="3772080"/>
              <a:ext cx="37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500" spc="-1" strike="noStrike">
                  <a:solidFill>
                    <a:srgbClr val="cc9900"/>
                  </a:solidFill>
                  <a:latin typeface="Times New Roman"/>
                </a:rPr>
                <a:t>Cm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973160" y="3794040"/>
              <a:ext cx="550800" cy="168480"/>
              <a:chOff x="1973160" y="3794040"/>
              <a:chExt cx="550800" cy="168480"/>
            </a:xfrm>
          </p:grpSpPr>
          <p:sp>
            <p:nvSpPr>
              <p:cNvPr id="1618" name=""/>
              <p:cNvSpPr/>
              <p:nvPr/>
            </p:nvSpPr>
            <p:spPr>
              <a:xfrm>
                <a:off x="1973160" y="3855960"/>
                <a:ext cx="436680" cy="44640"/>
              </a:xfrm>
              <a:custGeom>
                <a:avLst/>
                <a:gdLst/>
                <a:ahLst/>
                <a:rect l="l" t="t" r="r" b="b"/>
                <a:pathLst>
                  <a:path w="549" h="56">
                    <a:moveTo>
                      <a:pt x="0" y="3"/>
                    </a:moveTo>
                    <a:lnTo>
                      <a:pt x="0" y="56"/>
                    </a:lnTo>
                    <a:lnTo>
                      <a:pt x="549" y="53"/>
                    </a:lnTo>
                    <a:lnTo>
                      <a:pt x="54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352600" y="3794040"/>
                <a:ext cx="171360" cy="168480"/>
              </a:xfrm>
              <a:custGeom>
                <a:avLst/>
                <a:gdLst/>
                <a:ahLst/>
                <a:rect l="l" t="t" r="r" b="b"/>
                <a:pathLst>
                  <a:path w="215" h="214">
                    <a:moveTo>
                      <a:pt x="2" y="214"/>
                    </a:moveTo>
                    <a:lnTo>
                      <a:pt x="215" y="104"/>
                    </a:lnTo>
                    <a:lnTo>
                      <a:pt x="0" y="0"/>
                    </a:lnTo>
                    <a:lnTo>
                      <a:pt x="68" y="107"/>
                    </a:lnTo>
                    <a:lnTo>
                      <a:pt x="2" y="21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0" name=""/>
            <p:cNvSpPr/>
            <p:nvPr/>
          </p:nvSpPr>
          <p:spPr>
            <a:xfrm>
              <a:off x="2070000" y="4610160"/>
              <a:ext cx="698760" cy="49356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073240" y="2695680"/>
              <a:ext cx="696960" cy="493560"/>
            </a:xfrm>
            <a:prstGeom prst="ellipse">
              <a:avLst/>
            </a:prstGeom>
            <a:solidFill>
              <a:srgbClr val="33cc33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08240" y="2746440"/>
              <a:ext cx="393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283480" y="27939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447640" y="2916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135080" y="3649680"/>
              <a:ext cx="735120" cy="457200"/>
            </a:xfrm>
            <a:custGeom>
              <a:avLst/>
              <a:gdLst/>
              <a:ahLst/>
              <a:rect l="l" t="t" r="r" b="b"/>
              <a:pathLst>
                <a:path w="924" h="578">
                  <a:moveTo>
                    <a:pt x="71" y="0"/>
                  </a:moveTo>
                  <a:lnTo>
                    <a:pt x="56" y="2"/>
                  </a:lnTo>
                  <a:lnTo>
                    <a:pt x="43" y="5"/>
                  </a:lnTo>
                  <a:lnTo>
                    <a:pt x="31" y="12"/>
                  </a:lnTo>
                  <a:lnTo>
                    <a:pt x="21" y="22"/>
                  </a:lnTo>
                  <a:lnTo>
                    <a:pt x="11" y="32"/>
                  </a:lnTo>
                  <a:lnTo>
                    <a:pt x="5" y="44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506"/>
                  </a:lnTo>
                  <a:lnTo>
                    <a:pt x="1" y="521"/>
                  </a:lnTo>
                  <a:lnTo>
                    <a:pt x="5" y="534"/>
                  </a:lnTo>
                  <a:lnTo>
                    <a:pt x="11" y="546"/>
                  </a:lnTo>
                  <a:lnTo>
                    <a:pt x="21" y="558"/>
                  </a:lnTo>
                  <a:lnTo>
                    <a:pt x="31" y="566"/>
                  </a:lnTo>
                  <a:lnTo>
                    <a:pt x="43" y="573"/>
                  </a:lnTo>
                  <a:lnTo>
                    <a:pt x="56" y="576"/>
                  </a:lnTo>
                  <a:lnTo>
                    <a:pt x="71" y="578"/>
                  </a:lnTo>
                  <a:lnTo>
                    <a:pt x="852" y="578"/>
                  </a:lnTo>
                  <a:lnTo>
                    <a:pt x="867" y="576"/>
                  </a:lnTo>
                  <a:lnTo>
                    <a:pt x="881" y="573"/>
                  </a:lnTo>
                  <a:lnTo>
                    <a:pt x="892" y="566"/>
                  </a:lnTo>
                  <a:lnTo>
                    <a:pt x="904" y="558"/>
                  </a:lnTo>
                  <a:lnTo>
                    <a:pt x="912" y="546"/>
                  </a:lnTo>
                  <a:lnTo>
                    <a:pt x="919" y="534"/>
                  </a:lnTo>
                  <a:lnTo>
                    <a:pt x="922" y="521"/>
                  </a:lnTo>
                  <a:lnTo>
                    <a:pt x="924" y="506"/>
                  </a:lnTo>
                  <a:lnTo>
                    <a:pt x="924" y="72"/>
                  </a:lnTo>
                  <a:lnTo>
                    <a:pt x="922" y="57"/>
                  </a:lnTo>
                  <a:lnTo>
                    <a:pt x="919" y="44"/>
                  </a:lnTo>
                  <a:lnTo>
                    <a:pt x="912" y="32"/>
                  </a:lnTo>
                  <a:lnTo>
                    <a:pt x="904" y="22"/>
                  </a:lnTo>
                  <a:lnTo>
                    <a:pt x="892" y="12"/>
                  </a:lnTo>
                  <a:lnTo>
                    <a:pt x="881" y="5"/>
                  </a:lnTo>
                  <a:lnTo>
                    <a:pt x="867" y="2"/>
                  </a:lnTo>
                  <a:lnTo>
                    <a:pt x="852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c9900"/>
            </a:solidFill>
            <a:ln w="11160">
              <a:solidFill>
                <a:srgbClr val="29292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199160" y="3760920"/>
              <a:ext cx="616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cc3300"/>
                  </a:solidFill>
                  <a:latin typeface="Times New Roman"/>
                </a:rPr>
                <a:t>CDE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1871640" y="3144960"/>
              <a:ext cx="333360" cy="485640"/>
              <a:chOff x="1871640" y="3144960"/>
              <a:chExt cx="333360" cy="485640"/>
            </a:xfrm>
          </p:grpSpPr>
          <p:sp>
            <p:nvSpPr>
              <p:cNvPr id="1628" name=""/>
              <p:cNvSpPr/>
              <p:nvPr/>
            </p:nvSpPr>
            <p:spPr>
              <a:xfrm>
                <a:off x="1871640" y="35877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9" y="9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9" y="45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5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9" y="7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919160" y="3517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7" y="7"/>
                    </a:move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lnTo>
                      <a:pt x="46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967040" y="344808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6" y="6"/>
                    </a:moveTo>
                    <a:lnTo>
                      <a:pt x="1" y="16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6" y="45"/>
                    </a:lnTo>
                    <a:lnTo>
                      <a:pt x="15" y="51"/>
                    </a:lnTo>
                    <a:lnTo>
                      <a:pt x="26" y="53"/>
                    </a:lnTo>
                    <a:lnTo>
                      <a:pt x="36" y="51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0" y="36"/>
                    </a:lnTo>
                    <a:lnTo>
                      <a:pt x="53" y="26"/>
                    </a:lnTo>
                    <a:lnTo>
                      <a:pt x="50" y="16"/>
                    </a:lnTo>
                    <a:lnTo>
                      <a:pt x="45" y="8"/>
                    </a:lnTo>
                    <a:lnTo>
                      <a:pt x="36" y="1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013120" y="337824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7"/>
                    </a:moveTo>
                    <a:lnTo>
                      <a:pt x="3" y="17"/>
                    </a:lnTo>
                    <a:lnTo>
                      <a:pt x="0" y="27"/>
                    </a:lnTo>
                    <a:lnTo>
                      <a:pt x="3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8" y="52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lnTo>
                      <a:pt x="47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062080" y="3306600"/>
                <a:ext cx="41400" cy="4320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8" y="6"/>
                    </a:move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7" y="45"/>
                    </a:lnTo>
                    <a:lnTo>
                      <a:pt x="47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5"/>
                    </a:ln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109960" y="323676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7" y="7"/>
                    </a:moveTo>
                    <a:lnTo>
                      <a:pt x="2" y="15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7" y="45"/>
                    </a:lnTo>
                    <a:lnTo>
                      <a:pt x="17" y="50"/>
                    </a:lnTo>
                    <a:lnTo>
                      <a:pt x="27" y="54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5"/>
                    </a:lnTo>
                    <a:lnTo>
                      <a:pt x="45" y="7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041560" y="3144960"/>
                <a:ext cx="163440" cy="187200"/>
              </a:xfrm>
              <a:custGeom>
                <a:avLst/>
                <a:gdLst/>
                <a:ahLst/>
                <a:rect l="l" t="t" r="r" b="b"/>
                <a:pathLst>
                  <a:path w="207" h="237">
                    <a:moveTo>
                      <a:pt x="179" y="237"/>
                    </a:moveTo>
                    <a:lnTo>
                      <a:pt x="207" y="0"/>
                    </a:lnTo>
                    <a:lnTo>
                      <a:pt x="0" y="119"/>
                    </a:lnTo>
                    <a:lnTo>
                      <a:pt x="127" y="121"/>
                    </a:lnTo>
                    <a:lnTo>
                      <a:pt x="179" y="23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5" name=""/>
            <p:cNvGrpSpPr/>
            <p:nvPr/>
          </p:nvGrpSpPr>
          <p:grpSpPr>
            <a:xfrm>
              <a:off x="1973160" y="4165560"/>
              <a:ext cx="285840" cy="460440"/>
              <a:chOff x="1973160" y="4165560"/>
              <a:chExt cx="285840" cy="460440"/>
            </a:xfrm>
          </p:grpSpPr>
          <p:sp>
            <p:nvSpPr>
              <p:cNvPr id="1636" name=""/>
              <p:cNvSpPr/>
              <p:nvPr/>
            </p:nvSpPr>
            <p:spPr>
              <a:xfrm>
                <a:off x="1973160" y="41655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7"/>
                    </a:moveTo>
                    <a:lnTo>
                      <a:pt x="45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017800" y="42386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5"/>
                    </a:lnTo>
                    <a:lnTo>
                      <a:pt x="17" y="52"/>
                    </a:lnTo>
                    <a:lnTo>
                      <a:pt x="27" y="53"/>
                    </a:lnTo>
                    <a:lnTo>
                      <a:pt x="37" y="52"/>
                    </a:lnTo>
                    <a:lnTo>
                      <a:pt x="45" y="45"/>
                    </a:lnTo>
                    <a:lnTo>
                      <a:pt x="52" y="37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062080" y="431172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6"/>
                    </a:lnTo>
                    <a:lnTo>
                      <a:pt x="37" y="1"/>
                    </a:lnTo>
                    <a:lnTo>
                      <a:pt x="27" y="0"/>
                    </a:lnTo>
                    <a:lnTo>
                      <a:pt x="17" y="1"/>
                    </a:lnTo>
                    <a:lnTo>
                      <a:pt x="8" y="6"/>
                    </a:lnTo>
                    <a:lnTo>
                      <a:pt x="2" y="15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5"/>
                    </a:lnTo>
                    <a:lnTo>
                      <a:pt x="17" y="50"/>
                    </a:lnTo>
                    <a:lnTo>
                      <a:pt x="27" y="53"/>
                    </a:lnTo>
                    <a:lnTo>
                      <a:pt x="37" y="50"/>
                    </a:lnTo>
                    <a:lnTo>
                      <a:pt x="45" y="45"/>
                    </a:lnTo>
                    <a:lnTo>
                      <a:pt x="52" y="36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104920" y="438300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2" y="16"/>
                    </a:moveTo>
                    <a:lnTo>
                      <a:pt x="45" y="8"/>
                    </a:lnTo>
                    <a:lnTo>
                      <a:pt x="37" y="3"/>
                    </a:lnTo>
                    <a:lnTo>
                      <a:pt x="27" y="0"/>
                    </a:lnTo>
                    <a:lnTo>
                      <a:pt x="17" y="3"/>
                    </a:lnTo>
                    <a:lnTo>
                      <a:pt x="8" y="8"/>
                    </a:lnTo>
                    <a:lnTo>
                      <a:pt x="2" y="16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8" y="46"/>
                    </a:lnTo>
                    <a:lnTo>
                      <a:pt x="17" y="51"/>
                    </a:lnTo>
                    <a:lnTo>
                      <a:pt x="27" y="53"/>
                    </a:lnTo>
                    <a:lnTo>
                      <a:pt x="37" y="51"/>
                    </a:lnTo>
                    <a:lnTo>
                      <a:pt x="45" y="46"/>
                    </a:lnTo>
                    <a:lnTo>
                      <a:pt x="52" y="38"/>
                    </a:lnTo>
                    <a:lnTo>
                      <a:pt x="53" y="26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149560" y="44560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2" y="17"/>
                    </a:moveTo>
                    <a:lnTo>
                      <a:pt x="47" y="9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7" y="2"/>
                    </a:lnTo>
                    <a:lnTo>
                      <a:pt x="8" y="9"/>
                    </a:lnTo>
                    <a:lnTo>
                      <a:pt x="2" y="17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8" y="47"/>
                    </a:lnTo>
                    <a:lnTo>
                      <a:pt x="17" y="52"/>
                    </a:lnTo>
                    <a:lnTo>
                      <a:pt x="27" y="54"/>
                    </a:lnTo>
                    <a:lnTo>
                      <a:pt x="37" y="52"/>
                    </a:lnTo>
                    <a:lnTo>
                      <a:pt x="47" y="47"/>
                    </a:lnTo>
                    <a:lnTo>
                      <a:pt x="52" y="37"/>
                    </a:lnTo>
                    <a:lnTo>
                      <a:pt x="54" y="2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098800" y="4435560"/>
                <a:ext cx="160200" cy="190440"/>
              </a:xfrm>
              <a:custGeom>
                <a:avLst/>
                <a:gdLst/>
                <a:ahLst/>
                <a:rect l="l" t="t" r="r" b="b"/>
                <a:pathLst>
                  <a:path w="202" h="239">
                    <a:moveTo>
                      <a:pt x="0" y="111"/>
                    </a:moveTo>
                    <a:lnTo>
                      <a:pt x="202" y="239"/>
                    </a:lnTo>
                    <a:lnTo>
                      <a:pt x="183" y="0"/>
                    </a:lnTo>
                    <a:lnTo>
                      <a:pt x="125" y="11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"/>
            <p:cNvGrpSpPr/>
            <p:nvPr/>
          </p:nvGrpSpPr>
          <p:grpSpPr>
            <a:xfrm>
              <a:off x="2228760" y="3240000"/>
              <a:ext cx="176400" cy="1355760"/>
              <a:chOff x="2228760" y="3240000"/>
              <a:chExt cx="176400" cy="1355760"/>
            </a:xfrm>
          </p:grpSpPr>
          <p:sp>
            <p:nvSpPr>
              <p:cNvPr id="1643" name=""/>
              <p:cNvSpPr/>
              <p:nvPr/>
            </p:nvSpPr>
            <p:spPr>
              <a:xfrm>
                <a:off x="2290680" y="3403440"/>
                <a:ext cx="50760" cy="1025640"/>
              </a:xfrm>
              <a:custGeom>
                <a:avLst/>
                <a:gdLst/>
                <a:ahLst/>
                <a:rect l="l" t="t" r="r" b="b"/>
                <a:pathLst>
                  <a:path w="63" h="1292">
                    <a:moveTo>
                      <a:pt x="0" y="1292"/>
                    </a:moveTo>
                    <a:lnTo>
                      <a:pt x="53" y="1292"/>
                    </a:lnTo>
                    <a:lnTo>
                      <a:pt x="63" y="0"/>
                    </a:lnTo>
                    <a:lnTo>
                      <a:pt x="10" y="0"/>
                    </a:lnTo>
                    <a:lnTo>
                      <a:pt x="0" y="1292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228760" y="4425840"/>
                <a:ext cx="168480" cy="169920"/>
              </a:xfrm>
              <a:custGeom>
                <a:avLst/>
                <a:gdLst/>
                <a:ahLst/>
                <a:rect l="l" t="t" r="r" b="b"/>
                <a:pathLst>
                  <a:path w="214" h="215">
                    <a:moveTo>
                      <a:pt x="0" y="0"/>
                    </a:moveTo>
                    <a:lnTo>
                      <a:pt x="105" y="215"/>
                    </a:lnTo>
                    <a:lnTo>
                      <a:pt x="2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235240" y="324000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213" h="213">
                    <a:moveTo>
                      <a:pt x="213" y="213"/>
                    </a:moveTo>
                    <a:lnTo>
                      <a:pt x="110" y="0"/>
                    </a:lnTo>
                    <a:lnTo>
                      <a:pt x="0" y="211"/>
                    </a:lnTo>
                    <a:lnTo>
                      <a:pt x="213" y="213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6" name=""/>
            <p:cNvSpPr/>
            <p:nvPr/>
          </p:nvSpPr>
          <p:spPr>
            <a:xfrm>
              <a:off x="1293840" y="2259000"/>
              <a:ext cx="1592280" cy="331920"/>
            </a:xfrm>
            <a:prstGeom prst="rect">
              <a:avLst/>
            </a:prstGeom>
            <a:solidFill>
              <a:srgbClr val="66ff66"/>
            </a:solidFill>
            <a:ln w="79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529640" y="230832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292929"/>
                  </a:solidFill>
                  <a:latin typeface="Times New Roman"/>
                </a:rPr>
                <a:t>Gene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200320" y="4673520"/>
              <a:ext cx="415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75560" y="47214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700" spc="-1" strike="noStrike">
                  <a:solidFill>
                    <a:srgbClr val="cc3300"/>
                  </a:solidFill>
                  <a:latin typeface="Times New Roman"/>
                </a:rPr>
                <a:t>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440080" y="4843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100" spc="-1" strike="noStrike">
                  <a:solidFill>
                    <a:srgbClr val="cc33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679840" y="372600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55440" y="3772080"/>
              <a:ext cx="37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1500" spc="-1" strike="noStrike">
                  <a:solidFill>
                    <a:srgbClr val="cc9900"/>
                  </a:solidFill>
                  <a:latin typeface="Times New Roman"/>
                </a:rPr>
                <a:t>Cm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3" name=""/>
            <p:cNvGrpSpPr/>
            <p:nvPr/>
          </p:nvGrpSpPr>
          <p:grpSpPr>
            <a:xfrm>
              <a:off x="1973160" y="3794040"/>
              <a:ext cx="550800" cy="168480"/>
              <a:chOff x="1973160" y="3794040"/>
              <a:chExt cx="550800" cy="168480"/>
            </a:xfrm>
          </p:grpSpPr>
          <p:sp>
            <p:nvSpPr>
              <p:cNvPr id="1654" name=""/>
              <p:cNvSpPr/>
              <p:nvPr/>
            </p:nvSpPr>
            <p:spPr>
              <a:xfrm>
                <a:off x="1973160" y="3855960"/>
                <a:ext cx="436680" cy="44640"/>
              </a:xfrm>
              <a:custGeom>
                <a:avLst/>
                <a:gdLst/>
                <a:ahLst/>
                <a:rect l="l" t="t" r="r" b="b"/>
                <a:pathLst>
                  <a:path w="549" h="56">
                    <a:moveTo>
                      <a:pt x="0" y="3"/>
                    </a:moveTo>
                    <a:lnTo>
                      <a:pt x="0" y="56"/>
                    </a:lnTo>
                    <a:lnTo>
                      <a:pt x="549" y="53"/>
                    </a:lnTo>
                    <a:lnTo>
                      <a:pt x="549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352600" y="3794040"/>
                <a:ext cx="171360" cy="168480"/>
              </a:xfrm>
              <a:custGeom>
                <a:avLst/>
                <a:gdLst/>
                <a:ahLst/>
                <a:rect l="l" t="t" r="r" b="b"/>
                <a:pathLst>
                  <a:path w="215" h="214">
                    <a:moveTo>
                      <a:pt x="2" y="214"/>
                    </a:moveTo>
                    <a:lnTo>
                      <a:pt x="215" y="104"/>
                    </a:lnTo>
                    <a:lnTo>
                      <a:pt x="0" y="0"/>
                    </a:lnTo>
                    <a:lnTo>
                      <a:pt x="68" y="107"/>
                    </a:lnTo>
                    <a:lnTo>
                      <a:pt x="2" y="21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6" name=""/>
            <p:cNvSpPr/>
            <p:nvPr/>
          </p:nvSpPr>
          <p:spPr>
            <a:xfrm>
              <a:off x="1078200" y="5410080"/>
              <a:ext cx="1253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Times New Roman"/>
                </a:rPr>
                <a:t>Mercado sp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54080" y="1676520"/>
              <a:ext cx="2222640" cy="434340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2691000" y="2244600"/>
            <a:ext cx="2517120" cy="2442960"/>
            <a:chOff x="2691000" y="2244600"/>
            <a:chExt cx="2517120" cy="2442960"/>
          </a:xfrm>
        </p:grpSpPr>
        <p:grpSp>
          <p:nvGrpSpPr>
            <p:cNvPr id="1659" name=""/>
            <p:cNvGrpSpPr/>
            <p:nvPr/>
          </p:nvGrpSpPr>
          <p:grpSpPr>
            <a:xfrm>
              <a:off x="2760840" y="2901960"/>
              <a:ext cx="2447280" cy="168120"/>
              <a:chOff x="2760840" y="2901960"/>
              <a:chExt cx="2447280" cy="168120"/>
            </a:xfrm>
          </p:grpSpPr>
          <p:sp>
            <p:nvSpPr>
              <p:cNvPr id="1660" name=""/>
              <p:cNvSpPr/>
              <p:nvPr/>
            </p:nvSpPr>
            <p:spPr>
              <a:xfrm>
                <a:off x="2760840" y="2962440"/>
                <a:ext cx="2334960" cy="44280"/>
              </a:xfrm>
              <a:custGeom>
                <a:avLst/>
                <a:gdLst/>
                <a:ahLst/>
                <a:rect l="l" t="t" r="r" b="b"/>
                <a:pathLst>
                  <a:path w="2942" h="55">
                    <a:moveTo>
                      <a:pt x="0" y="0"/>
                    </a:moveTo>
                    <a:lnTo>
                      <a:pt x="0" y="53"/>
                    </a:lnTo>
                    <a:lnTo>
                      <a:pt x="2942" y="55"/>
                    </a:lnTo>
                    <a:lnTo>
                      <a:pt x="294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040360" y="2901960"/>
                <a:ext cx="167760" cy="1681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0" y="212"/>
                    </a:moveTo>
                    <a:lnTo>
                      <a:pt x="212" y="105"/>
                    </a:lnTo>
                    <a:lnTo>
                      <a:pt x="0" y="0"/>
                    </a:lnTo>
                    <a:lnTo>
                      <a:pt x="67" y="105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2" name=""/>
            <p:cNvGrpSpPr/>
            <p:nvPr/>
          </p:nvGrpSpPr>
          <p:grpSpPr>
            <a:xfrm>
              <a:off x="2691000" y="3165840"/>
              <a:ext cx="2301480" cy="1521720"/>
              <a:chOff x="2691000" y="3165840"/>
              <a:chExt cx="2301480" cy="1521720"/>
            </a:xfrm>
          </p:grpSpPr>
          <p:sp>
            <p:nvSpPr>
              <p:cNvPr id="1663" name=""/>
              <p:cNvSpPr/>
              <p:nvPr/>
            </p:nvSpPr>
            <p:spPr>
              <a:xfrm rot="19668000">
                <a:off x="2515680" y="3962160"/>
                <a:ext cx="2498760" cy="64080"/>
              </a:xfrm>
              <a:custGeom>
                <a:avLst/>
                <a:gdLst/>
                <a:ahLst/>
                <a:rect l="l" t="t" r="r" b="b"/>
                <a:pathLst>
                  <a:path w="2872" h="58">
                    <a:moveTo>
                      <a:pt x="0" y="0"/>
                    </a:moveTo>
                    <a:lnTo>
                      <a:pt x="0" y="53"/>
                    </a:lnTo>
                    <a:lnTo>
                      <a:pt x="2872" y="58"/>
                    </a:lnTo>
                    <a:lnTo>
                      <a:pt x="287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9668000">
                <a:off x="4758120" y="3197160"/>
                <a:ext cx="186120" cy="234360"/>
              </a:xfrm>
              <a:custGeom>
                <a:avLst/>
                <a:gdLst/>
                <a:ahLst/>
                <a:rect l="l" t="t" r="r" b="b"/>
                <a:pathLst>
                  <a:path w="213" h="211">
                    <a:moveTo>
                      <a:pt x="0" y="211"/>
                    </a:moveTo>
                    <a:lnTo>
                      <a:pt x="213" y="106"/>
                    </a:lnTo>
                    <a:lnTo>
                      <a:pt x="0" y="0"/>
                    </a:lnTo>
                    <a:lnTo>
                      <a:pt x="67" y="10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5" name=""/>
            <p:cNvSpPr/>
            <p:nvPr/>
          </p:nvSpPr>
          <p:spPr>
            <a:xfrm>
              <a:off x="3671640" y="2244600"/>
              <a:ext cx="1064520" cy="11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Times New Roman"/>
                </a:rPr>
                <a:t>Preci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7567560" y="3032280"/>
            <a:ext cx="990720" cy="634680"/>
            <a:chOff x="7567560" y="3032280"/>
            <a:chExt cx="990720" cy="634680"/>
          </a:xfrm>
        </p:grpSpPr>
        <p:grpSp>
          <p:nvGrpSpPr>
            <p:cNvPr id="1667" name=""/>
            <p:cNvGrpSpPr/>
            <p:nvPr/>
          </p:nvGrpSpPr>
          <p:grpSpPr>
            <a:xfrm>
              <a:off x="7792920" y="3070080"/>
              <a:ext cx="309600" cy="285840"/>
              <a:chOff x="7792920" y="3070080"/>
              <a:chExt cx="309600" cy="285840"/>
            </a:xfrm>
          </p:grpSpPr>
          <p:grpSp>
            <p:nvGrpSpPr>
              <p:cNvPr id="1668" name=""/>
              <p:cNvGrpSpPr/>
              <p:nvPr/>
            </p:nvGrpSpPr>
            <p:grpSpPr>
              <a:xfrm>
                <a:off x="7792920" y="3070080"/>
                <a:ext cx="309600" cy="285840"/>
                <a:chOff x="7792920" y="3070080"/>
                <a:chExt cx="309600" cy="28584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7792920" y="3132000"/>
                  <a:ext cx="309600" cy="39960"/>
                </a:xfrm>
                <a:custGeom>
                  <a:avLst/>
                  <a:gdLst/>
                  <a:ahLst/>
                  <a:rect l="l" t="t" r="r" b="b"/>
                  <a:pathLst>
                    <a:path w="587" h="152">
                      <a:moveTo>
                        <a:pt x="434" y="152"/>
                      </a:moveTo>
                      <a:lnTo>
                        <a:pt x="587" y="71"/>
                      </a:lnTo>
                      <a:lnTo>
                        <a:pt x="163" y="0"/>
                      </a:lnTo>
                      <a:lnTo>
                        <a:pt x="0" y="83"/>
                      </a:lnTo>
                      <a:lnTo>
                        <a:pt x="434" y="152"/>
                      </a:lnTo>
                      <a:close/>
                    </a:path>
                  </a:pathLst>
                </a:custGeom>
                <a:solidFill>
                  <a:srgbClr val="5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7807320" y="3070080"/>
                  <a:ext cx="258840" cy="20880"/>
                </a:xfrm>
                <a:custGeom>
                  <a:avLst/>
                  <a:gdLst/>
                  <a:ahLst/>
                  <a:rect l="l" t="t" r="r" b="b"/>
                  <a:pathLst>
                    <a:path w="488" h="74">
                      <a:moveTo>
                        <a:pt x="0" y="37"/>
                      </a:moveTo>
                      <a:lnTo>
                        <a:pt x="381" y="74"/>
                      </a:lnTo>
                      <a:lnTo>
                        <a:pt x="488" y="41"/>
                      </a:lnTo>
                      <a:lnTo>
                        <a:pt x="116" y="0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5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8010360" y="3081240"/>
                  <a:ext cx="55800" cy="82800"/>
                </a:xfrm>
                <a:custGeom>
                  <a:avLst/>
                  <a:gdLst/>
                  <a:ahLst/>
                  <a:rect l="l" t="t" r="r" b="b"/>
                  <a:pathLst>
                    <a:path w="107" h="313">
                      <a:moveTo>
                        <a:pt x="0" y="32"/>
                      </a:moveTo>
                      <a:lnTo>
                        <a:pt x="107" y="0"/>
                      </a:lnTo>
                      <a:lnTo>
                        <a:pt x="107" y="261"/>
                      </a:lnTo>
                      <a:lnTo>
                        <a:pt x="0" y="313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7807320" y="3081240"/>
                  <a:ext cx="203040" cy="82800"/>
                </a:xfrm>
                <a:custGeom>
                  <a:avLst/>
                  <a:gdLst/>
                  <a:ahLst/>
                  <a:rect l="l" t="t" r="r" b="b"/>
                  <a:pathLst>
                    <a:path w="383" h="315">
                      <a:moveTo>
                        <a:pt x="1" y="0"/>
                      </a:moveTo>
                      <a:lnTo>
                        <a:pt x="383" y="37"/>
                      </a:lnTo>
                      <a:lnTo>
                        <a:pt x="383" y="315"/>
                      </a:lnTo>
                      <a:lnTo>
                        <a:pt x="0" y="25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8021520" y="3151080"/>
                  <a:ext cx="81000" cy="204840"/>
                </a:xfrm>
                <a:custGeom>
                  <a:avLst/>
                  <a:gdLst/>
                  <a:ahLst/>
                  <a:rect l="l" t="t" r="r" b="b"/>
                  <a:pathLst>
                    <a:path w="153" h="777">
                      <a:moveTo>
                        <a:pt x="153" y="0"/>
                      </a:moveTo>
                      <a:lnTo>
                        <a:pt x="0" y="82"/>
                      </a:lnTo>
                      <a:lnTo>
                        <a:pt x="0" y="777"/>
                      </a:lnTo>
                      <a:lnTo>
                        <a:pt x="153" y="677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7792920" y="3154320"/>
                  <a:ext cx="230400" cy="201600"/>
                </a:xfrm>
                <a:custGeom>
                  <a:avLst/>
                  <a:gdLst/>
                  <a:ahLst/>
                  <a:rect l="l" t="t" r="r" b="b"/>
                  <a:pathLst>
                    <a:path w="435" h="765">
                      <a:moveTo>
                        <a:pt x="0" y="0"/>
                      </a:moveTo>
                      <a:lnTo>
                        <a:pt x="435" y="70"/>
                      </a:lnTo>
                      <a:lnTo>
                        <a:pt x="434" y="765"/>
                      </a:lnTo>
                      <a:lnTo>
                        <a:pt x="0" y="67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7816680" y="3084480"/>
                <a:ext cx="195480" cy="119160"/>
                <a:chOff x="7816680" y="3084480"/>
                <a:chExt cx="195480" cy="11916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7816680" y="308448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57" h="28">
                      <a:moveTo>
                        <a:pt x="0" y="0"/>
                      </a:moveTo>
                      <a:lnTo>
                        <a:pt x="57" y="7"/>
                      </a:lnTo>
                      <a:lnTo>
                        <a:pt x="57" y="28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7854840" y="309708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0" y="0"/>
                      </a:moveTo>
                      <a:lnTo>
                        <a:pt x="57" y="6"/>
                      </a:lnTo>
                      <a:lnTo>
                        <a:pt x="57" y="27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7897680" y="3087720"/>
                  <a:ext cx="30240" cy="792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0" y="0"/>
                      </a:moveTo>
                      <a:lnTo>
                        <a:pt x="56" y="6"/>
                      </a:lnTo>
                      <a:lnTo>
                        <a:pt x="56" y="27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7942320" y="3090960"/>
                  <a:ext cx="30240" cy="612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0" y="0"/>
                      </a:moveTo>
                      <a:lnTo>
                        <a:pt x="57" y="6"/>
                      </a:lnTo>
                      <a:lnTo>
                        <a:pt x="57" y="27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7942320" y="3102120"/>
                  <a:ext cx="30240" cy="6120"/>
                </a:xfrm>
                <a:custGeom>
                  <a:avLst/>
                  <a:gdLst/>
                  <a:ahLst/>
                  <a:rect l="l" t="t" r="r" b="b"/>
                  <a:pathLst>
                    <a:path w="57" h="27">
                      <a:moveTo>
                        <a:pt x="0" y="0"/>
                      </a:moveTo>
                      <a:lnTo>
                        <a:pt x="57" y="6"/>
                      </a:lnTo>
                      <a:lnTo>
                        <a:pt x="57" y="27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7896240" y="3112920"/>
                  <a:ext cx="30240" cy="6480"/>
                </a:xfrm>
                <a:custGeom>
                  <a:avLst/>
                  <a:gdLst/>
                  <a:ahLst/>
                  <a:rect l="l" t="t" r="r" b="b"/>
                  <a:pathLst>
                    <a:path w="56" h="27">
                      <a:moveTo>
                        <a:pt x="0" y="0"/>
                      </a:moveTo>
                      <a:lnTo>
                        <a:pt x="56" y="6"/>
                      </a:lnTo>
                      <a:lnTo>
                        <a:pt x="56" y="27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7942320" y="3125880"/>
                  <a:ext cx="30240" cy="7920"/>
                </a:xfrm>
                <a:custGeom>
                  <a:avLst/>
                  <a:gdLst/>
                  <a:ahLst/>
                  <a:rect l="l" t="t" r="r" b="b"/>
                  <a:pathLst>
                    <a:path w="57" h="26">
                      <a:moveTo>
                        <a:pt x="0" y="0"/>
                      </a:moveTo>
                      <a:lnTo>
                        <a:pt x="57" y="6"/>
                      </a:lnTo>
                      <a:lnTo>
                        <a:pt x="57" y="26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7981920" y="3174840"/>
                  <a:ext cx="30240" cy="7920"/>
                </a:xfrm>
                <a:custGeom>
                  <a:avLst/>
                  <a:gdLst/>
                  <a:ahLst/>
                  <a:rect l="l" t="t" r="r" b="b"/>
                  <a:pathLst>
                    <a:path w="57" h="28">
                      <a:moveTo>
                        <a:pt x="0" y="0"/>
                      </a:moveTo>
                      <a:lnTo>
                        <a:pt x="57" y="7"/>
                      </a:lnTo>
                      <a:lnTo>
                        <a:pt x="57" y="28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7983360" y="3197160"/>
                  <a:ext cx="28800" cy="648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0" y="0"/>
                      </a:moveTo>
                      <a:lnTo>
                        <a:pt x="56" y="5"/>
                      </a:lnTo>
                      <a:lnTo>
                        <a:pt x="56" y="26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5" name=""/>
            <p:cNvGrpSpPr/>
            <p:nvPr/>
          </p:nvGrpSpPr>
          <p:grpSpPr>
            <a:xfrm>
              <a:off x="8039160" y="3032280"/>
              <a:ext cx="384120" cy="398160"/>
              <a:chOff x="8039160" y="3032280"/>
              <a:chExt cx="384120" cy="398160"/>
            </a:xfrm>
          </p:grpSpPr>
          <p:grpSp>
            <p:nvGrpSpPr>
              <p:cNvPr id="1686" name=""/>
              <p:cNvGrpSpPr/>
              <p:nvPr/>
            </p:nvGrpSpPr>
            <p:grpSpPr>
              <a:xfrm>
                <a:off x="8039160" y="3032280"/>
                <a:ext cx="384120" cy="398160"/>
                <a:chOff x="8039160" y="3032280"/>
                <a:chExt cx="384120" cy="3981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8042400" y="3146400"/>
                  <a:ext cx="380880" cy="76320"/>
                </a:xfrm>
                <a:custGeom>
                  <a:avLst/>
                  <a:gdLst/>
                  <a:ahLst/>
                  <a:rect l="l" t="t" r="r" b="b"/>
                  <a:pathLst>
                    <a:path w="721" h="289">
                      <a:moveTo>
                        <a:pt x="0" y="211"/>
                      </a:moveTo>
                      <a:lnTo>
                        <a:pt x="408" y="289"/>
                      </a:lnTo>
                      <a:lnTo>
                        <a:pt x="721" y="56"/>
                      </a:lnTo>
                      <a:lnTo>
                        <a:pt x="329" y="0"/>
                      </a:lnTo>
                      <a:lnTo>
                        <a:pt x="0" y="211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8094600" y="3081240"/>
                  <a:ext cx="158760" cy="130320"/>
                </a:xfrm>
                <a:custGeom>
                  <a:avLst/>
                  <a:gdLst/>
                  <a:ahLst/>
                  <a:rect l="l" t="t" r="r" b="b"/>
                  <a:pathLst>
                    <a:path w="300" h="491">
                      <a:moveTo>
                        <a:pt x="0" y="0"/>
                      </a:moveTo>
                      <a:lnTo>
                        <a:pt x="300" y="24"/>
                      </a:lnTo>
                      <a:lnTo>
                        <a:pt x="300" y="491"/>
                      </a:lnTo>
                      <a:lnTo>
                        <a:pt x="0" y="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8250120" y="3059280"/>
                  <a:ext cx="136800" cy="150480"/>
                </a:xfrm>
                <a:custGeom>
                  <a:avLst/>
                  <a:gdLst/>
                  <a:ahLst/>
                  <a:rect l="l" t="t" r="r" b="b"/>
                  <a:pathLst>
                    <a:path w="258" h="569">
                      <a:moveTo>
                        <a:pt x="0" y="105"/>
                      </a:moveTo>
                      <a:lnTo>
                        <a:pt x="0" y="569"/>
                      </a:lnTo>
                      <a:lnTo>
                        <a:pt x="258" y="383"/>
                      </a:lnTo>
                      <a:lnTo>
                        <a:pt x="258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8094600" y="3054240"/>
                  <a:ext cx="292320" cy="33480"/>
                </a:xfrm>
                <a:custGeom>
                  <a:avLst/>
                  <a:gdLst/>
                  <a:ahLst/>
                  <a:rect l="l" t="t" r="r" b="b"/>
                  <a:pathLst>
                    <a:path w="554" h="127">
                      <a:moveTo>
                        <a:pt x="0" y="103"/>
                      </a:moveTo>
                      <a:lnTo>
                        <a:pt x="296" y="127"/>
                      </a:lnTo>
                      <a:lnTo>
                        <a:pt x="554" y="22"/>
                      </a:lnTo>
                      <a:lnTo>
                        <a:pt x="296" y="0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8132760" y="3032280"/>
                  <a:ext cx="212760" cy="18720"/>
                </a:xfrm>
                <a:custGeom>
                  <a:avLst/>
                  <a:gdLst/>
                  <a:ahLst/>
                  <a:rect l="l" t="t" r="r" b="b"/>
                  <a:pathLst>
                    <a:path w="404" h="77">
                      <a:moveTo>
                        <a:pt x="0" y="61"/>
                      </a:moveTo>
                      <a:lnTo>
                        <a:pt x="215" y="77"/>
                      </a:lnTo>
                      <a:lnTo>
                        <a:pt x="404" y="19"/>
                      </a:lnTo>
                      <a:lnTo>
                        <a:pt x="202" y="0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8132760" y="3048120"/>
                  <a:ext cx="111240" cy="31680"/>
                </a:xfrm>
                <a:custGeom>
                  <a:avLst/>
                  <a:gdLst/>
                  <a:ahLst/>
                  <a:rect l="l" t="t" r="r" b="b"/>
                  <a:pathLst>
                    <a:path w="211" h="119">
                      <a:moveTo>
                        <a:pt x="0" y="0"/>
                      </a:moveTo>
                      <a:lnTo>
                        <a:pt x="211" y="15"/>
                      </a:lnTo>
                      <a:lnTo>
                        <a:pt x="211" y="119"/>
                      </a:lnTo>
                      <a:lnTo>
                        <a:pt x="0" y="1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8244000" y="3036960"/>
                  <a:ext cx="101520" cy="42840"/>
                </a:xfrm>
                <a:custGeom>
                  <a:avLst/>
                  <a:gdLst/>
                  <a:ahLst/>
                  <a:rect l="l" t="t" r="r" b="b"/>
                  <a:pathLst>
                    <a:path w="193" h="161">
                      <a:moveTo>
                        <a:pt x="0" y="58"/>
                      </a:moveTo>
                      <a:lnTo>
                        <a:pt x="0" y="161"/>
                      </a:lnTo>
                      <a:lnTo>
                        <a:pt x="193" y="83"/>
                      </a:lnTo>
                      <a:lnTo>
                        <a:pt x="193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8256600" y="3160800"/>
                  <a:ext cx="166680" cy="269640"/>
                </a:xfrm>
                <a:custGeom>
                  <a:avLst/>
                  <a:gdLst/>
                  <a:ahLst/>
                  <a:rect l="l" t="t" r="r" b="b"/>
                  <a:pathLst>
                    <a:path w="316" h="1021">
                      <a:moveTo>
                        <a:pt x="316" y="0"/>
                      </a:moveTo>
                      <a:lnTo>
                        <a:pt x="2" y="236"/>
                      </a:lnTo>
                      <a:lnTo>
                        <a:pt x="0" y="1021"/>
                      </a:lnTo>
                      <a:lnTo>
                        <a:pt x="316" y="715"/>
                      </a:lnTo>
                      <a:lnTo>
                        <a:pt x="316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8039160" y="3201840"/>
                  <a:ext cx="217440" cy="228600"/>
                </a:xfrm>
                <a:custGeom>
                  <a:avLst/>
                  <a:gdLst/>
                  <a:ahLst/>
                  <a:rect l="l" t="t" r="r" b="b"/>
                  <a:pathLst>
                    <a:path w="411" h="863">
                      <a:moveTo>
                        <a:pt x="4" y="0"/>
                      </a:moveTo>
                      <a:lnTo>
                        <a:pt x="411" y="78"/>
                      </a:lnTo>
                      <a:lnTo>
                        <a:pt x="411" y="863"/>
                      </a:lnTo>
                      <a:lnTo>
                        <a:pt x="0" y="72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6" name=""/>
              <p:cNvGrpSpPr/>
              <p:nvPr/>
            </p:nvGrpSpPr>
            <p:grpSpPr>
              <a:xfrm>
                <a:off x="8064360" y="3084480"/>
                <a:ext cx="171720" cy="169920"/>
                <a:chOff x="8064360" y="3084480"/>
                <a:chExt cx="171720" cy="169920"/>
              </a:xfrm>
            </p:grpSpPr>
            <p:grpSp>
              <p:nvGrpSpPr>
                <p:cNvPr id="1697" name=""/>
                <p:cNvGrpSpPr/>
                <p:nvPr/>
              </p:nvGrpSpPr>
              <p:grpSpPr>
                <a:xfrm>
                  <a:off x="8104320" y="3084480"/>
                  <a:ext cx="131760" cy="38160"/>
                  <a:chOff x="8104320" y="3084480"/>
                  <a:chExt cx="131760" cy="38160"/>
                </a:xfrm>
              </p:grpSpPr>
              <p:sp>
                <p:nvSpPr>
                  <p:cNvPr id="1698" name=""/>
                  <p:cNvSpPr/>
                  <p:nvPr/>
                </p:nvSpPr>
                <p:spPr>
                  <a:xfrm>
                    <a:off x="8104320" y="3084480"/>
                    <a:ext cx="27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7">
                        <a:moveTo>
                          <a:pt x="0" y="0"/>
                        </a:moveTo>
                        <a:lnTo>
                          <a:pt x="50" y="6"/>
                        </a:lnTo>
                        <a:lnTo>
                          <a:pt x="50" y="117"/>
                        </a:lnTo>
                        <a:lnTo>
                          <a:pt x="1" y="1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8139240" y="30862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7">
                        <a:moveTo>
                          <a:pt x="0" y="0"/>
                        </a:moveTo>
                        <a:lnTo>
                          <a:pt x="50" y="5"/>
                        </a:lnTo>
                        <a:lnTo>
                          <a:pt x="50" y="11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8174160" y="3087720"/>
                    <a:ext cx="270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20">
                        <a:moveTo>
                          <a:pt x="0" y="0"/>
                        </a:moveTo>
                        <a:lnTo>
                          <a:pt x="52" y="5"/>
                        </a:lnTo>
                        <a:lnTo>
                          <a:pt x="50" y="120"/>
                        </a:lnTo>
                        <a:lnTo>
                          <a:pt x="0" y="11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8209080" y="30909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24">
                        <a:moveTo>
                          <a:pt x="0" y="0"/>
                        </a:moveTo>
                        <a:lnTo>
                          <a:pt x="50" y="6"/>
                        </a:lnTo>
                        <a:lnTo>
                          <a:pt x="50" y="124"/>
                        </a:lnTo>
                        <a:lnTo>
                          <a:pt x="0" y="1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2" name=""/>
                <p:cNvGrpSpPr/>
                <p:nvPr/>
              </p:nvGrpSpPr>
              <p:grpSpPr>
                <a:xfrm>
                  <a:off x="8104320" y="3121200"/>
                  <a:ext cx="131760" cy="39600"/>
                  <a:chOff x="8104320" y="3121200"/>
                  <a:chExt cx="131760" cy="39600"/>
                </a:xfrm>
              </p:grpSpPr>
              <p:sp>
                <p:nvSpPr>
                  <p:cNvPr id="1703" name=""/>
                  <p:cNvSpPr/>
                  <p:nvPr/>
                </p:nvSpPr>
                <p:spPr>
                  <a:xfrm>
                    <a:off x="8104320" y="31212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20">
                        <a:moveTo>
                          <a:pt x="0" y="0"/>
                        </a:moveTo>
                        <a:lnTo>
                          <a:pt x="50" y="8"/>
                        </a:lnTo>
                        <a:lnTo>
                          <a:pt x="50" y="120"/>
                        </a:lnTo>
                        <a:lnTo>
                          <a:pt x="1" y="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8139240" y="3124080"/>
                    <a:ext cx="270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21">
                        <a:moveTo>
                          <a:pt x="1" y="0"/>
                        </a:moveTo>
                        <a:lnTo>
                          <a:pt x="51" y="10"/>
                        </a:lnTo>
                        <a:lnTo>
                          <a:pt x="50" y="121"/>
                        </a:lnTo>
                        <a:lnTo>
                          <a:pt x="0" y="11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8174160" y="31258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19">
                        <a:moveTo>
                          <a:pt x="0" y="0"/>
                        </a:moveTo>
                        <a:lnTo>
                          <a:pt x="52" y="7"/>
                        </a:lnTo>
                        <a:lnTo>
                          <a:pt x="50" y="119"/>
                        </a:lnTo>
                        <a:lnTo>
                          <a:pt x="0" y="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8209080" y="312912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20">
                        <a:moveTo>
                          <a:pt x="0" y="0"/>
                        </a:moveTo>
                        <a:lnTo>
                          <a:pt x="50" y="9"/>
                        </a:lnTo>
                        <a:lnTo>
                          <a:pt x="50" y="120"/>
                        </a:lnTo>
                        <a:lnTo>
                          <a:pt x="0" y="1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7" name=""/>
                <p:cNvGrpSpPr/>
                <p:nvPr/>
              </p:nvGrpSpPr>
              <p:grpSpPr>
                <a:xfrm>
                  <a:off x="8064360" y="3209760"/>
                  <a:ext cx="163800" cy="44640"/>
                  <a:chOff x="8064360" y="3209760"/>
                  <a:chExt cx="163800" cy="44640"/>
                </a:xfrm>
              </p:grpSpPr>
              <p:grpSp>
                <p:nvGrpSpPr>
                  <p:cNvPr id="1708" name=""/>
                  <p:cNvGrpSpPr/>
                  <p:nvPr/>
                </p:nvGrpSpPr>
                <p:grpSpPr>
                  <a:xfrm>
                    <a:off x="8064360" y="3209760"/>
                    <a:ext cx="163800" cy="28800"/>
                    <a:chOff x="8064360" y="3209760"/>
                    <a:chExt cx="163800" cy="28800"/>
                  </a:xfrm>
                </p:grpSpPr>
                <p:sp>
                  <p:nvSpPr>
                    <p:cNvPr id="1709" name=""/>
                    <p:cNvSpPr/>
                    <p:nvPr/>
                  </p:nvSpPr>
                  <p:spPr>
                    <a:xfrm>
                      <a:off x="8105760" y="3214800"/>
                      <a:ext cx="349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5">
                          <a:moveTo>
                            <a:pt x="1" y="0"/>
                          </a:moveTo>
                          <a:lnTo>
                            <a:pt x="67" y="13"/>
                          </a:lnTo>
                          <a:lnTo>
                            <a:pt x="67" y="55"/>
                          </a:lnTo>
                          <a:lnTo>
                            <a:pt x="0" y="4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0" name=""/>
                    <p:cNvSpPr/>
                    <p:nvPr/>
                  </p:nvSpPr>
                  <p:spPr>
                    <a:xfrm>
                      <a:off x="8150400" y="3218040"/>
                      <a:ext cx="3492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9">
                          <a:moveTo>
                            <a:pt x="0" y="0"/>
                          </a:moveTo>
                          <a:lnTo>
                            <a:pt x="67" y="15"/>
                          </a:lnTo>
                          <a:lnTo>
                            <a:pt x="67" y="59"/>
                          </a:lnTo>
                          <a:lnTo>
                            <a:pt x="0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1" name=""/>
                    <p:cNvSpPr/>
                    <p:nvPr/>
                  </p:nvSpPr>
                  <p:spPr>
                    <a:xfrm>
                      <a:off x="8193240" y="3222720"/>
                      <a:ext cx="3492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8">
                          <a:moveTo>
                            <a:pt x="0" y="0"/>
                          </a:moveTo>
                          <a:lnTo>
                            <a:pt x="67" y="14"/>
                          </a:lnTo>
                          <a:lnTo>
                            <a:pt x="67" y="58"/>
                          </a:lnTo>
                          <a:lnTo>
                            <a:pt x="0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2" name=""/>
                    <p:cNvSpPr/>
                    <p:nvPr/>
                  </p:nvSpPr>
                  <p:spPr>
                    <a:xfrm>
                      <a:off x="8064360" y="3209760"/>
                      <a:ext cx="349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4">
                          <a:moveTo>
                            <a:pt x="0" y="0"/>
                          </a:moveTo>
                          <a:lnTo>
                            <a:pt x="66" y="13"/>
                          </a:lnTo>
                          <a:lnTo>
                            <a:pt x="66" y="54"/>
                          </a:lnTo>
                          <a:lnTo>
                            <a:pt x="0" y="4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13" name=""/>
                  <p:cNvGrpSpPr/>
                  <p:nvPr/>
                </p:nvGrpSpPr>
                <p:grpSpPr>
                  <a:xfrm>
                    <a:off x="8064360" y="3225960"/>
                    <a:ext cx="163800" cy="28440"/>
                    <a:chOff x="8064360" y="3225960"/>
                    <a:chExt cx="163800" cy="28440"/>
                  </a:xfrm>
                </p:grpSpPr>
                <p:sp>
                  <p:nvSpPr>
                    <p:cNvPr id="1714" name=""/>
                    <p:cNvSpPr/>
                    <p:nvPr/>
                  </p:nvSpPr>
                  <p:spPr>
                    <a:xfrm>
                      <a:off x="8105760" y="3230640"/>
                      <a:ext cx="349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6">
                          <a:moveTo>
                            <a:pt x="2" y="0"/>
                          </a:moveTo>
                          <a:lnTo>
                            <a:pt x="67" y="14"/>
                          </a:lnTo>
                          <a:lnTo>
                            <a:pt x="67" y="56"/>
                          </a:lnTo>
                          <a:lnTo>
                            <a:pt x="0" y="43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5" name=""/>
                    <p:cNvSpPr/>
                    <p:nvPr/>
                  </p:nvSpPr>
                  <p:spPr>
                    <a:xfrm>
                      <a:off x="8148600" y="3233880"/>
                      <a:ext cx="3672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6">
                          <a:moveTo>
                            <a:pt x="0" y="0"/>
                          </a:moveTo>
                          <a:lnTo>
                            <a:pt x="67" y="14"/>
                          </a:lnTo>
                          <a:lnTo>
                            <a:pt x="67" y="56"/>
                          </a:lnTo>
                          <a:lnTo>
                            <a:pt x="0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6" name=""/>
                    <p:cNvSpPr/>
                    <p:nvPr/>
                  </p:nvSpPr>
                  <p:spPr>
                    <a:xfrm>
                      <a:off x="8193240" y="3238560"/>
                      <a:ext cx="3492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56">
                          <a:moveTo>
                            <a:pt x="0" y="0"/>
                          </a:moveTo>
                          <a:lnTo>
                            <a:pt x="67" y="16"/>
                          </a:lnTo>
                          <a:lnTo>
                            <a:pt x="67" y="56"/>
                          </a:lnTo>
                          <a:lnTo>
                            <a:pt x="0" y="4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7" name=""/>
                    <p:cNvSpPr/>
                    <p:nvPr/>
                  </p:nvSpPr>
                  <p:spPr>
                    <a:xfrm>
                      <a:off x="8064360" y="3225960"/>
                      <a:ext cx="349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56">
                          <a:moveTo>
                            <a:pt x="0" y="0"/>
                          </a:moveTo>
                          <a:lnTo>
                            <a:pt x="66" y="13"/>
                          </a:lnTo>
                          <a:lnTo>
                            <a:pt x="66" y="56"/>
                          </a:lnTo>
                          <a:lnTo>
                            <a:pt x="0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18" name=""/>
            <p:cNvGrpSpPr/>
            <p:nvPr/>
          </p:nvGrpSpPr>
          <p:grpSpPr>
            <a:xfrm>
              <a:off x="8286840" y="3174840"/>
              <a:ext cx="271440" cy="360360"/>
              <a:chOff x="8286840" y="3174840"/>
              <a:chExt cx="271440" cy="360360"/>
            </a:xfrm>
          </p:grpSpPr>
          <p:grpSp>
            <p:nvGrpSpPr>
              <p:cNvPr id="1719" name=""/>
              <p:cNvGrpSpPr/>
              <p:nvPr/>
            </p:nvGrpSpPr>
            <p:grpSpPr>
              <a:xfrm>
                <a:off x="8286840" y="3174840"/>
                <a:ext cx="271440" cy="360360"/>
                <a:chOff x="8286840" y="3174840"/>
                <a:chExt cx="271440" cy="36036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8335800" y="3187800"/>
                  <a:ext cx="160560" cy="30240"/>
                </a:xfrm>
                <a:custGeom>
                  <a:avLst/>
                  <a:gdLst/>
                  <a:ahLst/>
                  <a:rect l="l" t="t" r="r" b="b"/>
                  <a:pathLst>
                    <a:path w="302" h="117">
                      <a:moveTo>
                        <a:pt x="0" y="92"/>
                      </a:moveTo>
                      <a:lnTo>
                        <a:pt x="186" y="117"/>
                      </a:lnTo>
                      <a:lnTo>
                        <a:pt x="302" y="17"/>
                      </a:lnTo>
                      <a:lnTo>
                        <a:pt x="127" y="0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1" name=""/>
                <p:cNvGrpSpPr/>
                <p:nvPr/>
              </p:nvGrpSpPr>
              <p:grpSpPr>
                <a:xfrm>
                  <a:off x="8362800" y="3174840"/>
                  <a:ext cx="111240" cy="38160"/>
                  <a:chOff x="8362800" y="3174840"/>
                  <a:chExt cx="111240" cy="38160"/>
                </a:xfrm>
              </p:grpSpPr>
              <p:sp>
                <p:nvSpPr>
                  <p:cNvPr id="1722" name=""/>
                  <p:cNvSpPr/>
                  <p:nvPr/>
                </p:nvSpPr>
                <p:spPr>
                  <a:xfrm>
                    <a:off x="8362800" y="3189240"/>
                    <a:ext cx="66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86">
                        <a:moveTo>
                          <a:pt x="1" y="0"/>
                        </a:moveTo>
                        <a:lnTo>
                          <a:pt x="127" y="13"/>
                        </a:lnTo>
                        <a:lnTo>
                          <a:pt x="127" y="86"/>
                        </a:lnTo>
                        <a:lnTo>
                          <a:pt x="0" y="6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8429760" y="3178080"/>
                    <a:ext cx="442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30">
                        <a:moveTo>
                          <a:pt x="0" y="60"/>
                        </a:moveTo>
                        <a:lnTo>
                          <a:pt x="0" y="130"/>
                        </a:lnTo>
                        <a:lnTo>
                          <a:pt x="84" y="60"/>
                        </a:lnTo>
                        <a:lnTo>
                          <a:pt x="84" y="0"/>
                        </a:lnTo>
                        <a:lnTo>
                          <a:pt x="0" y="6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8362800" y="3174840"/>
                    <a:ext cx="111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70">
                        <a:moveTo>
                          <a:pt x="0" y="56"/>
                        </a:moveTo>
                        <a:lnTo>
                          <a:pt x="126" y="70"/>
                        </a:lnTo>
                        <a:lnTo>
                          <a:pt x="210" y="12"/>
                        </a:lnTo>
                        <a:lnTo>
                          <a:pt x="85" y="0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5" name=""/>
                <p:cNvSpPr/>
                <p:nvPr/>
              </p:nvSpPr>
              <p:spPr>
                <a:xfrm>
                  <a:off x="8337600" y="3211560"/>
                  <a:ext cx="96840" cy="123840"/>
                </a:xfrm>
                <a:custGeom>
                  <a:avLst/>
                  <a:gdLst/>
                  <a:ahLst/>
                  <a:rect l="l" t="t" r="r" b="b"/>
                  <a:pathLst>
                    <a:path w="184" h="471">
                      <a:moveTo>
                        <a:pt x="0" y="0"/>
                      </a:moveTo>
                      <a:lnTo>
                        <a:pt x="184" y="24"/>
                      </a:lnTo>
                      <a:lnTo>
                        <a:pt x="184" y="471"/>
                      </a:lnTo>
                      <a:lnTo>
                        <a:pt x="0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8434440" y="3191040"/>
                  <a:ext cx="61920" cy="144360"/>
                </a:xfrm>
                <a:custGeom>
                  <a:avLst/>
                  <a:gdLst/>
                  <a:ahLst/>
                  <a:rect l="l" t="t" r="r" b="b"/>
                  <a:pathLst>
                    <a:path w="116" h="545">
                      <a:moveTo>
                        <a:pt x="0" y="99"/>
                      </a:moveTo>
                      <a:lnTo>
                        <a:pt x="116" y="0"/>
                      </a:lnTo>
                      <a:lnTo>
                        <a:pt x="116" y="417"/>
                      </a:lnTo>
                      <a:lnTo>
                        <a:pt x="0" y="545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8432640" y="3301920"/>
                  <a:ext cx="125640" cy="103320"/>
                </a:xfrm>
                <a:custGeom>
                  <a:avLst/>
                  <a:gdLst/>
                  <a:ahLst/>
                  <a:rect l="l" t="t" r="r" b="b"/>
                  <a:pathLst>
                    <a:path w="236" h="389">
                      <a:moveTo>
                        <a:pt x="118" y="0"/>
                      </a:moveTo>
                      <a:lnTo>
                        <a:pt x="0" y="127"/>
                      </a:lnTo>
                      <a:lnTo>
                        <a:pt x="44" y="389"/>
                      </a:lnTo>
                      <a:lnTo>
                        <a:pt x="236" y="144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8286840" y="3324240"/>
                  <a:ext cx="169920" cy="81000"/>
                </a:xfrm>
                <a:custGeom>
                  <a:avLst/>
                  <a:gdLst/>
                  <a:ahLst/>
                  <a:rect l="l" t="t" r="r" b="b"/>
                  <a:pathLst>
                    <a:path w="321" h="308">
                      <a:moveTo>
                        <a:pt x="92" y="0"/>
                      </a:moveTo>
                      <a:lnTo>
                        <a:pt x="278" y="46"/>
                      </a:lnTo>
                      <a:lnTo>
                        <a:pt x="321" y="308"/>
                      </a:lnTo>
                      <a:lnTo>
                        <a:pt x="0" y="222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8454960" y="3340080"/>
                  <a:ext cx="103320" cy="195120"/>
                </a:xfrm>
                <a:custGeom>
                  <a:avLst/>
                  <a:gdLst/>
                  <a:ahLst/>
                  <a:rect l="l" t="t" r="r" b="b"/>
                  <a:pathLst>
                    <a:path w="193" h="739">
                      <a:moveTo>
                        <a:pt x="1" y="245"/>
                      </a:moveTo>
                      <a:lnTo>
                        <a:pt x="193" y="0"/>
                      </a:lnTo>
                      <a:lnTo>
                        <a:pt x="193" y="401"/>
                      </a:lnTo>
                      <a:lnTo>
                        <a:pt x="0" y="739"/>
                      </a:lnTo>
                      <a:lnTo>
                        <a:pt x="1" y="245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8286840" y="3381480"/>
                  <a:ext cx="169920" cy="153720"/>
                </a:xfrm>
                <a:custGeom>
                  <a:avLst/>
                  <a:gdLst/>
                  <a:ahLst/>
                  <a:rect l="l" t="t" r="r" b="b"/>
                  <a:pathLst>
                    <a:path w="320" h="579">
                      <a:moveTo>
                        <a:pt x="0" y="0"/>
                      </a:moveTo>
                      <a:lnTo>
                        <a:pt x="320" y="85"/>
                      </a:lnTo>
                      <a:lnTo>
                        <a:pt x="320" y="579"/>
                      </a:lnTo>
                      <a:lnTo>
                        <a:pt x="0" y="4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1" name=""/>
              <p:cNvGrpSpPr/>
              <p:nvPr/>
            </p:nvGrpSpPr>
            <p:grpSpPr>
              <a:xfrm>
                <a:off x="8346960" y="3218040"/>
                <a:ext cx="73080" cy="79200"/>
                <a:chOff x="8346960" y="3218040"/>
                <a:chExt cx="73080" cy="79200"/>
              </a:xfrm>
            </p:grpSpPr>
            <p:grpSp>
              <p:nvGrpSpPr>
                <p:cNvPr id="1732" name=""/>
                <p:cNvGrpSpPr/>
                <p:nvPr/>
              </p:nvGrpSpPr>
              <p:grpSpPr>
                <a:xfrm>
                  <a:off x="8346960" y="3218040"/>
                  <a:ext cx="73080" cy="25200"/>
                  <a:chOff x="8346960" y="3218040"/>
                  <a:chExt cx="73080" cy="25200"/>
                </a:xfrm>
              </p:grpSpPr>
              <p:sp>
                <p:nvSpPr>
                  <p:cNvPr id="1733" name=""/>
                  <p:cNvSpPr/>
                  <p:nvPr/>
                </p:nvSpPr>
                <p:spPr>
                  <a:xfrm>
                    <a:off x="8346960" y="3218040"/>
                    <a:ext cx="15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2">
                        <a:moveTo>
                          <a:pt x="0" y="0"/>
                        </a:moveTo>
                        <a:lnTo>
                          <a:pt x="30" y="3"/>
                        </a:lnTo>
                        <a:lnTo>
                          <a:pt x="30" y="82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8375760" y="321948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6">
                        <a:moveTo>
                          <a:pt x="0" y="0"/>
                        </a:moveTo>
                        <a:lnTo>
                          <a:pt x="30" y="4"/>
                        </a:lnTo>
                        <a:lnTo>
                          <a:pt x="30" y="86"/>
                        </a:lnTo>
                        <a:lnTo>
                          <a:pt x="0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8404200" y="322092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4">
                        <a:moveTo>
                          <a:pt x="0" y="0"/>
                        </a:moveTo>
                        <a:lnTo>
                          <a:pt x="29" y="4"/>
                        </a:lnTo>
                        <a:lnTo>
                          <a:pt x="29" y="84"/>
                        </a:lnTo>
                        <a:lnTo>
                          <a:pt x="0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6" name=""/>
                <p:cNvGrpSpPr/>
                <p:nvPr/>
              </p:nvGrpSpPr>
              <p:grpSpPr>
                <a:xfrm>
                  <a:off x="8346960" y="3243240"/>
                  <a:ext cx="73080" cy="28440"/>
                  <a:chOff x="8346960" y="3243240"/>
                  <a:chExt cx="73080" cy="2844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>
                    <a:off x="8346960" y="324324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5">
                        <a:moveTo>
                          <a:pt x="0" y="0"/>
                        </a:moveTo>
                        <a:lnTo>
                          <a:pt x="30" y="6"/>
                        </a:lnTo>
                        <a:lnTo>
                          <a:pt x="30" y="85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8375760" y="324648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5">
                        <a:moveTo>
                          <a:pt x="0" y="0"/>
                        </a:moveTo>
                        <a:lnTo>
                          <a:pt x="30" y="6"/>
                        </a:lnTo>
                        <a:lnTo>
                          <a:pt x="30" y="85"/>
                        </a:lnTo>
                        <a:lnTo>
                          <a:pt x="0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8404200" y="3247920"/>
                    <a:ext cx="15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5">
                        <a:moveTo>
                          <a:pt x="0" y="0"/>
                        </a:moveTo>
                        <a:lnTo>
                          <a:pt x="29" y="6"/>
                        </a:lnTo>
                        <a:lnTo>
                          <a:pt x="29" y="85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0" name=""/>
                <p:cNvGrpSpPr/>
                <p:nvPr/>
              </p:nvGrpSpPr>
              <p:grpSpPr>
                <a:xfrm>
                  <a:off x="8346960" y="3268800"/>
                  <a:ext cx="73080" cy="28440"/>
                  <a:chOff x="8346960" y="3268800"/>
                  <a:chExt cx="73080" cy="28440"/>
                </a:xfrm>
              </p:grpSpPr>
              <p:sp>
                <p:nvSpPr>
                  <p:cNvPr id="1741" name=""/>
                  <p:cNvSpPr/>
                  <p:nvPr/>
                </p:nvSpPr>
                <p:spPr>
                  <a:xfrm>
                    <a:off x="8346960" y="3268800"/>
                    <a:ext cx="158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7">
                        <a:moveTo>
                          <a:pt x="0" y="0"/>
                        </a:moveTo>
                        <a:lnTo>
                          <a:pt x="30" y="8"/>
                        </a:lnTo>
                        <a:lnTo>
                          <a:pt x="30" y="87"/>
                        </a:lnTo>
                        <a:lnTo>
                          <a:pt x="0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8375760" y="327168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6">
                        <a:moveTo>
                          <a:pt x="0" y="0"/>
                        </a:moveTo>
                        <a:lnTo>
                          <a:pt x="30" y="6"/>
                        </a:lnTo>
                        <a:lnTo>
                          <a:pt x="30" y="86"/>
                        </a:lnTo>
                        <a:lnTo>
                          <a:pt x="0" y="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8404200" y="3274920"/>
                    <a:ext cx="15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6">
                        <a:moveTo>
                          <a:pt x="0" y="0"/>
                        </a:moveTo>
                        <a:lnTo>
                          <a:pt x="29" y="7"/>
                        </a:lnTo>
                        <a:lnTo>
                          <a:pt x="29" y="86"/>
                        </a:lnTo>
                        <a:lnTo>
                          <a:pt x="0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44" name=""/>
            <p:cNvGrpSpPr/>
            <p:nvPr/>
          </p:nvGrpSpPr>
          <p:grpSpPr>
            <a:xfrm>
              <a:off x="7567560" y="3098880"/>
              <a:ext cx="406440" cy="439560"/>
              <a:chOff x="7567560" y="3098880"/>
              <a:chExt cx="406440" cy="439560"/>
            </a:xfrm>
          </p:grpSpPr>
          <p:sp>
            <p:nvSpPr>
              <p:cNvPr id="1745" name=""/>
              <p:cNvSpPr/>
              <p:nvPr/>
            </p:nvSpPr>
            <p:spPr>
              <a:xfrm>
                <a:off x="7567560" y="3124080"/>
                <a:ext cx="405000" cy="49320"/>
              </a:xfrm>
              <a:custGeom>
                <a:avLst/>
                <a:gdLst/>
                <a:ahLst/>
                <a:rect l="l" t="t" r="r" b="b"/>
                <a:pathLst>
                  <a:path w="766" h="183">
                    <a:moveTo>
                      <a:pt x="0" y="108"/>
                    </a:moveTo>
                    <a:lnTo>
                      <a:pt x="437" y="183"/>
                    </a:lnTo>
                    <a:lnTo>
                      <a:pt x="766" y="53"/>
                    </a:lnTo>
                    <a:lnTo>
                      <a:pt x="365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d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567560" y="3152880"/>
                <a:ext cx="231840" cy="385560"/>
              </a:xfrm>
              <a:custGeom>
                <a:avLst/>
                <a:gdLst/>
                <a:ahLst/>
                <a:rect l="l" t="t" r="r" b="b"/>
                <a:pathLst>
                  <a:path w="437" h="1459">
                    <a:moveTo>
                      <a:pt x="0" y="0"/>
                    </a:moveTo>
                    <a:lnTo>
                      <a:pt x="437" y="76"/>
                    </a:lnTo>
                    <a:lnTo>
                      <a:pt x="437" y="1459"/>
                    </a:lnTo>
                    <a:lnTo>
                      <a:pt x="345" y="1428"/>
                    </a:lnTo>
                    <a:lnTo>
                      <a:pt x="346" y="1253"/>
                    </a:lnTo>
                    <a:lnTo>
                      <a:pt x="222" y="1203"/>
                    </a:lnTo>
                    <a:lnTo>
                      <a:pt x="222" y="1359"/>
                    </a:lnTo>
                    <a:lnTo>
                      <a:pt x="153" y="1327"/>
                    </a:lnTo>
                    <a:lnTo>
                      <a:pt x="153" y="1171"/>
                    </a:lnTo>
                    <a:lnTo>
                      <a:pt x="55" y="1125"/>
                    </a:lnTo>
                    <a:lnTo>
                      <a:pt x="55" y="1283"/>
                    </a:lnTo>
                    <a:lnTo>
                      <a:pt x="0" y="12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7" name=""/>
              <p:cNvGrpSpPr/>
              <p:nvPr/>
            </p:nvGrpSpPr>
            <p:grpSpPr>
              <a:xfrm>
                <a:off x="7575480" y="3098880"/>
                <a:ext cx="398520" cy="439560"/>
                <a:chOff x="7575480" y="3098880"/>
                <a:chExt cx="398520" cy="4395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7799400" y="3138480"/>
                  <a:ext cx="174600" cy="399960"/>
                </a:xfrm>
                <a:custGeom>
                  <a:avLst/>
                  <a:gdLst/>
                  <a:ahLst/>
                  <a:rect l="l" t="t" r="r" b="b"/>
                  <a:pathLst>
                    <a:path w="330" h="1514">
                      <a:moveTo>
                        <a:pt x="0" y="128"/>
                      </a:moveTo>
                      <a:lnTo>
                        <a:pt x="326" y="0"/>
                      </a:lnTo>
                      <a:lnTo>
                        <a:pt x="330" y="1171"/>
                      </a:lnTo>
                      <a:lnTo>
                        <a:pt x="0" y="1514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9" name=""/>
                <p:cNvGrpSpPr/>
                <p:nvPr/>
              </p:nvGrpSpPr>
              <p:grpSpPr>
                <a:xfrm>
                  <a:off x="7684920" y="3470400"/>
                  <a:ext cx="68400" cy="41040"/>
                  <a:chOff x="7684920" y="3470400"/>
                  <a:chExt cx="68400" cy="4104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7723080" y="347832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14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57" y="114"/>
                        </a:lnTo>
                        <a:lnTo>
                          <a:pt x="57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7684920" y="3470400"/>
                    <a:ext cx="399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62">
                        <a:moveTo>
                          <a:pt x="0" y="0"/>
                        </a:moveTo>
                        <a:lnTo>
                          <a:pt x="0" y="162"/>
                        </a:lnTo>
                        <a:lnTo>
                          <a:pt x="74" y="116"/>
                        </a:lnTo>
                        <a:lnTo>
                          <a:pt x="74" y="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2" name=""/>
                <p:cNvGrpSpPr/>
                <p:nvPr/>
              </p:nvGrpSpPr>
              <p:grpSpPr>
                <a:xfrm>
                  <a:off x="7596360" y="3449520"/>
                  <a:ext cx="68040" cy="42840"/>
                  <a:chOff x="7596360" y="3449520"/>
                  <a:chExt cx="68040" cy="42840"/>
                </a:xfrm>
              </p:grpSpPr>
              <p:sp>
                <p:nvSpPr>
                  <p:cNvPr id="1753" name=""/>
                  <p:cNvSpPr/>
                  <p:nvPr/>
                </p:nvSpPr>
                <p:spPr>
                  <a:xfrm>
                    <a:off x="7634160" y="345744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14">
                        <a:moveTo>
                          <a:pt x="0" y="0"/>
                        </a:moveTo>
                        <a:lnTo>
                          <a:pt x="0" y="88"/>
                        </a:lnTo>
                        <a:lnTo>
                          <a:pt x="57" y="114"/>
                        </a:lnTo>
                        <a:lnTo>
                          <a:pt x="57" y="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7596360" y="3449520"/>
                    <a:ext cx="37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64">
                        <a:moveTo>
                          <a:pt x="0" y="0"/>
                        </a:moveTo>
                        <a:lnTo>
                          <a:pt x="0" y="164"/>
                        </a:lnTo>
                        <a:lnTo>
                          <a:pt x="73" y="118"/>
                        </a:lnTo>
                        <a:lnTo>
                          <a:pt x="73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5" name=""/>
                <p:cNvGrpSpPr/>
                <p:nvPr/>
              </p:nvGrpSpPr>
              <p:grpSpPr>
                <a:xfrm>
                  <a:off x="7575480" y="3162240"/>
                  <a:ext cx="208080" cy="304920"/>
                  <a:chOff x="7575480" y="3162240"/>
                  <a:chExt cx="208080" cy="30492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7583400" y="3162240"/>
                    <a:ext cx="18900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1152">
                        <a:moveTo>
                          <a:pt x="0" y="0"/>
                        </a:moveTo>
                        <a:lnTo>
                          <a:pt x="358" y="62"/>
                        </a:lnTo>
                        <a:lnTo>
                          <a:pt x="358" y="1152"/>
                        </a:lnTo>
                        <a:lnTo>
                          <a:pt x="3" y="9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57" name=""/>
                  <p:cNvGrpSpPr/>
                  <p:nvPr/>
                </p:nvGrpSpPr>
                <p:grpSpPr>
                  <a:xfrm>
                    <a:off x="7575480" y="3162240"/>
                    <a:ext cx="208080" cy="298440"/>
                    <a:chOff x="7575480" y="3162240"/>
                    <a:chExt cx="208080" cy="298440"/>
                  </a:xfrm>
                </p:grpSpPr>
                <p:sp>
                  <p:nvSpPr>
                    <p:cNvPr id="1758" name=""/>
                    <p:cNvSpPr/>
                    <p:nvPr/>
                  </p:nvSpPr>
                  <p:spPr>
                    <a:xfrm>
                      <a:off x="7577280" y="3390840"/>
                      <a:ext cx="206280" cy="3672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9" name=""/>
                    <p:cNvSpPr/>
                    <p:nvPr/>
                  </p:nvSpPr>
                  <p:spPr>
                    <a:xfrm>
                      <a:off x="7575480" y="3352680"/>
                      <a:ext cx="206280" cy="3024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0" name=""/>
                    <p:cNvSpPr/>
                    <p:nvPr/>
                  </p:nvSpPr>
                  <p:spPr>
                    <a:xfrm>
                      <a:off x="7580160" y="3313080"/>
                      <a:ext cx="201600" cy="2700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"/>
                    <p:cNvSpPr/>
                    <p:nvPr/>
                  </p:nvSpPr>
                  <p:spPr>
                    <a:xfrm>
                      <a:off x="7578720" y="3271680"/>
                      <a:ext cx="201600" cy="2556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2" name=""/>
                    <p:cNvSpPr/>
                    <p:nvPr/>
                  </p:nvSpPr>
                  <p:spPr>
                    <a:xfrm>
                      <a:off x="7581960" y="3232080"/>
                      <a:ext cx="198360" cy="2088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3" name=""/>
                    <p:cNvSpPr/>
                    <p:nvPr/>
                  </p:nvSpPr>
                  <p:spPr>
                    <a:xfrm>
                      <a:off x="7575480" y="3195720"/>
                      <a:ext cx="203400" cy="1908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4" name=""/>
                    <p:cNvSpPr/>
                    <p:nvPr/>
                  </p:nvSpPr>
                  <p:spPr>
                    <a:xfrm>
                      <a:off x="7623000" y="3162240"/>
                      <a:ext cx="1800" cy="27792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>
                      <a:off x="7670880" y="3166920"/>
                      <a:ext cx="1440" cy="28440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6" name=""/>
                    <p:cNvSpPr/>
                    <p:nvPr/>
                  </p:nvSpPr>
                  <p:spPr>
                    <a:xfrm>
                      <a:off x="7721640" y="3170160"/>
                      <a:ext cx="1440" cy="290520"/>
                    </a:xfrm>
                    <a:prstGeom prst="line">
                      <a:avLst/>
                    </a:prstGeom>
                    <a:ln w="4680">
                      <a:solidFill>
                        <a:srgbClr val="ff5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67" name=""/>
                <p:cNvGrpSpPr/>
                <p:nvPr/>
              </p:nvGrpSpPr>
              <p:grpSpPr>
                <a:xfrm>
                  <a:off x="7653240" y="3098880"/>
                  <a:ext cx="243000" cy="61920"/>
                  <a:chOff x="7653240" y="3098880"/>
                  <a:chExt cx="243000" cy="61920"/>
                </a:xfrm>
              </p:grpSpPr>
              <p:grpSp>
                <p:nvGrpSpPr>
                  <p:cNvPr id="1768" name=""/>
                  <p:cNvGrpSpPr/>
                  <p:nvPr/>
                </p:nvGrpSpPr>
                <p:grpSpPr>
                  <a:xfrm>
                    <a:off x="7653240" y="3098880"/>
                    <a:ext cx="243000" cy="61920"/>
                    <a:chOff x="7653240" y="3098880"/>
                    <a:chExt cx="243000" cy="61920"/>
                  </a:xfrm>
                </p:grpSpPr>
                <p:sp>
                  <p:nvSpPr>
                    <p:cNvPr id="1769" name=""/>
                    <p:cNvSpPr/>
                    <p:nvPr/>
                  </p:nvSpPr>
                  <p:spPr>
                    <a:xfrm>
                      <a:off x="7653240" y="3098880"/>
                      <a:ext cx="2430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8" h="93">
                          <a:moveTo>
                            <a:pt x="0" y="60"/>
                          </a:moveTo>
                          <a:lnTo>
                            <a:pt x="267" y="93"/>
                          </a:lnTo>
                          <a:lnTo>
                            <a:pt x="458" y="31"/>
                          </a:lnTo>
                          <a:lnTo>
                            <a:pt x="199" y="0"/>
                          </a:lnTo>
                          <a:lnTo>
                            <a:pt x="0" y="60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>
                      <a:off x="7794720" y="3106800"/>
                      <a:ext cx="100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204">
                          <a:moveTo>
                            <a:pt x="0" y="62"/>
                          </a:moveTo>
                          <a:lnTo>
                            <a:pt x="189" y="0"/>
                          </a:lnTo>
                          <a:lnTo>
                            <a:pt x="189" y="129"/>
                          </a:lnTo>
                          <a:lnTo>
                            <a:pt x="0" y="204"/>
                          </a:lnTo>
                          <a:lnTo>
                            <a:pt x="0" y="62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1" name=""/>
                    <p:cNvSpPr/>
                    <p:nvPr/>
                  </p:nvSpPr>
                  <p:spPr>
                    <a:xfrm>
                      <a:off x="7653240" y="3114720"/>
                      <a:ext cx="1414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175">
                          <a:moveTo>
                            <a:pt x="266" y="33"/>
                          </a:moveTo>
                          <a:lnTo>
                            <a:pt x="266" y="175"/>
                          </a:lnTo>
                          <a:lnTo>
                            <a:pt x="0" y="135"/>
                          </a:lnTo>
                          <a:lnTo>
                            <a:pt x="0" y="0"/>
                          </a:lnTo>
                          <a:lnTo>
                            <a:pt x="266" y="33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72" name=""/>
                  <p:cNvSpPr/>
                  <p:nvPr/>
                </p:nvSpPr>
                <p:spPr>
                  <a:xfrm>
                    <a:off x="7672320" y="3122640"/>
                    <a:ext cx="81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41">
                        <a:moveTo>
                          <a:pt x="1" y="0"/>
                        </a:moveTo>
                        <a:lnTo>
                          <a:pt x="153" y="16"/>
                        </a:lnTo>
                        <a:lnTo>
                          <a:pt x="153" y="41"/>
                        </a:lnTo>
                        <a:lnTo>
                          <a:pt x="0" y="2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73" name=""/>
            <p:cNvGrpSpPr/>
            <p:nvPr/>
          </p:nvGrpSpPr>
          <p:grpSpPr>
            <a:xfrm>
              <a:off x="7832880" y="3238560"/>
              <a:ext cx="387360" cy="352440"/>
              <a:chOff x="7832880" y="3238560"/>
              <a:chExt cx="387360" cy="35244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7832880" y="3238560"/>
                <a:ext cx="387360" cy="352440"/>
                <a:chOff x="7832880" y="3238560"/>
                <a:chExt cx="387360" cy="352440"/>
              </a:xfrm>
            </p:grpSpPr>
            <p:sp>
              <p:nvSpPr>
                <p:cNvPr id="1775" name=""/>
                <p:cNvSpPr/>
                <p:nvPr/>
              </p:nvSpPr>
              <p:spPr>
                <a:xfrm>
                  <a:off x="7832880" y="3243240"/>
                  <a:ext cx="387360" cy="96840"/>
                </a:xfrm>
                <a:custGeom>
                  <a:avLst/>
                  <a:gdLst/>
                  <a:ahLst/>
                  <a:rect l="l" t="t" r="r" b="b"/>
                  <a:pathLst>
                    <a:path w="732" h="363">
                      <a:moveTo>
                        <a:pt x="0" y="266"/>
                      </a:moveTo>
                      <a:lnTo>
                        <a:pt x="354" y="363"/>
                      </a:lnTo>
                      <a:lnTo>
                        <a:pt x="732" y="67"/>
                      </a:lnTo>
                      <a:lnTo>
                        <a:pt x="426" y="0"/>
                      </a:lnTo>
                      <a:lnTo>
                        <a:pt x="0" y="266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7832880" y="3314880"/>
                  <a:ext cx="187200" cy="276120"/>
                </a:xfrm>
                <a:custGeom>
                  <a:avLst/>
                  <a:gdLst/>
                  <a:ahLst/>
                  <a:rect l="l" t="t" r="r" b="b"/>
                  <a:pathLst>
                    <a:path w="354" h="1048">
                      <a:moveTo>
                        <a:pt x="0" y="0"/>
                      </a:moveTo>
                      <a:lnTo>
                        <a:pt x="354" y="95"/>
                      </a:lnTo>
                      <a:lnTo>
                        <a:pt x="354" y="1048"/>
                      </a:lnTo>
                      <a:lnTo>
                        <a:pt x="0" y="8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8020080" y="3260880"/>
                  <a:ext cx="200160" cy="330120"/>
                </a:xfrm>
                <a:custGeom>
                  <a:avLst/>
                  <a:gdLst/>
                  <a:ahLst/>
                  <a:rect l="l" t="t" r="r" b="b"/>
                  <a:pathLst>
                    <a:path w="378" h="1247">
                      <a:moveTo>
                        <a:pt x="0" y="296"/>
                      </a:moveTo>
                      <a:lnTo>
                        <a:pt x="0" y="1247"/>
                      </a:lnTo>
                      <a:lnTo>
                        <a:pt x="378" y="795"/>
                      </a:lnTo>
                      <a:lnTo>
                        <a:pt x="378" y="0"/>
                      </a:lnTo>
                      <a:lnTo>
                        <a:pt x="0" y="296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78" name=""/>
                <p:cNvGrpSpPr/>
                <p:nvPr/>
              </p:nvGrpSpPr>
              <p:grpSpPr>
                <a:xfrm>
                  <a:off x="7880400" y="3238560"/>
                  <a:ext cx="295200" cy="87120"/>
                  <a:chOff x="7880400" y="3238560"/>
                  <a:chExt cx="295200" cy="87120"/>
                </a:xfrm>
              </p:grpSpPr>
              <p:sp>
                <p:nvSpPr>
                  <p:cNvPr id="1779" name=""/>
                  <p:cNvSpPr/>
                  <p:nvPr/>
                </p:nvSpPr>
                <p:spPr>
                  <a:xfrm>
                    <a:off x="7880400" y="3238560"/>
                    <a:ext cx="2952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8" h="272">
                        <a:moveTo>
                          <a:pt x="0" y="204"/>
                        </a:moveTo>
                        <a:lnTo>
                          <a:pt x="254" y="272"/>
                        </a:lnTo>
                        <a:lnTo>
                          <a:pt x="558" y="45"/>
                        </a:lnTo>
                        <a:lnTo>
                          <a:pt x="333" y="0"/>
                        </a:lnTo>
                        <a:lnTo>
                          <a:pt x="0" y="204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8015400" y="3249720"/>
                    <a:ext cx="1602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285">
                        <a:moveTo>
                          <a:pt x="0" y="226"/>
                        </a:moveTo>
                        <a:lnTo>
                          <a:pt x="305" y="0"/>
                        </a:lnTo>
                        <a:lnTo>
                          <a:pt x="305" y="54"/>
                        </a:lnTo>
                        <a:lnTo>
                          <a:pt x="0" y="285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7880400" y="3292560"/>
                    <a:ext cx="1350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26">
                        <a:moveTo>
                          <a:pt x="253" y="67"/>
                        </a:moveTo>
                        <a:lnTo>
                          <a:pt x="253" y="126"/>
                        </a:lnTo>
                        <a:lnTo>
                          <a:pt x="0" y="56"/>
                        </a:lnTo>
                        <a:lnTo>
                          <a:pt x="0" y="0"/>
                        </a:lnTo>
                        <a:lnTo>
                          <a:pt x="253" y="67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2" name=""/>
              <p:cNvGrpSpPr/>
              <p:nvPr/>
            </p:nvGrpSpPr>
            <p:grpSpPr>
              <a:xfrm>
                <a:off x="7842240" y="3322800"/>
                <a:ext cx="166680" cy="257040"/>
                <a:chOff x="7842240" y="3322800"/>
                <a:chExt cx="166680" cy="25704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7842240" y="3322800"/>
                  <a:ext cx="166680" cy="257040"/>
                </a:xfrm>
                <a:custGeom>
                  <a:avLst/>
                  <a:gdLst/>
                  <a:ahLst/>
                  <a:rect l="l" t="t" r="r" b="b"/>
                  <a:pathLst>
                    <a:path w="317" h="970">
                      <a:moveTo>
                        <a:pt x="0" y="0"/>
                      </a:moveTo>
                      <a:lnTo>
                        <a:pt x="317" y="87"/>
                      </a:lnTo>
                      <a:lnTo>
                        <a:pt x="317" y="970"/>
                      </a:lnTo>
                      <a:lnTo>
                        <a:pt x="0" y="8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866000" y="3325680"/>
                  <a:ext cx="17640" cy="227160"/>
                </a:xfrm>
                <a:custGeom>
                  <a:avLst/>
                  <a:gdLst/>
                  <a:ahLst/>
                  <a:rect l="l" t="t" r="r" b="b"/>
                  <a:pathLst>
                    <a:path w="33" h="858">
                      <a:moveTo>
                        <a:pt x="1" y="0"/>
                      </a:moveTo>
                      <a:lnTo>
                        <a:pt x="0" y="845"/>
                      </a:lnTo>
                      <a:lnTo>
                        <a:pt x="32" y="858"/>
                      </a:lnTo>
                      <a:lnTo>
                        <a:pt x="33" y="9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912080" y="3330720"/>
                  <a:ext cx="19080" cy="231480"/>
                </a:xfrm>
                <a:custGeom>
                  <a:avLst/>
                  <a:gdLst/>
                  <a:ahLst/>
                  <a:rect l="l" t="t" r="r" b="b"/>
                  <a:pathLst>
                    <a:path w="36" h="876">
                      <a:moveTo>
                        <a:pt x="0" y="0"/>
                      </a:moveTo>
                      <a:lnTo>
                        <a:pt x="0" y="860"/>
                      </a:lnTo>
                      <a:lnTo>
                        <a:pt x="34" y="876"/>
                      </a:lnTo>
                      <a:lnTo>
                        <a:pt x="3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961400" y="3338640"/>
                  <a:ext cx="19080" cy="233280"/>
                </a:xfrm>
                <a:custGeom>
                  <a:avLst/>
                  <a:gdLst/>
                  <a:ahLst/>
                  <a:rect l="l" t="t" r="r" b="b"/>
                  <a:pathLst>
                    <a:path w="37" h="883">
                      <a:moveTo>
                        <a:pt x="1" y="0"/>
                      </a:moveTo>
                      <a:lnTo>
                        <a:pt x="0" y="864"/>
                      </a:lnTo>
                      <a:lnTo>
                        <a:pt x="37" y="883"/>
                      </a:lnTo>
                      <a:lnTo>
                        <a:pt x="35" y="8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7" name=""/>
            <p:cNvGrpSpPr/>
            <p:nvPr/>
          </p:nvGrpSpPr>
          <p:grpSpPr>
            <a:xfrm>
              <a:off x="8101080" y="3255840"/>
              <a:ext cx="360360" cy="411120"/>
              <a:chOff x="8101080" y="3255840"/>
              <a:chExt cx="360360" cy="411120"/>
            </a:xfrm>
          </p:grpSpPr>
          <p:grpSp>
            <p:nvGrpSpPr>
              <p:cNvPr id="1788" name=""/>
              <p:cNvGrpSpPr/>
              <p:nvPr/>
            </p:nvGrpSpPr>
            <p:grpSpPr>
              <a:xfrm>
                <a:off x="8101080" y="3255840"/>
                <a:ext cx="360360" cy="411120"/>
                <a:chOff x="8101080" y="3255840"/>
                <a:chExt cx="360360" cy="411120"/>
              </a:xfrm>
            </p:grpSpPr>
            <p:grpSp>
              <p:nvGrpSpPr>
                <p:cNvPr id="1789" name=""/>
                <p:cNvGrpSpPr/>
                <p:nvPr/>
              </p:nvGrpSpPr>
              <p:grpSpPr>
                <a:xfrm>
                  <a:off x="8142120" y="3565440"/>
                  <a:ext cx="279720" cy="101520"/>
                  <a:chOff x="8142120" y="3565440"/>
                  <a:chExt cx="279720" cy="101520"/>
                </a:xfrm>
              </p:grpSpPr>
              <p:sp>
                <p:nvSpPr>
                  <p:cNvPr id="1790" name=""/>
                  <p:cNvSpPr/>
                  <p:nvPr/>
                </p:nvSpPr>
                <p:spPr>
                  <a:xfrm>
                    <a:off x="8142120" y="3603600"/>
                    <a:ext cx="1796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238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338" y="238"/>
                        </a:lnTo>
                        <a:lnTo>
                          <a:pt x="338" y="1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8321760" y="3565440"/>
                    <a:ext cx="1000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383">
                        <a:moveTo>
                          <a:pt x="0" y="308"/>
                        </a:moveTo>
                        <a:lnTo>
                          <a:pt x="0" y="383"/>
                        </a:lnTo>
                        <a:lnTo>
                          <a:pt x="190" y="60"/>
                        </a:lnTo>
                        <a:lnTo>
                          <a:pt x="190" y="0"/>
                        </a:lnTo>
                        <a:lnTo>
                          <a:pt x="0" y="308"/>
                        </a:lnTo>
                        <a:close/>
                      </a:path>
                    </a:pathLst>
                  </a:custGeom>
                  <a:solidFill>
                    <a:srgbClr val="001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2" name=""/>
                <p:cNvSpPr/>
                <p:nvPr/>
              </p:nvSpPr>
              <p:spPr>
                <a:xfrm>
                  <a:off x="8101080" y="3497400"/>
                  <a:ext cx="360360" cy="156960"/>
                </a:xfrm>
                <a:custGeom>
                  <a:avLst/>
                  <a:gdLst/>
                  <a:ahLst/>
                  <a:rect l="l" t="t" r="r" b="b"/>
                  <a:pathLst>
                    <a:path w="680" h="589">
                      <a:moveTo>
                        <a:pt x="0" y="370"/>
                      </a:moveTo>
                      <a:lnTo>
                        <a:pt x="452" y="589"/>
                      </a:lnTo>
                      <a:lnTo>
                        <a:pt x="680" y="199"/>
                      </a:lnTo>
                      <a:lnTo>
                        <a:pt x="247" y="0"/>
                      </a:lnTo>
                      <a:lnTo>
                        <a:pt x="0" y="370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8134200" y="3400560"/>
                  <a:ext cx="282600" cy="88920"/>
                </a:xfrm>
                <a:custGeom>
                  <a:avLst/>
                  <a:gdLst/>
                  <a:ahLst/>
                  <a:rect l="l" t="t" r="r" b="b"/>
                  <a:pathLst>
                    <a:path w="536" h="335">
                      <a:moveTo>
                        <a:pt x="353" y="335"/>
                      </a:moveTo>
                      <a:lnTo>
                        <a:pt x="536" y="116"/>
                      </a:lnTo>
                      <a:lnTo>
                        <a:pt x="202" y="0"/>
                      </a:lnTo>
                      <a:lnTo>
                        <a:pt x="0" y="214"/>
                      </a:lnTo>
                      <a:lnTo>
                        <a:pt x="353" y="335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8277120" y="3255840"/>
                  <a:ext cx="96840" cy="104760"/>
                </a:xfrm>
                <a:custGeom>
                  <a:avLst/>
                  <a:gdLst/>
                  <a:ahLst/>
                  <a:rect l="l" t="t" r="r" b="b"/>
                  <a:pathLst>
                    <a:path w="185" h="393">
                      <a:moveTo>
                        <a:pt x="0" y="0"/>
                      </a:moveTo>
                      <a:lnTo>
                        <a:pt x="45" y="393"/>
                      </a:lnTo>
                      <a:lnTo>
                        <a:pt x="185" y="2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8191440" y="3255840"/>
                  <a:ext cx="109440" cy="104760"/>
                </a:xfrm>
                <a:custGeom>
                  <a:avLst/>
                  <a:gdLst/>
                  <a:ahLst/>
                  <a:rect l="l" t="t" r="r" b="b"/>
                  <a:pathLst>
                    <a:path w="207" h="395">
                      <a:moveTo>
                        <a:pt x="163" y="0"/>
                      </a:moveTo>
                      <a:lnTo>
                        <a:pt x="207" y="395"/>
                      </a:lnTo>
                      <a:lnTo>
                        <a:pt x="0" y="354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8191440" y="3349800"/>
                  <a:ext cx="108000" cy="125280"/>
                </a:xfrm>
                <a:custGeom>
                  <a:avLst/>
                  <a:gdLst/>
                  <a:ahLst/>
                  <a:rect l="l" t="t" r="r" b="b"/>
                  <a:pathLst>
                    <a:path w="206" h="477">
                      <a:moveTo>
                        <a:pt x="0" y="0"/>
                      </a:moveTo>
                      <a:lnTo>
                        <a:pt x="206" y="40"/>
                      </a:lnTo>
                      <a:lnTo>
                        <a:pt x="206" y="477"/>
                      </a:lnTo>
                      <a:lnTo>
                        <a:pt x="0" y="4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8299440" y="3325680"/>
                  <a:ext cx="74520" cy="149400"/>
                </a:xfrm>
                <a:custGeom>
                  <a:avLst/>
                  <a:gdLst/>
                  <a:ahLst/>
                  <a:rect l="l" t="t" r="r" b="b"/>
                  <a:pathLst>
                    <a:path w="140" h="568">
                      <a:moveTo>
                        <a:pt x="0" y="130"/>
                      </a:moveTo>
                      <a:lnTo>
                        <a:pt x="140" y="0"/>
                      </a:lnTo>
                      <a:lnTo>
                        <a:pt x="140" y="406"/>
                      </a:lnTo>
                      <a:lnTo>
                        <a:pt x="0" y="568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8134200" y="3457440"/>
                  <a:ext cx="185760" cy="169920"/>
                </a:xfrm>
                <a:custGeom>
                  <a:avLst/>
                  <a:gdLst/>
                  <a:ahLst/>
                  <a:rect l="l" t="t" r="r" b="b"/>
                  <a:pathLst>
                    <a:path w="351" h="640">
                      <a:moveTo>
                        <a:pt x="0" y="0"/>
                      </a:moveTo>
                      <a:lnTo>
                        <a:pt x="351" y="121"/>
                      </a:lnTo>
                      <a:lnTo>
                        <a:pt x="351" y="640"/>
                      </a:lnTo>
                      <a:lnTo>
                        <a:pt x="0" y="4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8319960" y="3432240"/>
                  <a:ext cx="96840" cy="195120"/>
                </a:xfrm>
                <a:custGeom>
                  <a:avLst/>
                  <a:gdLst/>
                  <a:ahLst/>
                  <a:rect l="l" t="t" r="r" b="b"/>
                  <a:pathLst>
                    <a:path w="184" h="739">
                      <a:moveTo>
                        <a:pt x="0" y="220"/>
                      </a:moveTo>
                      <a:lnTo>
                        <a:pt x="184" y="0"/>
                      </a:lnTo>
                      <a:lnTo>
                        <a:pt x="184" y="443"/>
                      </a:lnTo>
                      <a:lnTo>
                        <a:pt x="0" y="739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8169120" y="3363840"/>
                <a:ext cx="114480" cy="235080"/>
                <a:chOff x="8169120" y="3363840"/>
                <a:chExt cx="114480" cy="235080"/>
              </a:xfrm>
            </p:grpSpPr>
            <p:grpSp>
              <p:nvGrpSpPr>
                <p:cNvPr id="1801" name=""/>
                <p:cNvGrpSpPr/>
                <p:nvPr/>
              </p:nvGrpSpPr>
              <p:grpSpPr>
                <a:xfrm>
                  <a:off x="8226360" y="3363840"/>
                  <a:ext cx="39240" cy="66600"/>
                  <a:chOff x="8226360" y="3363840"/>
                  <a:chExt cx="39240" cy="6660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>
                    <a:off x="8234640" y="3363840"/>
                    <a:ext cx="309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58126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581268"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8228160" y="3363840"/>
                    <a:ext cx="248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2" y="9321"/>
                        </a:moveTo>
                        <a:arcTo wR="10800" hR="10800" stAng="-10327855" swAng="45347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2" y="9321"/>
                        </a:moveTo>
                        <a:arcTo wR="10800" hR="10800" stAng="-10327855" swAng="4534766"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8226360" y="3395520"/>
                    <a:ext cx="126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3">
                        <a:moveTo>
                          <a:pt x="0" y="0"/>
                        </a:moveTo>
                        <a:lnTo>
                          <a:pt x="0" y="104"/>
                        </a:lnTo>
                        <a:lnTo>
                          <a:pt x="24" y="113"/>
                        </a:lnTo>
                        <a:lnTo>
                          <a:pt x="24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8250120" y="3400560"/>
                    <a:ext cx="12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12">
                        <a:moveTo>
                          <a:pt x="0" y="0"/>
                        </a:moveTo>
                        <a:lnTo>
                          <a:pt x="0" y="104"/>
                        </a:lnTo>
                        <a:lnTo>
                          <a:pt x="24" y="112"/>
                        </a:lnTo>
                        <a:lnTo>
                          <a:pt x="24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6" name=""/>
                <p:cNvGrpSpPr/>
                <p:nvPr/>
              </p:nvGrpSpPr>
              <p:grpSpPr>
                <a:xfrm>
                  <a:off x="8169120" y="3494160"/>
                  <a:ext cx="114480" cy="104760"/>
                  <a:chOff x="8169120" y="3494160"/>
                  <a:chExt cx="114480" cy="104760"/>
                </a:xfrm>
              </p:grpSpPr>
              <p:sp>
                <p:nvSpPr>
                  <p:cNvPr id="1807" name=""/>
                  <p:cNvSpPr/>
                  <p:nvPr/>
                </p:nvSpPr>
                <p:spPr>
                  <a:xfrm>
                    <a:off x="8169120" y="3530520"/>
                    <a:ext cx="1144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57">
                        <a:moveTo>
                          <a:pt x="0" y="0"/>
                        </a:moveTo>
                        <a:lnTo>
                          <a:pt x="0" y="161"/>
                        </a:lnTo>
                        <a:lnTo>
                          <a:pt x="217" y="257"/>
                        </a:lnTo>
                        <a:lnTo>
                          <a:pt x="217" y="9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8170920" y="3494160"/>
                    <a:ext cx="1080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92">
                        <a:moveTo>
                          <a:pt x="0" y="0"/>
                        </a:moveTo>
                        <a:lnTo>
                          <a:pt x="0" y="111"/>
                        </a:lnTo>
                        <a:lnTo>
                          <a:pt x="205" y="192"/>
                        </a:lnTo>
                        <a:lnTo>
                          <a:pt x="205" y="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809" name=""/>
          <p:cNvSpPr/>
          <p:nvPr/>
        </p:nvSpPr>
        <p:spPr>
          <a:xfrm>
            <a:off x="6673680" y="2259000"/>
            <a:ext cx="1686240" cy="331920"/>
          </a:xfrm>
          <a:prstGeom prst="rect">
            <a:avLst/>
          </a:prstGeom>
          <a:solidFill>
            <a:srgbClr val="ff505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745680" y="2308320"/>
            <a:ext cx="156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292929"/>
                </a:solidFill>
                <a:latin typeface="Times New Roman"/>
              </a:rPr>
              <a:t>DISTRIBUC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1" name=""/>
          <p:cNvGrpSpPr/>
          <p:nvPr/>
        </p:nvGrpSpPr>
        <p:grpSpPr>
          <a:xfrm>
            <a:off x="5067360" y="1714680"/>
            <a:ext cx="3848040" cy="2501640"/>
            <a:chOff x="5067360" y="1714680"/>
            <a:chExt cx="3848040" cy="2501640"/>
          </a:xfrm>
        </p:grpSpPr>
        <p:grpSp>
          <p:nvGrpSpPr>
            <p:cNvPr id="1812" name=""/>
            <p:cNvGrpSpPr/>
            <p:nvPr/>
          </p:nvGrpSpPr>
          <p:grpSpPr>
            <a:xfrm>
              <a:off x="5999040" y="3192480"/>
              <a:ext cx="1559160" cy="168120"/>
              <a:chOff x="5999040" y="3192480"/>
              <a:chExt cx="1559160" cy="168120"/>
            </a:xfrm>
          </p:grpSpPr>
          <p:sp>
            <p:nvSpPr>
              <p:cNvPr id="1813" name=""/>
              <p:cNvSpPr/>
              <p:nvPr/>
            </p:nvSpPr>
            <p:spPr>
              <a:xfrm>
                <a:off x="5999040" y="3254040"/>
                <a:ext cx="1444680" cy="45720"/>
              </a:xfrm>
              <a:custGeom>
                <a:avLst/>
                <a:gdLst/>
                <a:ahLst/>
                <a:rect l="l" t="t" r="r" b="b"/>
                <a:pathLst>
                  <a:path w="1821" h="58">
                    <a:moveTo>
                      <a:pt x="0" y="5"/>
                    </a:moveTo>
                    <a:lnTo>
                      <a:pt x="0" y="58"/>
                    </a:lnTo>
                    <a:lnTo>
                      <a:pt x="1821" y="53"/>
                    </a:lnTo>
                    <a:lnTo>
                      <a:pt x="182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388280" y="3192480"/>
                <a:ext cx="169920" cy="168120"/>
              </a:xfrm>
              <a:custGeom>
                <a:avLst/>
                <a:gdLst/>
                <a:ahLst/>
                <a:rect l="l" t="t" r="r" b="b"/>
                <a:pathLst>
                  <a:path w="213" h="212">
                    <a:moveTo>
                      <a:pt x="0" y="212"/>
                    </a:moveTo>
                    <a:lnTo>
                      <a:pt x="213" y="107"/>
                    </a:lnTo>
                    <a:lnTo>
                      <a:pt x="0" y="0"/>
                    </a:lnTo>
                    <a:lnTo>
                      <a:pt x="67" y="107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6666ff"/>
              </a:solidFill>
              <a:ln w="9360">
                <a:solidFill>
                  <a:srgbClr val="66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7567560" y="3032280"/>
              <a:ext cx="990720" cy="634680"/>
              <a:chOff x="7567560" y="3032280"/>
              <a:chExt cx="990720" cy="634680"/>
            </a:xfrm>
          </p:grpSpPr>
          <p:grpSp>
            <p:nvGrpSpPr>
              <p:cNvPr id="1816" name=""/>
              <p:cNvGrpSpPr/>
              <p:nvPr/>
            </p:nvGrpSpPr>
            <p:grpSpPr>
              <a:xfrm>
                <a:off x="7792920" y="3070080"/>
                <a:ext cx="309600" cy="285840"/>
                <a:chOff x="7792920" y="3070080"/>
                <a:chExt cx="309600" cy="285840"/>
              </a:xfrm>
            </p:grpSpPr>
            <p:grpSp>
              <p:nvGrpSpPr>
                <p:cNvPr id="1817" name=""/>
                <p:cNvGrpSpPr/>
                <p:nvPr/>
              </p:nvGrpSpPr>
              <p:grpSpPr>
                <a:xfrm>
                  <a:off x="7792920" y="3070080"/>
                  <a:ext cx="309600" cy="285840"/>
                  <a:chOff x="7792920" y="3070080"/>
                  <a:chExt cx="309600" cy="285840"/>
                </a:xfrm>
              </p:grpSpPr>
              <p:sp>
                <p:nvSpPr>
                  <p:cNvPr id="1818" name=""/>
                  <p:cNvSpPr/>
                  <p:nvPr/>
                </p:nvSpPr>
                <p:spPr>
                  <a:xfrm>
                    <a:off x="7792920" y="3132000"/>
                    <a:ext cx="3096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7" h="152">
                        <a:moveTo>
                          <a:pt x="434" y="152"/>
                        </a:moveTo>
                        <a:lnTo>
                          <a:pt x="587" y="71"/>
                        </a:lnTo>
                        <a:lnTo>
                          <a:pt x="163" y="0"/>
                        </a:lnTo>
                        <a:lnTo>
                          <a:pt x="0" y="83"/>
                        </a:lnTo>
                        <a:lnTo>
                          <a:pt x="434" y="152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7807320" y="3070080"/>
                    <a:ext cx="2588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74">
                        <a:moveTo>
                          <a:pt x="0" y="37"/>
                        </a:moveTo>
                        <a:lnTo>
                          <a:pt x="381" y="74"/>
                        </a:lnTo>
                        <a:lnTo>
                          <a:pt x="488" y="41"/>
                        </a:lnTo>
                        <a:lnTo>
                          <a:pt x="116" y="0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8010360" y="3081240"/>
                    <a:ext cx="55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13">
                        <a:moveTo>
                          <a:pt x="0" y="32"/>
                        </a:moveTo>
                        <a:lnTo>
                          <a:pt x="107" y="0"/>
                        </a:lnTo>
                        <a:lnTo>
                          <a:pt x="107" y="261"/>
                        </a:lnTo>
                        <a:lnTo>
                          <a:pt x="0" y="313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7807320" y="3081240"/>
                    <a:ext cx="20304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315">
                        <a:moveTo>
                          <a:pt x="1" y="0"/>
                        </a:moveTo>
                        <a:lnTo>
                          <a:pt x="383" y="37"/>
                        </a:lnTo>
                        <a:lnTo>
                          <a:pt x="383" y="315"/>
                        </a:lnTo>
                        <a:lnTo>
                          <a:pt x="0" y="25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8021520" y="3151080"/>
                    <a:ext cx="810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777">
                        <a:moveTo>
                          <a:pt x="153" y="0"/>
                        </a:moveTo>
                        <a:lnTo>
                          <a:pt x="0" y="82"/>
                        </a:lnTo>
                        <a:lnTo>
                          <a:pt x="0" y="777"/>
                        </a:lnTo>
                        <a:lnTo>
                          <a:pt x="153" y="677"/>
                        </a:lnTo>
                        <a:lnTo>
                          <a:pt x="153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7792920" y="3154320"/>
                    <a:ext cx="23040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65">
                        <a:moveTo>
                          <a:pt x="0" y="0"/>
                        </a:moveTo>
                        <a:lnTo>
                          <a:pt x="435" y="70"/>
                        </a:lnTo>
                        <a:lnTo>
                          <a:pt x="434" y="765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4" name=""/>
                <p:cNvGrpSpPr/>
                <p:nvPr/>
              </p:nvGrpSpPr>
              <p:grpSpPr>
                <a:xfrm>
                  <a:off x="7816680" y="3084480"/>
                  <a:ext cx="195480" cy="119160"/>
                  <a:chOff x="7816680" y="3084480"/>
                  <a:chExt cx="195480" cy="119160"/>
                </a:xfrm>
              </p:grpSpPr>
              <p:sp>
                <p:nvSpPr>
                  <p:cNvPr id="1825" name=""/>
                  <p:cNvSpPr/>
                  <p:nvPr/>
                </p:nvSpPr>
                <p:spPr>
                  <a:xfrm>
                    <a:off x="7816680" y="3084480"/>
                    <a:ext cx="30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8">
                        <a:moveTo>
                          <a:pt x="0" y="0"/>
                        </a:moveTo>
                        <a:lnTo>
                          <a:pt x="57" y="7"/>
                        </a:lnTo>
                        <a:lnTo>
                          <a:pt x="57" y="28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7854840" y="3097080"/>
                    <a:ext cx="30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7">
                        <a:moveTo>
                          <a:pt x="0" y="0"/>
                        </a:moveTo>
                        <a:lnTo>
                          <a:pt x="57" y="6"/>
                        </a:lnTo>
                        <a:lnTo>
                          <a:pt x="57" y="27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7897680" y="3087720"/>
                    <a:ext cx="30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7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7942320" y="309096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7">
                        <a:moveTo>
                          <a:pt x="0" y="0"/>
                        </a:moveTo>
                        <a:lnTo>
                          <a:pt x="57" y="6"/>
                        </a:lnTo>
                        <a:lnTo>
                          <a:pt x="57" y="27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7942320" y="310212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7">
                        <a:moveTo>
                          <a:pt x="0" y="0"/>
                        </a:moveTo>
                        <a:lnTo>
                          <a:pt x="57" y="6"/>
                        </a:lnTo>
                        <a:lnTo>
                          <a:pt x="57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7896240" y="3112920"/>
                    <a:ext cx="30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7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27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7942320" y="3125880"/>
                    <a:ext cx="30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6">
                        <a:moveTo>
                          <a:pt x="0" y="0"/>
                        </a:moveTo>
                        <a:lnTo>
                          <a:pt x="57" y="6"/>
                        </a:lnTo>
                        <a:lnTo>
                          <a:pt x="57" y="26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7981920" y="3174840"/>
                    <a:ext cx="30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8">
                        <a:moveTo>
                          <a:pt x="0" y="0"/>
                        </a:moveTo>
                        <a:lnTo>
                          <a:pt x="57" y="7"/>
                        </a:lnTo>
                        <a:lnTo>
                          <a:pt x="57" y="28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7983360" y="3197160"/>
                    <a:ext cx="28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26">
                        <a:moveTo>
                          <a:pt x="0" y="0"/>
                        </a:moveTo>
                        <a:lnTo>
                          <a:pt x="56" y="5"/>
                        </a:lnTo>
                        <a:lnTo>
                          <a:pt x="56" y="26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4" name=""/>
              <p:cNvGrpSpPr/>
              <p:nvPr/>
            </p:nvGrpSpPr>
            <p:grpSpPr>
              <a:xfrm>
                <a:off x="8039160" y="3032280"/>
                <a:ext cx="384120" cy="398160"/>
                <a:chOff x="8039160" y="3032280"/>
                <a:chExt cx="384120" cy="398160"/>
              </a:xfrm>
            </p:grpSpPr>
            <p:grpSp>
              <p:nvGrpSpPr>
                <p:cNvPr id="1835" name=""/>
                <p:cNvGrpSpPr/>
                <p:nvPr/>
              </p:nvGrpSpPr>
              <p:grpSpPr>
                <a:xfrm>
                  <a:off x="8039160" y="3032280"/>
                  <a:ext cx="384120" cy="398160"/>
                  <a:chOff x="8039160" y="3032280"/>
                  <a:chExt cx="384120" cy="39816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8042400" y="3146400"/>
                    <a:ext cx="38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1" h="289">
                        <a:moveTo>
                          <a:pt x="0" y="211"/>
                        </a:moveTo>
                        <a:lnTo>
                          <a:pt x="408" y="289"/>
                        </a:lnTo>
                        <a:lnTo>
                          <a:pt x="721" y="56"/>
                        </a:lnTo>
                        <a:lnTo>
                          <a:pt x="329" y="0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8094600" y="3081240"/>
                    <a:ext cx="158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491">
                        <a:moveTo>
                          <a:pt x="0" y="0"/>
                        </a:moveTo>
                        <a:lnTo>
                          <a:pt x="300" y="24"/>
                        </a:lnTo>
                        <a:lnTo>
                          <a:pt x="300" y="491"/>
                        </a:lnTo>
                        <a:lnTo>
                          <a:pt x="0" y="4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8250120" y="3059280"/>
                    <a:ext cx="1368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569">
                        <a:moveTo>
                          <a:pt x="0" y="105"/>
                        </a:moveTo>
                        <a:lnTo>
                          <a:pt x="0" y="569"/>
                        </a:lnTo>
                        <a:lnTo>
                          <a:pt x="258" y="383"/>
                        </a:lnTo>
                        <a:lnTo>
                          <a:pt x="258" y="0"/>
                        </a:lnTo>
                        <a:lnTo>
                          <a:pt x="0" y="105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8094600" y="3054240"/>
                    <a:ext cx="29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127">
                        <a:moveTo>
                          <a:pt x="0" y="103"/>
                        </a:moveTo>
                        <a:lnTo>
                          <a:pt x="296" y="127"/>
                        </a:lnTo>
                        <a:lnTo>
                          <a:pt x="554" y="22"/>
                        </a:lnTo>
                        <a:lnTo>
                          <a:pt x="296" y="0"/>
                        </a:lnTo>
                        <a:lnTo>
                          <a:pt x="0" y="103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8132760" y="3032280"/>
                    <a:ext cx="2127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77">
                        <a:moveTo>
                          <a:pt x="0" y="61"/>
                        </a:moveTo>
                        <a:lnTo>
                          <a:pt x="215" y="77"/>
                        </a:lnTo>
                        <a:lnTo>
                          <a:pt x="404" y="19"/>
                        </a:lnTo>
                        <a:lnTo>
                          <a:pt x="202" y="0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8132760" y="3048120"/>
                    <a:ext cx="111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119">
                        <a:moveTo>
                          <a:pt x="0" y="0"/>
                        </a:moveTo>
                        <a:lnTo>
                          <a:pt x="211" y="15"/>
                        </a:lnTo>
                        <a:lnTo>
                          <a:pt x="211" y="119"/>
                        </a:lnTo>
                        <a:lnTo>
                          <a:pt x="0" y="1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>
                    <a:off x="8244000" y="3036960"/>
                    <a:ext cx="101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61">
                        <a:moveTo>
                          <a:pt x="0" y="58"/>
                        </a:moveTo>
                        <a:lnTo>
                          <a:pt x="0" y="161"/>
                        </a:lnTo>
                        <a:lnTo>
                          <a:pt x="193" y="83"/>
                        </a:lnTo>
                        <a:lnTo>
                          <a:pt x="193" y="0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>
                    <a:off x="8256600" y="3160800"/>
                    <a:ext cx="1666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6" h="1021">
                        <a:moveTo>
                          <a:pt x="316" y="0"/>
                        </a:moveTo>
                        <a:lnTo>
                          <a:pt x="2" y="236"/>
                        </a:lnTo>
                        <a:lnTo>
                          <a:pt x="0" y="1021"/>
                        </a:lnTo>
                        <a:lnTo>
                          <a:pt x="316" y="715"/>
                        </a:lnTo>
                        <a:lnTo>
                          <a:pt x="316" y="0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8039160" y="3201840"/>
                    <a:ext cx="21744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863">
                        <a:moveTo>
                          <a:pt x="4" y="0"/>
                        </a:moveTo>
                        <a:lnTo>
                          <a:pt x="411" y="78"/>
                        </a:lnTo>
                        <a:lnTo>
                          <a:pt x="411" y="863"/>
                        </a:lnTo>
                        <a:lnTo>
                          <a:pt x="0" y="723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5" name=""/>
                <p:cNvGrpSpPr/>
                <p:nvPr/>
              </p:nvGrpSpPr>
              <p:grpSpPr>
                <a:xfrm>
                  <a:off x="8064360" y="3084480"/>
                  <a:ext cx="171720" cy="169920"/>
                  <a:chOff x="8064360" y="3084480"/>
                  <a:chExt cx="171720" cy="169920"/>
                </a:xfrm>
              </p:grpSpPr>
              <p:grpSp>
                <p:nvGrpSpPr>
                  <p:cNvPr id="1846" name=""/>
                  <p:cNvGrpSpPr/>
                  <p:nvPr/>
                </p:nvGrpSpPr>
                <p:grpSpPr>
                  <a:xfrm>
                    <a:off x="8104320" y="3084480"/>
                    <a:ext cx="131760" cy="38160"/>
                    <a:chOff x="8104320" y="3084480"/>
                    <a:chExt cx="131760" cy="38160"/>
                  </a:xfrm>
                </p:grpSpPr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8104320" y="3084480"/>
                      <a:ext cx="270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17">
                          <a:moveTo>
                            <a:pt x="0" y="0"/>
                          </a:moveTo>
                          <a:lnTo>
                            <a:pt x="50" y="6"/>
                          </a:lnTo>
                          <a:lnTo>
                            <a:pt x="50" y="117"/>
                          </a:lnTo>
                          <a:lnTo>
                            <a:pt x="1" y="10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8139240" y="308628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17">
                          <a:moveTo>
                            <a:pt x="0" y="0"/>
                          </a:moveTo>
                          <a:lnTo>
                            <a:pt x="50" y="5"/>
                          </a:lnTo>
                          <a:lnTo>
                            <a:pt x="50" y="117"/>
                          </a:lnTo>
                          <a:lnTo>
                            <a:pt x="0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8174160" y="3087720"/>
                      <a:ext cx="2700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120">
                          <a:moveTo>
                            <a:pt x="0" y="0"/>
                          </a:moveTo>
                          <a:lnTo>
                            <a:pt x="52" y="5"/>
                          </a:lnTo>
                          <a:lnTo>
                            <a:pt x="50" y="120"/>
                          </a:lnTo>
                          <a:lnTo>
                            <a:pt x="0" y="11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8209080" y="30909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24">
                          <a:moveTo>
                            <a:pt x="0" y="0"/>
                          </a:moveTo>
                          <a:lnTo>
                            <a:pt x="50" y="6"/>
                          </a:lnTo>
                          <a:lnTo>
                            <a:pt x="50" y="124"/>
                          </a:lnTo>
                          <a:lnTo>
                            <a:pt x="0" y="1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1" name=""/>
                  <p:cNvGrpSpPr/>
                  <p:nvPr/>
                </p:nvGrpSpPr>
                <p:grpSpPr>
                  <a:xfrm>
                    <a:off x="8104320" y="3121200"/>
                    <a:ext cx="131760" cy="39600"/>
                    <a:chOff x="8104320" y="3121200"/>
                    <a:chExt cx="131760" cy="39600"/>
                  </a:xfrm>
                </p:grpSpPr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8104320" y="31212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20">
                          <a:moveTo>
                            <a:pt x="0" y="0"/>
                          </a:moveTo>
                          <a:lnTo>
                            <a:pt x="50" y="8"/>
                          </a:lnTo>
                          <a:lnTo>
                            <a:pt x="50" y="120"/>
                          </a:lnTo>
                          <a:lnTo>
                            <a:pt x="1" y="1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8139240" y="3124080"/>
                      <a:ext cx="27000" cy="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121">
                          <a:moveTo>
                            <a:pt x="1" y="0"/>
                          </a:moveTo>
                          <a:lnTo>
                            <a:pt x="51" y="10"/>
                          </a:lnTo>
                          <a:lnTo>
                            <a:pt x="50" y="121"/>
                          </a:lnTo>
                          <a:lnTo>
                            <a:pt x="0" y="11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4" name=""/>
                    <p:cNvSpPr/>
                    <p:nvPr/>
                  </p:nvSpPr>
                  <p:spPr>
                    <a:xfrm>
                      <a:off x="8174160" y="312588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119">
                          <a:moveTo>
                            <a:pt x="0" y="0"/>
                          </a:moveTo>
                          <a:lnTo>
                            <a:pt x="52" y="7"/>
                          </a:lnTo>
                          <a:lnTo>
                            <a:pt x="50" y="119"/>
                          </a:lnTo>
                          <a:lnTo>
                            <a:pt x="0" y="1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8209080" y="312912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20">
                          <a:moveTo>
                            <a:pt x="0" y="0"/>
                          </a:moveTo>
                          <a:lnTo>
                            <a:pt x="50" y="9"/>
                          </a:lnTo>
                          <a:lnTo>
                            <a:pt x="50" y="120"/>
                          </a:lnTo>
                          <a:lnTo>
                            <a:pt x="0" y="1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6" name=""/>
                  <p:cNvGrpSpPr/>
                  <p:nvPr/>
                </p:nvGrpSpPr>
                <p:grpSpPr>
                  <a:xfrm>
                    <a:off x="8064360" y="3209760"/>
                    <a:ext cx="163800" cy="44640"/>
                    <a:chOff x="8064360" y="3209760"/>
                    <a:chExt cx="163800" cy="44640"/>
                  </a:xfrm>
                </p:grpSpPr>
                <p:grpSp>
                  <p:nvGrpSpPr>
                    <p:cNvPr id="1857" name=""/>
                    <p:cNvGrpSpPr/>
                    <p:nvPr/>
                  </p:nvGrpSpPr>
                  <p:grpSpPr>
                    <a:xfrm>
                      <a:off x="8064360" y="3209760"/>
                      <a:ext cx="163800" cy="28800"/>
                      <a:chOff x="8064360" y="3209760"/>
                      <a:chExt cx="163800" cy="28800"/>
                    </a:xfrm>
                  </p:grpSpPr>
                  <p:sp>
                    <p:nvSpPr>
                      <p:cNvPr id="1858" name=""/>
                      <p:cNvSpPr/>
                      <p:nvPr/>
                    </p:nvSpPr>
                    <p:spPr>
                      <a:xfrm>
                        <a:off x="8105760" y="3214800"/>
                        <a:ext cx="349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5">
                            <a:moveTo>
                              <a:pt x="1" y="0"/>
                            </a:moveTo>
                            <a:lnTo>
                              <a:pt x="67" y="13"/>
                            </a:lnTo>
                            <a:lnTo>
                              <a:pt x="67" y="55"/>
                            </a:lnTo>
                            <a:lnTo>
                              <a:pt x="0" y="41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9" name=""/>
                      <p:cNvSpPr/>
                      <p:nvPr/>
                    </p:nvSpPr>
                    <p:spPr>
                      <a:xfrm>
                        <a:off x="8150400" y="3218040"/>
                        <a:ext cx="349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9">
                            <a:moveTo>
                              <a:pt x="0" y="0"/>
                            </a:moveTo>
                            <a:lnTo>
                              <a:pt x="67" y="15"/>
                            </a:lnTo>
                            <a:lnTo>
                              <a:pt x="67" y="59"/>
                            </a:lnTo>
                            <a:lnTo>
                              <a:pt x="0" y="4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0" name=""/>
                      <p:cNvSpPr/>
                      <p:nvPr/>
                    </p:nvSpPr>
                    <p:spPr>
                      <a:xfrm>
                        <a:off x="8193240" y="3222720"/>
                        <a:ext cx="349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8">
                            <a:moveTo>
                              <a:pt x="0" y="0"/>
                            </a:moveTo>
                            <a:lnTo>
                              <a:pt x="67" y="14"/>
                            </a:lnTo>
                            <a:lnTo>
                              <a:pt x="67" y="58"/>
                            </a:lnTo>
                            <a:lnTo>
                              <a:pt x="0" y="4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1" name=""/>
                      <p:cNvSpPr/>
                      <p:nvPr/>
                    </p:nvSpPr>
                    <p:spPr>
                      <a:xfrm>
                        <a:off x="8064360" y="3209760"/>
                        <a:ext cx="349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54">
                            <a:moveTo>
                              <a:pt x="0" y="0"/>
                            </a:moveTo>
                            <a:lnTo>
                              <a:pt x="66" y="13"/>
                            </a:lnTo>
                            <a:lnTo>
                              <a:pt x="66" y="54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62" name=""/>
                    <p:cNvGrpSpPr/>
                    <p:nvPr/>
                  </p:nvGrpSpPr>
                  <p:grpSpPr>
                    <a:xfrm>
                      <a:off x="8064360" y="3225960"/>
                      <a:ext cx="163800" cy="28440"/>
                      <a:chOff x="8064360" y="3225960"/>
                      <a:chExt cx="163800" cy="28440"/>
                    </a:xfrm>
                  </p:grpSpPr>
                  <p:sp>
                    <p:nvSpPr>
                      <p:cNvPr id="1863" name=""/>
                      <p:cNvSpPr/>
                      <p:nvPr/>
                    </p:nvSpPr>
                    <p:spPr>
                      <a:xfrm>
                        <a:off x="8105760" y="3230640"/>
                        <a:ext cx="349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6">
                            <a:moveTo>
                              <a:pt x="2" y="0"/>
                            </a:moveTo>
                            <a:lnTo>
                              <a:pt x="67" y="14"/>
                            </a:lnTo>
                            <a:lnTo>
                              <a:pt x="67" y="56"/>
                            </a:lnTo>
                            <a:lnTo>
                              <a:pt x="0" y="43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4" name=""/>
                      <p:cNvSpPr/>
                      <p:nvPr/>
                    </p:nvSpPr>
                    <p:spPr>
                      <a:xfrm>
                        <a:off x="8148600" y="3233880"/>
                        <a:ext cx="367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6">
                            <a:moveTo>
                              <a:pt x="0" y="0"/>
                            </a:moveTo>
                            <a:lnTo>
                              <a:pt x="67" y="14"/>
                            </a:lnTo>
                            <a:lnTo>
                              <a:pt x="67" y="56"/>
                            </a:lnTo>
                            <a:lnTo>
                              <a:pt x="0" y="4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5" name=""/>
                      <p:cNvSpPr/>
                      <p:nvPr/>
                    </p:nvSpPr>
                    <p:spPr>
                      <a:xfrm>
                        <a:off x="8193240" y="3238560"/>
                        <a:ext cx="349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56">
                            <a:moveTo>
                              <a:pt x="0" y="0"/>
                            </a:moveTo>
                            <a:lnTo>
                              <a:pt x="67" y="16"/>
                            </a:lnTo>
                            <a:lnTo>
                              <a:pt x="67" y="56"/>
                            </a:lnTo>
                            <a:lnTo>
                              <a:pt x="0" y="4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6" name=""/>
                      <p:cNvSpPr/>
                      <p:nvPr/>
                    </p:nvSpPr>
                    <p:spPr>
                      <a:xfrm>
                        <a:off x="8064360" y="3225960"/>
                        <a:ext cx="349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56">
                            <a:moveTo>
                              <a:pt x="0" y="0"/>
                            </a:moveTo>
                            <a:lnTo>
                              <a:pt x="66" y="13"/>
                            </a:lnTo>
                            <a:lnTo>
                              <a:pt x="66" y="56"/>
                            </a:lnTo>
                            <a:lnTo>
                              <a:pt x="0" y="4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867" name=""/>
              <p:cNvGrpSpPr/>
              <p:nvPr/>
            </p:nvGrpSpPr>
            <p:grpSpPr>
              <a:xfrm>
                <a:off x="8286840" y="3174840"/>
                <a:ext cx="271440" cy="360360"/>
                <a:chOff x="8286840" y="3174840"/>
                <a:chExt cx="271440" cy="360360"/>
              </a:xfrm>
            </p:grpSpPr>
            <p:grpSp>
              <p:nvGrpSpPr>
                <p:cNvPr id="1868" name=""/>
                <p:cNvGrpSpPr/>
                <p:nvPr/>
              </p:nvGrpSpPr>
              <p:grpSpPr>
                <a:xfrm>
                  <a:off x="8286840" y="3174840"/>
                  <a:ext cx="271440" cy="360360"/>
                  <a:chOff x="8286840" y="3174840"/>
                  <a:chExt cx="271440" cy="360360"/>
                </a:xfrm>
              </p:grpSpPr>
              <p:sp>
                <p:nvSpPr>
                  <p:cNvPr id="1869" name=""/>
                  <p:cNvSpPr/>
                  <p:nvPr/>
                </p:nvSpPr>
                <p:spPr>
                  <a:xfrm>
                    <a:off x="8335800" y="3187800"/>
                    <a:ext cx="1605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17">
                        <a:moveTo>
                          <a:pt x="0" y="92"/>
                        </a:moveTo>
                        <a:lnTo>
                          <a:pt x="186" y="117"/>
                        </a:lnTo>
                        <a:lnTo>
                          <a:pt x="302" y="17"/>
                        </a:lnTo>
                        <a:lnTo>
                          <a:pt x="127" y="0"/>
                        </a:lnTo>
                        <a:lnTo>
                          <a:pt x="0" y="92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70" name=""/>
                  <p:cNvGrpSpPr/>
                  <p:nvPr/>
                </p:nvGrpSpPr>
                <p:grpSpPr>
                  <a:xfrm>
                    <a:off x="8362800" y="3174840"/>
                    <a:ext cx="111240" cy="38160"/>
                    <a:chOff x="8362800" y="3174840"/>
                    <a:chExt cx="111240" cy="38160"/>
                  </a:xfrm>
                </p:grpSpPr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8362800" y="3189240"/>
                      <a:ext cx="669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86">
                          <a:moveTo>
                            <a:pt x="1" y="0"/>
                          </a:moveTo>
                          <a:lnTo>
                            <a:pt x="127" y="13"/>
                          </a:lnTo>
                          <a:lnTo>
                            <a:pt x="127" y="86"/>
                          </a:lnTo>
                          <a:lnTo>
                            <a:pt x="0" y="69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8429760" y="3178080"/>
                      <a:ext cx="442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130">
                          <a:moveTo>
                            <a:pt x="0" y="60"/>
                          </a:moveTo>
                          <a:lnTo>
                            <a:pt x="0" y="130"/>
                          </a:lnTo>
                          <a:lnTo>
                            <a:pt x="84" y="60"/>
                          </a:lnTo>
                          <a:lnTo>
                            <a:pt x="84" y="0"/>
                          </a:lnTo>
                          <a:lnTo>
                            <a:pt x="0" y="60"/>
                          </a:lnTo>
                          <a:close/>
                        </a:path>
                      </a:pathLst>
                    </a:custGeom>
                    <a:solidFill>
                      <a:srgbClr val="009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8362800" y="3174840"/>
                      <a:ext cx="1112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70">
                          <a:moveTo>
                            <a:pt x="0" y="56"/>
                          </a:moveTo>
                          <a:lnTo>
                            <a:pt x="126" y="70"/>
                          </a:lnTo>
                          <a:lnTo>
                            <a:pt x="210" y="12"/>
                          </a:lnTo>
                          <a:lnTo>
                            <a:pt x="85" y="0"/>
                          </a:lnTo>
                          <a:lnTo>
                            <a:pt x="0" y="56"/>
                          </a:lnTo>
                          <a:close/>
                        </a:path>
                      </a:pathLst>
                    </a:custGeom>
                    <a:solidFill>
                      <a:srgbClr val="00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74" name=""/>
                  <p:cNvSpPr/>
                  <p:nvPr/>
                </p:nvSpPr>
                <p:spPr>
                  <a:xfrm>
                    <a:off x="8337600" y="3211560"/>
                    <a:ext cx="968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471">
                        <a:moveTo>
                          <a:pt x="0" y="0"/>
                        </a:moveTo>
                        <a:lnTo>
                          <a:pt x="184" y="24"/>
                        </a:lnTo>
                        <a:lnTo>
                          <a:pt x="184" y="471"/>
                        </a:lnTo>
                        <a:lnTo>
                          <a:pt x="0" y="4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8434440" y="3191040"/>
                    <a:ext cx="619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545">
                        <a:moveTo>
                          <a:pt x="0" y="99"/>
                        </a:moveTo>
                        <a:lnTo>
                          <a:pt x="116" y="0"/>
                        </a:lnTo>
                        <a:lnTo>
                          <a:pt x="116" y="417"/>
                        </a:lnTo>
                        <a:lnTo>
                          <a:pt x="0" y="545"/>
                        </a:lnTo>
                        <a:lnTo>
                          <a:pt x="0" y="99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8432640" y="3301920"/>
                    <a:ext cx="12564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389">
                        <a:moveTo>
                          <a:pt x="118" y="0"/>
                        </a:moveTo>
                        <a:lnTo>
                          <a:pt x="0" y="127"/>
                        </a:lnTo>
                        <a:lnTo>
                          <a:pt x="44" y="389"/>
                        </a:lnTo>
                        <a:lnTo>
                          <a:pt x="236" y="144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8286840" y="3324240"/>
                    <a:ext cx="169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308">
                        <a:moveTo>
                          <a:pt x="92" y="0"/>
                        </a:moveTo>
                        <a:lnTo>
                          <a:pt x="278" y="46"/>
                        </a:lnTo>
                        <a:lnTo>
                          <a:pt x="321" y="308"/>
                        </a:lnTo>
                        <a:lnTo>
                          <a:pt x="0" y="222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8454960" y="3340080"/>
                    <a:ext cx="1033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739">
                        <a:moveTo>
                          <a:pt x="1" y="245"/>
                        </a:moveTo>
                        <a:lnTo>
                          <a:pt x="193" y="0"/>
                        </a:lnTo>
                        <a:lnTo>
                          <a:pt x="193" y="401"/>
                        </a:lnTo>
                        <a:lnTo>
                          <a:pt x="0" y="739"/>
                        </a:lnTo>
                        <a:lnTo>
                          <a:pt x="1" y="245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8286840" y="3381480"/>
                    <a:ext cx="1699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579">
                        <a:moveTo>
                          <a:pt x="0" y="0"/>
                        </a:moveTo>
                        <a:lnTo>
                          <a:pt x="320" y="85"/>
                        </a:lnTo>
                        <a:lnTo>
                          <a:pt x="320" y="579"/>
                        </a:lnTo>
                        <a:lnTo>
                          <a:pt x="0" y="46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0" name=""/>
                <p:cNvGrpSpPr/>
                <p:nvPr/>
              </p:nvGrpSpPr>
              <p:grpSpPr>
                <a:xfrm>
                  <a:off x="8346960" y="3218040"/>
                  <a:ext cx="73080" cy="79200"/>
                  <a:chOff x="8346960" y="3218040"/>
                  <a:chExt cx="73080" cy="79200"/>
                </a:xfrm>
              </p:grpSpPr>
              <p:grpSp>
                <p:nvGrpSpPr>
                  <p:cNvPr id="1881" name=""/>
                  <p:cNvGrpSpPr/>
                  <p:nvPr/>
                </p:nvGrpSpPr>
                <p:grpSpPr>
                  <a:xfrm>
                    <a:off x="8346960" y="3218040"/>
                    <a:ext cx="73080" cy="25200"/>
                    <a:chOff x="8346960" y="3218040"/>
                    <a:chExt cx="73080" cy="25200"/>
                  </a:xfrm>
                </p:grpSpPr>
                <p:sp>
                  <p:nvSpPr>
                    <p:cNvPr id="1882" name=""/>
                    <p:cNvSpPr/>
                    <p:nvPr/>
                  </p:nvSpPr>
                  <p:spPr>
                    <a:xfrm>
                      <a:off x="8346960" y="3218040"/>
                      <a:ext cx="1584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2">
                          <a:moveTo>
                            <a:pt x="0" y="0"/>
                          </a:moveTo>
                          <a:lnTo>
                            <a:pt x="30" y="3"/>
                          </a:lnTo>
                          <a:lnTo>
                            <a:pt x="30" y="82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>
                      <a:off x="8375760" y="321948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6">
                          <a:moveTo>
                            <a:pt x="0" y="0"/>
                          </a:moveTo>
                          <a:lnTo>
                            <a:pt x="30" y="4"/>
                          </a:lnTo>
                          <a:lnTo>
                            <a:pt x="30" y="86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4" name=""/>
                    <p:cNvSpPr/>
                    <p:nvPr/>
                  </p:nvSpPr>
                  <p:spPr>
                    <a:xfrm>
                      <a:off x="8404200" y="322092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4">
                          <a:moveTo>
                            <a:pt x="0" y="0"/>
                          </a:moveTo>
                          <a:lnTo>
                            <a:pt x="29" y="4"/>
                          </a:lnTo>
                          <a:lnTo>
                            <a:pt x="29" y="84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5" name=""/>
                  <p:cNvGrpSpPr/>
                  <p:nvPr/>
                </p:nvGrpSpPr>
                <p:grpSpPr>
                  <a:xfrm>
                    <a:off x="8346960" y="3243240"/>
                    <a:ext cx="73080" cy="28440"/>
                    <a:chOff x="8346960" y="3243240"/>
                    <a:chExt cx="73080" cy="28440"/>
                  </a:xfrm>
                </p:grpSpPr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8346960" y="324324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5">
                          <a:moveTo>
                            <a:pt x="0" y="0"/>
                          </a:moveTo>
                          <a:lnTo>
                            <a:pt x="30" y="6"/>
                          </a:lnTo>
                          <a:lnTo>
                            <a:pt x="30" y="85"/>
                          </a:lnTo>
                          <a:lnTo>
                            <a:pt x="0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8375760" y="324648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5">
                          <a:moveTo>
                            <a:pt x="0" y="0"/>
                          </a:moveTo>
                          <a:lnTo>
                            <a:pt x="30" y="6"/>
                          </a:lnTo>
                          <a:lnTo>
                            <a:pt x="30" y="85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8404200" y="3247920"/>
                      <a:ext cx="158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5">
                          <a:moveTo>
                            <a:pt x="0" y="0"/>
                          </a:moveTo>
                          <a:lnTo>
                            <a:pt x="29" y="6"/>
                          </a:lnTo>
                          <a:lnTo>
                            <a:pt x="29" y="85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9" name=""/>
                  <p:cNvGrpSpPr/>
                  <p:nvPr/>
                </p:nvGrpSpPr>
                <p:grpSpPr>
                  <a:xfrm>
                    <a:off x="8346960" y="3268800"/>
                    <a:ext cx="73080" cy="28440"/>
                    <a:chOff x="8346960" y="3268800"/>
                    <a:chExt cx="73080" cy="28440"/>
                  </a:xfrm>
                </p:grpSpPr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8346960" y="3268800"/>
                      <a:ext cx="158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7">
                          <a:moveTo>
                            <a:pt x="0" y="0"/>
                          </a:moveTo>
                          <a:lnTo>
                            <a:pt x="30" y="8"/>
                          </a:lnTo>
                          <a:lnTo>
                            <a:pt x="30" y="87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8375760" y="327168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86">
                          <a:moveTo>
                            <a:pt x="0" y="0"/>
                          </a:moveTo>
                          <a:lnTo>
                            <a:pt x="30" y="6"/>
                          </a:lnTo>
                          <a:lnTo>
                            <a:pt x="30" y="86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8404200" y="3274920"/>
                      <a:ext cx="15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86">
                          <a:moveTo>
                            <a:pt x="0" y="0"/>
                          </a:moveTo>
                          <a:lnTo>
                            <a:pt x="29" y="7"/>
                          </a:lnTo>
                          <a:lnTo>
                            <a:pt x="29" y="86"/>
                          </a:lnTo>
                          <a:lnTo>
                            <a:pt x="0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893" name=""/>
              <p:cNvGrpSpPr/>
              <p:nvPr/>
            </p:nvGrpSpPr>
            <p:grpSpPr>
              <a:xfrm>
                <a:off x="7567560" y="3098880"/>
                <a:ext cx="406440" cy="439560"/>
                <a:chOff x="7567560" y="3098880"/>
                <a:chExt cx="406440" cy="439560"/>
              </a:xfrm>
            </p:grpSpPr>
            <p:sp>
              <p:nvSpPr>
                <p:cNvPr id="1894" name=""/>
                <p:cNvSpPr/>
                <p:nvPr/>
              </p:nvSpPr>
              <p:spPr>
                <a:xfrm>
                  <a:off x="7567560" y="3124080"/>
                  <a:ext cx="405000" cy="49320"/>
                </a:xfrm>
                <a:custGeom>
                  <a:avLst/>
                  <a:gdLst/>
                  <a:ahLst/>
                  <a:rect l="l" t="t" r="r" b="b"/>
                  <a:pathLst>
                    <a:path w="766" h="183">
                      <a:moveTo>
                        <a:pt x="0" y="108"/>
                      </a:moveTo>
                      <a:lnTo>
                        <a:pt x="437" y="183"/>
                      </a:lnTo>
                      <a:lnTo>
                        <a:pt x="766" y="53"/>
                      </a:lnTo>
                      <a:lnTo>
                        <a:pt x="365" y="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7567560" y="3152880"/>
                  <a:ext cx="231840" cy="385560"/>
                </a:xfrm>
                <a:custGeom>
                  <a:avLst/>
                  <a:gdLst/>
                  <a:ahLst/>
                  <a:rect l="l" t="t" r="r" b="b"/>
                  <a:pathLst>
                    <a:path w="437" h="1459">
                      <a:moveTo>
                        <a:pt x="0" y="0"/>
                      </a:moveTo>
                      <a:lnTo>
                        <a:pt x="437" y="76"/>
                      </a:lnTo>
                      <a:lnTo>
                        <a:pt x="437" y="1459"/>
                      </a:lnTo>
                      <a:lnTo>
                        <a:pt x="345" y="1428"/>
                      </a:lnTo>
                      <a:lnTo>
                        <a:pt x="346" y="1253"/>
                      </a:lnTo>
                      <a:lnTo>
                        <a:pt x="222" y="1203"/>
                      </a:lnTo>
                      <a:lnTo>
                        <a:pt x="222" y="1359"/>
                      </a:lnTo>
                      <a:lnTo>
                        <a:pt x="153" y="1327"/>
                      </a:lnTo>
                      <a:lnTo>
                        <a:pt x="153" y="1171"/>
                      </a:lnTo>
                      <a:lnTo>
                        <a:pt x="55" y="1125"/>
                      </a:lnTo>
                      <a:lnTo>
                        <a:pt x="55" y="1283"/>
                      </a:lnTo>
                      <a:lnTo>
                        <a:pt x="0" y="125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6" name=""/>
                <p:cNvGrpSpPr/>
                <p:nvPr/>
              </p:nvGrpSpPr>
              <p:grpSpPr>
                <a:xfrm>
                  <a:off x="7575480" y="3098880"/>
                  <a:ext cx="398520" cy="439560"/>
                  <a:chOff x="7575480" y="3098880"/>
                  <a:chExt cx="398520" cy="439560"/>
                </a:xfrm>
              </p:grpSpPr>
              <p:sp>
                <p:nvSpPr>
                  <p:cNvPr id="1897" name=""/>
                  <p:cNvSpPr/>
                  <p:nvPr/>
                </p:nvSpPr>
                <p:spPr>
                  <a:xfrm>
                    <a:off x="7799400" y="3138480"/>
                    <a:ext cx="17460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1514">
                        <a:moveTo>
                          <a:pt x="0" y="128"/>
                        </a:moveTo>
                        <a:lnTo>
                          <a:pt x="326" y="0"/>
                        </a:lnTo>
                        <a:lnTo>
                          <a:pt x="330" y="1171"/>
                        </a:lnTo>
                        <a:lnTo>
                          <a:pt x="0" y="1514"/>
                        </a:lnTo>
                        <a:lnTo>
                          <a:pt x="0" y="128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8" name=""/>
                  <p:cNvGrpSpPr/>
                  <p:nvPr/>
                </p:nvGrpSpPr>
                <p:grpSpPr>
                  <a:xfrm>
                    <a:off x="7684920" y="3470400"/>
                    <a:ext cx="68400" cy="41040"/>
                    <a:chOff x="7684920" y="3470400"/>
                    <a:chExt cx="68400" cy="41040"/>
                  </a:xfrm>
                </p:grpSpPr>
                <p:sp>
                  <p:nvSpPr>
                    <p:cNvPr id="1899" name=""/>
                    <p:cNvSpPr/>
                    <p:nvPr/>
                  </p:nvSpPr>
                  <p:spPr>
                    <a:xfrm>
                      <a:off x="7723080" y="3478320"/>
                      <a:ext cx="30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14">
                          <a:moveTo>
                            <a:pt x="0" y="0"/>
                          </a:moveTo>
                          <a:lnTo>
                            <a:pt x="0" y="87"/>
                          </a:lnTo>
                          <a:lnTo>
                            <a:pt x="57" y="114"/>
                          </a:lnTo>
                          <a:lnTo>
                            <a:pt x="57" y="2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7684920" y="3470400"/>
                      <a:ext cx="3996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62">
                          <a:moveTo>
                            <a:pt x="0" y="0"/>
                          </a:moveTo>
                          <a:lnTo>
                            <a:pt x="0" y="162"/>
                          </a:lnTo>
                          <a:lnTo>
                            <a:pt x="74" y="116"/>
                          </a:lnTo>
                          <a:lnTo>
                            <a:pt x="74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1" name=""/>
                  <p:cNvGrpSpPr/>
                  <p:nvPr/>
                </p:nvGrpSpPr>
                <p:grpSpPr>
                  <a:xfrm>
                    <a:off x="7596360" y="3449520"/>
                    <a:ext cx="68040" cy="42840"/>
                    <a:chOff x="7596360" y="3449520"/>
                    <a:chExt cx="68040" cy="42840"/>
                  </a:xfrm>
                </p:grpSpPr>
                <p:sp>
                  <p:nvSpPr>
                    <p:cNvPr id="1902" name=""/>
                    <p:cNvSpPr/>
                    <p:nvPr/>
                  </p:nvSpPr>
                  <p:spPr>
                    <a:xfrm>
                      <a:off x="7634160" y="3457440"/>
                      <a:ext cx="30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14">
                          <a:moveTo>
                            <a:pt x="0" y="0"/>
                          </a:moveTo>
                          <a:lnTo>
                            <a:pt x="0" y="88"/>
                          </a:lnTo>
                          <a:lnTo>
                            <a:pt x="57" y="114"/>
                          </a:lnTo>
                          <a:lnTo>
                            <a:pt x="57" y="2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>
                      <a:off x="7596360" y="3449520"/>
                      <a:ext cx="37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164">
                          <a:moveTo>
                            <a:pt x="0" y="0"/>
                          </a:moveTo>
                          <a:lnTo>
                            <a:pt x="0" y="164"/>
                          </a:lnTo>
                          <a:lnTo>
                            <a:pt x="73" y="118"/>
                          </a:lnTo>
                          <a:lnTo>
                            <a:pt x="73" y="3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4" name=""/>
                  <p:cNvGrpSpPr/>
                  <p:nvPr/>
                </p:nvGrpSpPr>
                <p:grpSpPr>
                  <a:xfrm>
                    <a:off x="7575480" y="3162240"/>
                    <a:ext cx="208080" cy="304920"/>
                    <a:chOff x="7575480" y="3162240"/>
                    <a:chExt cx="208080" cy="304920"/>
                  </a:xfrm>
                </p:grpSpPr>
                <p:sp>
                  <p:nvSpPr>
                    <p:cNvPr id="1905" name=""/>
                    <p:cNvSpPr/>
                    <p:nvPr/>
                  </p:nvSpPr>
                  <p:spPr>
                    <a:xfrm>
                      <a:off x="7583400" y="3162240"/>
                      <a:ext cx="189000" cy="3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8" h="1152">
                          <a:moveTo>
                            <a:pt x="0" y="0"/>
                          </a:moveTo>
                          <a:lnTo>
                            <a:pt x="358" y="62"/>
                          </a:lnTo>
                          <a:lnTo>
                            <a:pt x="358" y="1152"/>
                          </a:lnTo>
                          <a:lnTo>
                            <a:pt x="3" y="99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06" name=""/>
                    <p:cNvGrpSpPr/>
                    <p:nvPr/>
                  </p:nvGrpSpPr>
                  <p:grpSpPr>
                    <a:xfrm>
                      <a:off x="7575480" y="3162240"/>
                      <a:ext cx="208080" cy="298440"/>
                      <a:chOff x="7575480" y="3162240"/>
                      <a:chExt cx="208080" cy="298440"/>
                    </a:xfrm>
                  </p:grpSpPr>
                  <p:sp>
                    <p:nvSpPr>
                      <p:cNvPr id="1907" name=""/>
                      <p:cNvSpPr/>
                      <p:nvPr/>
                    </p:nvSpPr>
                    <p:spPr>
                      <a:xfrm>
                        <a:off x="7577280" y="3390840"/>
                        <a:ext cx="206280" cy="3672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8" name=""/>
                      <p:cNvSpPr/>
                      <p:nvPr/>
                    </p:nvSpPr>
                    <p:spPr>
                      <a:xfrm>
                        <a:off x="7575480" y="3352680"/>
                        <a:ext cx="206280" cy="3024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9" name=""/>
                      <p:cNvSpPr/>
                      <p:nvPr/>
                    </p:nvSpPr>
                    <p:spPr>
                      <a:xfrm>
                        <a:off x="7580160" y="3313080"/>
                        <a:ext cx="201600" cy="2700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0" name=""/>
                      <p:cNvSpPr/>
                      <p:nvPr/>
                    </p:nvSpPr>
                    <p:spPr>
                      <a:xfrm>
                        <a:off x="7578720" y="3271680"/>
                        <a:ext cx="201600" cy="2556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1" name=""/>
                      <p:cNvSpPr/>
                      <p:nvPr/>
                    </p:nvSpPr>
                    <p:spPr>
                      <a:xfrm>
                        <a:off x="7581960" y="3232080"/>
                        <a:ext cx="198360" cy="2088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2" name=""/>
                      <p:cNvSpPr/>
                      <p:nvPr/>
                    </p:nvSpPr>
                    <p:spPr>
                      <a:xfrm>
                        <a:off x="7575480" y="3195720"/>
                        <a:ext cx="203400" cy="1908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3" name=""/>
                      <p:cNvSpPr/>
                      <p:nvPr/>
                    </p:nvSpPr>
                    <p:spPr>
                      <a:xfrm>
                        <a:off x="7623000" y="3162240"/>
                        <a:ext cx="1800" cy="27792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4" name=""/>
                      <p:cNvSpPr/>
                      <p:nvPr/>
                    </p:nvSpPr>
                    <p:spPr>
                      <a:xfrm>
                        <a:off x="7670880" y="3166920"/>
                        <a:ext cx="1440" cy="28440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5" name=""/>
                      <p:cNvSpPr/>
                      <p:nvPr/>
                    </p:nvSpPr>
                    <p:spPr>
                      <a:xfrm>
                        <a:off x="7721640" y="3170160"/>
                        <a:ext cx="1440" cy="290520"/>
                      </a:xfrm>
                      <a:prstGeom prst="line">
                        <a:avLst/>
                      </a:prstGeom>
                      <a:ln w="46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16" name=""/>
                  <p:cNvGrpSpPr/>
                  <p:nvPr/>
                </p:nvGrpSpPr>
                <p:grpSpPr>
                  <a:xfrm>
                    <a:off x="7653240" y="3098880"/>
                    <a:ext cx="243000" cy="61920"/>
                    <a:chOff x="7653240" y="3098880"/>
                    <a:chExt cx="243000" cy="61920"/>
                  </a:xfrm>
                </p:grpSpPr>
                <p:grpSp>
                  <p:nvGrpSpPr>
                    <p:cNvPr id="1917" name=""/>
                    <p:cNvGrpSpPr/>
                    <p:nvPr/>
                  </p:nvGrpSpPr>
                  <p:grpSpPr>
                    <a:xfrm>
                      <a:off x="7653240" y="3098880"/>
                      <a:ext cx="243000" cy="61920"/>
                      <a:chOff x="7653240" y="3098880"/>
                      <a:chExt cx="243000" cy="61920"/>
                    </a:xfrm>
                  </p:grpSpPr>
                  <p:sp>
                    <p:nvSpPr>
                      <p:cNvPr id="1918" name=""/>
                      <p:cNvSpPr/>
                      <p:nvPr/>
                    </p:nvSpPr>
                    <p:spPr>
                      <a:xfrm>
                        <a:off x="7653240" y="3098880"/>
                        <a:ext cx="24300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8" h="93">
                            <a:moveTo>
                              <a:pt x="0" y="60"/>
                            </a:moveTo>
                            <a:lnTo>
                              <a:pt x="267" y="93"/>
                            </a:lnTo>
                            <a:lnTo>
                              <a:pt x="458" y="31"/>
                            </a:lnTo>
                            <a:lnTo>
                              <a:pt x="199" y="0"/>
                            </a:lnTo>
                            <a:lnTo>
                              <a:pt x="0" y="60"/>
                            </a:lnTo>
                            <a:close/>
                          </a:path>
                        </a:pathLst>
                      </a:custGeom>
                      <a:solidFill>
                        <a:srgbClr val="df3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9" name=""/>
                      <p:cNvSpPr/>
                      <p:nvPr/>
                    </p:nvSpPr>
                    <p:spPr>
                      <a:xfrm>
                        <a:off x="7794720" y="3106800"/>
                        <a:ext cx="10008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204">
                            <a:moveTo>
                              <a:pt x="0" y="62"/>
                            </a:moveTo>
                            <a:lnTo>
                              <a:pt x="189" y="0"/>
                            </a:lnTo>
                            <a:lnTo>
                              <a:pt x="189" y="129"/>
                            </a:lnTo>
                            <a:lnTo>
                              <a:pt x="0" y="204"/>
                            </a:lnTo>
                            <a:lnTo>
                              <a:pt x="0" y="62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0" name=""/>
                      <p:cNvSpPr/>
                      <p:nvPr/>
                    </p:nvSpPr>
                    <p:spPr>
                      <a:xfrm>
                        <a:off x="7653240" y="3114720"/>
                        <a:ext cx="14148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6" h="175">
                            <a:moveTo>
                              <a:pt x="266" y="33"/>
                            </a:moveTo>
                            <a:lnTo>
                              <a:pt x="266" y="175"/>
                            </a:lnTo>
                            <a:lnTo>
                              <a:pt x="0" y="135"/>
                            </a:lnTo>
                            <a:lnTo>
                              <a:pt x="0" y="0"/>
                            </a:lnTo>
                            <a:lnTo>
                              <a:pt x="266" y="33"/>
                            </a:lnTo>
                            <a:close/>
                          </a:path>
                        </a:pathLst>
                      </a:custGeom>
                      <a:solidFill>
                        <a:srgbClr val="ff5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21" name=""/>
                    <p:cNvSpPr/>
                    <p:nvPr/>
                  </p:nvSpPr>
                  <p:spPr>
                    <a:xfrm>
                      <a:off x="7672320" y="3122640"/>
                      <a:ext cx="810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41">
                          <a:moveTo>
                            <a:pt x="1" y="0"/>
                          </a:moveTo>
                          <a:lnTo>
                            <a:pt x="153" y="16"/>
                          </a:lnTo>
                          <a:lnTo>
                            <a:pt x="153" y="41"/>
                          </a:lnTo>
                          <a:lnTo>
                            <a:pt x="0" y="26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22" name=""/>
              <p:cNvGrpSpPr/>
              <p:nvPr/>
            </p:nvGrpSpPr>
            <p:grpSpPr>
              <a:xfrm>
                <a:off x="7832880" y="3238560"/>
                <a:ext cx="387360" cy="352440"/>
                <a:chOff x="7832880" y="3238560"/>
                <a:chExt cx="387360" cy="352440"/>
              </a:xfrm>
            </p:grpSpPr>
            <p:grpSp>
              <p:nvGrpSpPr>
                <p:cNvPr id="1923" name=""/>
                <p:cNvGrpSpPr/>
                <p:nvPr/>
              </p:nvGrpSpPr>
              <p:grpSpPr>
                <a:xfrm>
                  <a:off x="7832880" y="3238560"/>
                  <a:ext cx="387360" cy="352440"/>
                  <a:chOff x="7832880" y="3238560"/>
                  <a:chExt cx="387360" cy="352440"/>
                </a:xfrm>
              </p:grpSpPr>
              <p:sp>
                <p:nvSpPr>
                  <p:cNvPr id="1924" name=""/>
                  <p:cNvSpPr/>
                  <p:nvPr/>
                </p:nvSpPr>
                <p:spPr>
                  <a:xfrm>
                    <a:off x="7832880" y="3243240"/>
                    <a:ext cx="3873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2" h="363">
                        <a:moveTo>
                          <a:pt x="0" y="266"/>
                        </a:moveTo>
                        <a:lnTo>
                          <a:pt x="354" y="363"/>
                        </a:lnTo>
                        <a:lnTo>
                          <a:pt x="732" y="67"/>
                        </a:lnTo>
                        <a:lnTo>
                          <a:pt x="426" y="0"/>
                        </a:lnTo>
                        <a:lnTo>
                          <a:pt x="0" y="266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7832880" y="3314880"/>
                    <a:ext cx="18720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1048">
                        <a:moveTo>
                          <a:pt x="0" y="0"/>
                        </a:moveTo>
                        <a:lnTo>
                          <a:pt x="354" y="95"/>
                        </a:lnTo>
                        <a:lnTo>
                          <a:pt x="354" y="1048"/>
                        </a:lnTo>
                        <a:lnTo>
                          <a:pt x="0" y="89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8020080" y="3260880"/>
                    <a:ext cx="20016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247">
                        <a:moveTo>
                          <a:pt x="0" y="296"/>
                        </a:moveTo>
                        <a:lnTo>
                          <a:pt x="0" y="1247"/>
                        </a:lnTo>
                        <a:lnTo>
                          <a:pt x="378" y="795"/>
                        </a:lnTo>
                        <a:lnTo>
                          <a:pt x="378" y="0"/>
                        </a:lnTo>
                        <a:lnTo>
                          <a:pt x="0" y="296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7" name=""/>
                  <p:cNvGrpSpPr/>
                  <p:nvPr/>
                </p:nvGrpSpPr>
                <p:grpSpPr>
                  <a:xfrm>
                    <a:off x="7880400" y="3238560"/>
                    <a:ext cx="295200" cy="87120"/>
                    <a:chOff x="7880400" y="3238560"/>
                    <a:chExt cx="295200" cy="87120"/>
                  </a:xfrm>
                </p:grpSpPr>
                <p:sp>
                  <p:nvSpPr>
                    <p:cNvPr id="1928" name=""/>
                    <p:cNvSpPr/>
                    <p:nvPr/>
                  </p:nvSpPr>
                  <p:spPr>
                    <a:xfrm>
                      <a:off x="7880400" y="3238560"/>
                      <a:ext cx="29520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272">
                          <a:moveTo>
                            <a:pt x="0" y="204"/>
                          </a:moveTo>
                          <a:lnTo>
                            <a:pt x="254" y="272"/>
                          </a:lnTo>
                          <a:lnTo>
                            <a:pt x="558" y="45"/>
                          </a:lnTo>
                          <a:lnTo>
                            <a:pt x="333" y="0"/>
                          </a:lnTo>
                          <a:lnTo>
                            <a:pt x="0" y="204"/>
                          </a:lnTo>
                          <a:close/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9" name=""/>
                    <p:cNvSpPr/>
                    <p:nvPr/>
                  </p:nvSpPr>
                  <p:spPr>
                    <a:xfrm>
                      <a:off x="8015400" y="3249720"/>
                      <a:ext cx="1602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285">
                          <a:moveTo>
                            <a:pt x="0" y="226"/>
                          </a:moveTo>
                          <a:lnTo>
                            <a:pt x="305" y="0"/>
                          </a:lnTo>
                          <a:lnTo>
                            <a:pt x="305" y="54"/>
                          </a:lnTo>
                          <a:lnTo>
                            <a:pt x="0" y="285"/>
                          </a:lnTo>
                          <a:lnTo>
                            <a:pt x="0" y="226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0" name=""/>
                    <p:cNvSpPr/>
                    <p:nvPr/>
                  </p:nvSpPr>
                  <p:spPr>
                    <a:xfrm>
                      <a:off x="7880400" y="3292560"/>
                      <a:ext cx="13500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126">
                          <a:moveTo>
                            <a:pt x="253" y="67"/>
                          </a:moveTo>
                          <a:lnTo>
                            <a:pt x="253" y="126"/>
                          </a:lnTo>
                          <a:lnTo>
                            <a:pt x="0" y="56"/>
                          </a:lnTo>
                          <a:lnTo>
                            <a:pt x="0" y="0"/>
                          </a:lnTo>
                          <a:lnTo>
                            <a:pt x="253" y="67"/>
                          </a:lnTo>
                          <a:close/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31" name=""/>
                <p:cNvGrpSpPr/>
                <p:nvPr/>
              </p:nvGrpSpPr>
              <p:grpSpPr>
                <a:xfrm>
                  <a:off x="7842240" y="3322800"/>
                  <a:ext cx="166680" cy="257040"/>
                  <a:chOff x="7842240" y="3322800"/>
                  <a:chExt cx="166680" cy="257040"/>
                </a:xfrm>
              </p:grpSpPr>
              <p:sp>
                <p:nvSpPr>
                  <p:cNvPr id="1932" name=""/>
                  <p:cNvSpPr/>
                  <p:nvPr/>
                </p:nvSpPr>
                <p:spPr>
                  <a:xfrm>
                    <a:off x="7842240" y="3322800"/>
                    <a:ext cx="16668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970">
                        <a:moveTo>
                          <a:pt x="0" y="0"/>
                        </a:moveTo>
                        <a:lnTo>
                          <a:pt x="317" y="87"/>
                        </a:lnTo>
                        <a:lnTo>
                          <a:pt x="317" y="970"/>
                        </a:lnTo>
                        <a:lnTo>
                          <a:pt x="0" y="8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7866000" y="3325680"/>
                    <a:ext cx="1764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858">
                        <a:moveTo>
                          <a:pt x="1" y="0"/>
                        </a:moveTo>
                        <a:lnTo>
                          <a:pt x="0" y="845"/>
                        </a:lnTo>
                        <a:lnTo>
                          <a:pt x="32" y="858"/>
                        </a:lnTo>
                        <a:lnTo>
                          <a:pt x="33" y="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7912080" y="3330720"/>
                    <a:ext cx="1908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876">
                        <a:moveTo>
                          <a:pt x="0" y="0"/>
                        </a:moveTo>
                        <a:lnTo>
                          <a:pt x="0" y="860"/>
                        </a:lnTo>
                        <a:lnTo>
                          <a:pt x="34" y="876"/>
                        </a:lnTo>
                        <a:lnTo>
                          <a:pt x="36" y="1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7961400" y="3338640"/>
                    <a:ext cx="19080" cy="23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883">
                        <a:moveTo>
                          <a:pt x="1" y="0"/>
                        </a:moveTo>
                        <a:lnTo>
                          <a:pt x="0" y="864"/>
                        </a:lnTo>
                        <a:lnTo>
                          <a:pt x="37" y="883"/>
                        </a:lnTo>
                        <a:lnTo>
                          <a:pt x="35" y="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6" name=""/>
              <p:cNvGrpSpPr/>
              <p:nvPr/>
            </p:nvGrpSpPr>
            <p:grpSpPr>
              <a:xfrm>
                <a:off x="8101080" y="3255840"/>
                <a:ext cx="360360" cy="411120"/>
                <a:chOff x="8101080" y="3255840"/>
                <a:chExt cx="360360" cy="411120"/>
              </a:xfrm>
            </p:grpSpPr>
            <p:grpSp>
              <p:nvGrpSpPr>
                <p:cNvPr id="1937" name=""/>
                <p:cNvGrpSpPr/>
                <p:nvPr/>
              </p:nvGrpSpPr>
              <p:grpSpPr>
                <a:xfrm>
                  <a:off x="8101080" y="3255840"/>
                  <a:ext cx="360360" cy="411120"/>
                  <a:chOff x="8101080" y="3255840"/>
                  <a:chExt cx="360360" cy="411120"/>
                </a:xfrm>
              </p:grpSpPr>
              <p:grpSp>
                <p:nvGrpSpPr>
                  <p:cNvPr id="1938" name=""/>
                  <p:cNvGrpSpPr/>
                  <p:nvPr/>
                </p:nvGrpSpPr>
                <p:grpSpPr>
                  <a:xfrm>
                    <a:off x="8142120" y="3565440"/>
                    <a:ext cx="279720" cy="101520"/>
                    <a:chOff x="8142120" y="3565440"/>
                    <a:chExt cx="279720" cy="101520"/>
                  </a:xfrm>
                </p:grpSpPr>
                <p:sp>
                  <p:nvSpPr>
                    <p:cNvPr id="1939" name=""/>
                    <p:cNvSpPr/>
                    <p:nvPr/>
                  </p:nvSpPr>
                  <p:spPr>
                    <a:xfrm>
                      <a:off x="8142120" y="3603600"/>
                      <a:ext cx="1796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238">
                          <a:moveTo>
                            <a:pt x="0" y="0"/>
                          </a:moveTo>
                          <a:lnTo>
                            <a:pt x="0" y="71"/>
                          </a:lnTo>
                          <a:lnTo>
                            <a:pt x="338" y="238"/>
                          </a:lnTo>
                          <a:lnTo>
                            <a:pt x="338" y="16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0" name=""/>
                    <p:cNvSpPr/>
                    <p:nvPr/>
                  </p:nvSpPr>
                  <p:spPr>
                    <a:xfrm>
                      <a:off x="8321760" y="3565440"/>
                      <a:ext cx="10008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383">
                          <a:moveTo>
                            <a:pt x="0" y="308"/>
                          </a:moveTo>
                          <a:lnTo>
                            <a:pt x="0" y="383"/>
                          </a:lnTo>
                          <a:lnTo>
                            <a:pt x="190" y="60"/>
                          </a:lnTo>
                          <a:lnTo>
                            <a:pt x="190" y="0"/>
                          </a:lnTo>
                          <a:lnTo>
                            <a:pt x="0" y="308"/>
                          </a:lnTo>
                          <a:close/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1" name=""/>
                  <p:cNvSpPr/>
                  <p:nvPr/>
                </p:nvSpPr>
                <p:spPr>
                  <a:xfrm>
                    <a:off x="8101080" y="3497400"/>
                    <a:ext cx="36036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680" h="589">
                        <a:moveTo>
                          <a:pt x="0" y="370"/>
                        </a:moveTo>
                        <a:lnTo>
                          <a:pt x="452" y="589"/>
                        </a:lnTo>
                        <a:lnTo>
                          <a:pt x="680" y="199"/>
                        </a:lnTo>
                        <a:lnTo>
                          <a:pt x="247" y="0"/>
                        </a:lnTo>
                        <a:lnTo>
                          <a:pt x="0" y="37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8134200" y="3400560"/>
                    <a:ext cx="2826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335">
                        <a:moveTo>
                          <a:pt x="353" y="335"/>
                        </a:moveTo>
                        <a:lnTo>
                          <a:pt x="536" y="116"/>
                        </a:lnTo>
                        <a:lnTo>
                          <a:pt x="202" y="0"/>
                        </a:lnTo>
                        <a:lnTo>
                          <a:pt x="0" y="214"/>
                        </a:lnTo>
                        <a:lnTo>
                          <a:pt x="353" y="335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8277120" y="3255840"/>
                    <a:ext cx="9684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393">
                        <a:moveTo>
                          <a:pt x="0" y="0"/>
                        </a:moveTo>
                        <a:lnTo>
                          <a:pt x="45" y="393"/>
                        </a:lnTo>
                        <a:lnTo>
                          <a:pt x="185" y="2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>
                    <a:off x="8191440" y="3255840"/>
                    <a:ext cx="10944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395">
                        <a:moveTo>
                          <a:pt x="163" y="0"/>
                        </a:moveTo>
                        <a:lnTo>
                          <a:pt x="207" y="395"/>
                        </a:lnTo>
                        <a:lnTo>
                          <a:pt x="0" y="354"/>
                        </a:lnTo>
                        <a:lnTo>
                          <a:pt x="163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8191440" y="3349800"/>
                    <a:ext cx="1080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77">
                        <a:moveTo>
                          <a:pt x="0" y="0"/>
                        </a:moveTo>
                        <a:lnTo>
                          <a:pt x="206" y="40"/>
                        </a:lnTo>
                        <a:lnTo>
                          <a:pt x="206" y="477"/>
                        </a:lnTo>
                        <a:lnTo>
                          <a:pt x="0" y="40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8299440" y="3325680"/>
                    <a:ext cx="7452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568">
                        <a:moveTo>
                          <a:pt x="0" y="130"/>
                        </a:moveTo>
                        <a:lnTo>
                          <a:pt x="140" y="0"/>
                        </a:lnTo>
                        <a:lnTo>
                          <a:pt x="140" y="406"/>
                        </a:lnTo>
                        <a:lnTo>
                          <a:pt x="0" y="568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8134200" y="3457440"/>
                    <a:ext cx="18576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1" h="640">
                        <a:moveTo>
                          <a:pt x="0" y="0"/>
                        </a:moveTo>
                        <a:lnTo>
                          <a:pt x="351" y="121"/>
                        </a:lnTo>
                        <a:lnTo>
                          <a:pt x="351" y="640"/>
                        </a:lnTo>
                        <a:lnTo>
                          <a:pt x="0" y="4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>
                    <a:off x="8319960" y="3432240"/>
                    <a:ext cx="9684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739">
                        <a:moveTo>
                          <a:pt x="0" y="220"/>
                        </a:moveTo>
                        <a:lnTo>
                          <a:pt x="184" y="0"/>
                        </a:lnTo>
                        <a:lnTo>
                          <a:pt x="184" y="443"/>
                        </a:lnTo>
                        <a:lnTo>
                          <a:pt x="0" y="739"/>
                        </a:lnTo>
                        <a:lnTo>
                          <a:pt x="0" y="22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9" name=""/>
                <p:cNvGrpSpPr/>
                <p:nvPr/>
              </p:nvGrpSpPr>
              <p:grpSpPr>
                <a:xfrm>
                  <a:off x="8169120" y="3363840"/>
                  <a:ext cx="114480" cy="235080"/>
                  <a:chOff x="8169120" y="3363840"/>
                  <a:chExt cx="114480" cy="235080"/>
                </a:xfrm>
              </p:grpSpPr>
              <p:grpSp>
                <p:nvGrpSpPr>
                  <p:cNvPr id="1950" name=""/>
                  <p:cNvGrpSpPr/>
                  <p:nvPr/>
                </p:nvGrpSpPr>
                <p:grpSpPr>
                  <a:xfrm>
                    <a:off x="8226360" y="3363840"/>
                    <a:ext cx="39240" cy="66600"/>
                    <a:chOff x="8226360" y="3363840"/>
                    <a:chExt cx="39240" cy="66600"/>
                  </a:xfrm>
                </p:grpSpPr>
                <p:sp>
                  <p:nvSpPr>
                    <p:cNvPr id="1951" name=""/>
                    <p:cNvSpPr/>
                    <p:nvPr/>
                  </p:nvSpPr>
                  <p:spPr>
                    <a:xfrm>
                      <a:off x="8234640" y="3363840"/>
                      <a:ext cx="3096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58126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581268"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2" name=""/>
                    <p:cNvSpPr/>
                    <p:nvPr/>
                  </p:nvSpPr>
                  <p:spPr>
                    <a:xfrm>
                      <a:off x="8228160" y="3363840"/>
                      <a:ext cx="2484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2" y="9321"/>
                          </a:moveTo>
                          <a:arcTo wR="10800" hR="10800" stAng="-10327855" swAng="453476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2" y="9321"/>
                          </a:moveTo>
                          <a:arcTo wR="10800" hR="10800" stAng="-10327855" swAng="4534766"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3" name=""/>
                    <p:cNvSpPr/>
                    <p:nvPr/>
                  </p:nvSpPr>
                  <p:spPr>
                    <a:xfrm>
                      <a:off x="8226360" y="3395520"/>
                      <a:ext cx="12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13">
                          <a:moveTo>
                            <a:pt x="0" y="0"/>
                          </a:moveTo>
                          <a:lnTo>
                            <a:pt x="0" y="104"/>
                          </a:lnTo>
                          <a:lnTo>
                            <a:pt x="24" y="113"/>
                          </a:lnTo>
                          <a:lnTo>
                            <a:pt x="24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>
                      <a:off x="8250120" y="3400560"/>
                      <a:ext cx="129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112">
                          <a:moveTo>
                            <a:pt x="0" y="0"/>
                          </a:moveTo>
                          <a:lnTo>
                            <a:pt x="0" y="104"/>
                          </a:lnTo>
                          <a:lnTo>
                            <a:pt x="24" y="112"/>
                          </a:lnTo>
                          <a:lnTo>
                            <a:pt x="24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5" name=""/>
                  <p:cNvGrpSpPr/>
                  <p:nvPr/>
                </p:nvGrpSpPr>
                <p:grpSpPr>
                  <a:xfrm>
                    <a:off x="8169120" y="3494160"/>
                    <a:ext cx="114480" cy="104760"/>
                    <a:chOff x="8169120" y="3494160"/>
                    <a:chExt cx="114480" cy="104760"/>
                  </a:xfrm>
                </p:grpSpPr>
                <p:sp>
                  <p:nvSpPr>
                    <p:cNvPr id="1956" name=""/>
                    <p:cNvSpPr/>
                    <p:nvPr/>
                  </p:nvSpPr>
                  <p:spPr>
                    <a:xfrm>
                      <a:off x="8169120" y="3530520"/>
                      <a:ext cx="1144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257">
                          <a:moveTo>
                            <a:pt x="0" y="0"/>
                          </a:moveTo>
                          <a:lnTo>
                            <a:pt x="0" y="161"/>
                          </a:lnTo>
                          <a:lnTo>
                            <a:pt x="217" y="257"/>
                          </a:lnTo>
                          <a:lnTo>
                            <a:pt x="217" y="9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7" name=""/>
                    <p:cNvSpPr/>
                    <p:nvPr/>
                  </p:nvSpPr>
                  <p:spPr>
                    <a:xfrm>
                      <a:off x="8170920" y="3494160"/>
                      <a:ext cx="1080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192">
                          <a:moveTo>
                            <a:pt x="0" y="0"/>
                          </a:moveTo>
                          <a:lnTo>
                            <a:pt x="0" y="111"/>
                          </a:lnTo>
                          <a:lnTo>
                            <a:pt x="205" y="192"/>
                          </a:lnTo>
                          <a:lnTo>
                            <a:pt x="205" y="8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958" name=""/>
            <p:cNvSpPr/>
            <p:nvPr/>
          </p:nvSpPr>
          <p:spPr>
            <a:xfrm>
              <a:off x="5211720" y="2190600"/>
              <a:ext cx="916200" cy="1793880"/>
            </a:xfrm>
            <a:prstGeom prst="rect">
              <a:avLst/>
            </a:prstGeom>
            <a:solidFill>
              <a:srgbClr val="66ffff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673680" y="2259000"/>
              <a:ext cx="1686240" cy="331920"/>
            </a:xfrm>
            <a:prstGeom prst="rect">
              <a:avLst/>
            </a:prstGeom>
            <a:solidFill>
              <a:srgbClr val="66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752520" y="230832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Comerci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067360" y="1714680"/>
              <a:ext cx="3848040" cy="250164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206760" y="3567240"/>
              <a:ext cx="110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66ff"/>
                  </a:solidFill>
                  <a:latin typeface="Times New Roman"/>
                </a:rPr>
                <a:t>Precio lib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3" name=""/>
          <p:cNvSpPr/>
          <p:nvPr/>
        </p:nvSpPr>
        <p:spPr>
          <a:xfrm>
            <a:off x="5423040" y="2959200"/>
            <a:ext cx="48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4" name=""/>
          <p:cNvGrpSpPr/>
          <p:nvPr/>
        </p:nvGrpSpPr>
        <p:grpSpPr>
          <a:xfrm>
            <a:off x="4343400" y="3787920"/>
            <a:ext cx="3809880" cy="2815920"/>
            <a:chOff x="4343400" y="3787920"/>
            <a:chExt cx="3809880" cy="2815920"/>
          </a:xfrm>
        </p:grpSpPr>
        <p:sp>
          <p:nvSpPr>
            <p:cNvPr id="1965" name=""/>
            <p:cNvSpPr/>
            <p:nvPr/>
          </p:nvSpPr>
          <p:spPr>
            <a:xfrm>
              <a:off x="6064200" y="5859360"/>
              <a:ext cx="1685880" cy="331920"/>
            </a:xfrm>
            <a:prstGeom prst="rect">
              <a:avLst/>
            </a:prstGeom>
            <a:solidFill>
              <a:srgbClr val="ff505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687920" y="4886280"/>
              <a:ext cx="906480" cy="1511280"/>
            </a:xfrm>
            <a:prstGeom prst="rect">
              <a:avLst/>
            </a:prstGeom>
            <a:solidFill>
              <a:srgbClr val="ff7c80"/>
            </a:solidFill>
            <a:ln w="11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071680" y="5524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CA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22880" y="5900760"/>
              <a:ext cx="1152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292929"/>
                  </a:solidFill>
                  <a:latin typeface="Times New Roman"/>
                </a:rPr>
                <a:t>Distribució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343400" y="4495680"/>
              <a:ext cx="3809880" cy="210816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0" name=""/>
            <p:cNvGrpSpPr/>
            <p:nvPr/>
          </p:nvGrpSpPr>
          <p:grpSpPr>
            <a:xfrm>
              <a:off x="5700960" y="3787920"/>
              <a:ext cx="2301480" cy="1521360"/>
              <a:chOff x="5700960" y="3787920"/>
              <a:chExt cx="2301480" cy="1521360"/>
            </a:xfrm>
          </p:grpSpPr>
          <p:sp>
            <p:nvSpPr>
              <p:cNvPr id="1971" name=""/>
              <p:cNvSpPr/>
              <p:nvPr/>
            </p:nvSpPr>
            <p:spPr>
              <a:xfrm rot="19668000">
                <a:off x="5525640" y="4584240"/>
                <a:ext cx="2498400" cy="64080"/>
              </a:xfrm>
              <a:custGeom>
                <a:avLst/>
                <a:gdLst/>
                <a:ahLst/>
                <a:rect l="l" t="t" r="r" b="b"/>
                <a:pathLst>
                  <a:path w="2872" h="58">
                    <a:moveTo>
                      <a:pt x="0" y="0"/>
                    </a:moveTo>
                    <a:lnTo>
                      <a:pt x="0" y="53"/>
                    </a:lnTo>
                    <a:lnTo>
                      <a:pt x="2872" y="58"/>
                    </a:lnTo>
                    <a:lnTo>
                      <a:pt x="287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19668000">
                <a:off x="7767720" y="3819240"/>
                <a:ext cx="186120" cy="234720"/>
              </a:xfrm>
              <a:custGeom>
                <a:avLst/>
                <a:gdLst/>
                <a:ahLst/>
                <a:rect l="l" t="t" r="r" b="b"/>
                <a:pathLst>
                  <a:path w="213" h="211">
                    <a:moveTo>
                      <a:pt x="0" y="211"/>
                    </a:moveTo>
                    <a:lnTo>
                      <a:pt x="213" y="106"/>
                    </a:lnTo>
                    <a:lnTo>
                      <a:pt x="0" y="0"/>
                    </a:lnTo>
                    <a:lnTo>
                      <a:pt x="67" y="10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3" name=""/>
            <p:cNvSpPr/>
            <p:nvPr/>
          </p:nvSpPr>
          <p:spPr>
            <a:xfrm>
              <a:off x="6858000" y="4851360"/>
              <a:ext cx="838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V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crisis del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nfoque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y porqué se originó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Es posible un suministro de gas confi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Debe abandonarse el gas natur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uestro enfo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Bajo que condiciones la escasez de gas no deviene en crisis de abastecimiento eléctrico a corto ni largo plaz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sistema de precios aprop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iesgos distribuidos eficientemente en contratos lib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cios reflejan costos de seguridad de abast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riz energética” refleja preferencias de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anismos que permitan disminuir eficientemente el consumo durante escasez (i.e. recorriendo la curva de demand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puesta 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 Separar la distribución de energía de la comercialización. Separar los precios de electricidad y distribución (V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puesta 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 Abrir la comercialización de energía y potencia a empresas especializ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puesta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 Actuales distribuidoras deben establecer filiales comercializad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puesta 4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 Eliminar el límite de clientes lib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puesta 5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 Continuar con el despacho a costo mar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oña Juanita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puesta 6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 Contrato de condiciones reguladas, pero precio libre, para “doña Juanita”; abastecimiento a todo evento, pero el comercializador puede “premiar” al cliente por disminuir 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egulación prud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oferta-demanda en cada ins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 comercializador oportunista podría vender contratos baratos sabiendo que no los cumplirá en escas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us clientes siguen retirando energía en escasez y la luz se co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puesta 7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 Regulación prudencial de comerci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it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lce entre energía y potencia contratada y vendida 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en cada contin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tabilidad centralizada de contratos en 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lan de contingencia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y monitoreo en escas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 Algunas bondades de la liberal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riz energética” refleja preferencias de consumidores (contratos seguros se respaldan con carbón; baratos, pero sujetos a escasez, con gas y agu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a escasez es considerablemente más ba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6" name="" descr=""/>
          <p:cNvPicPr/>
          <p:nvPr/>
        </p:nvPicPr>
        <p:blipFill>
          <a:blip r:embed="rId1"/>
          <a:stretch/>
        </p:blipFill>
        <p:spPr>
          <a:xfrm>
            <a:off x="1042920" y="868320"/>
            <a:ext cx="75834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 de la escasez de 1998-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tricción septiembre 1998 a junio de 1999: 450 GWh, equivalente a 2,5% consumo total (18.000 GWh en nueve me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tricción eficiente (Benavente et al. 2004): US$ 0,11/KWh ó US$ 0,05/KWh, entre US$ 22,5 y 26 millon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ados a costo de falla: US$ 0,23/KWh o US$ 94,5 millones (más o menos cuatro veces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 problem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umos 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ponibli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gua y gas natural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os inflexibles que no reflejan escas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mpetencia debie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favorecer a doña Juani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oy doña Juanita paga tarifa BT1, que combina energía (45%), potencia (25%) y VAD (30%), equivalentes a US$ 0,09/KW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binar energía con potencia y VAD distorsiona la decisión de cuánta energía demandar en el mar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" descr=""/>
          <p:cNvPicPr/>
          <p:nvPr/>
        </p:nvPicPr>
        <p:blipFill>
          <a:blip r:embed="rId1"/>
          <a:stretch/>
        </p:blipFill>
        <p:spPr>
          <a:xfrm>
            <a:off x="1041480" y="76320"/>
            <a:ext cx="80676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enavente et al. (2004) permite estimar que el triángulo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rededor de US$ 58 millones anuales, US$ 1.160 millones en valor presente (5%/1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quivalente a 8,4% de la cuenta a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si por sí sólo compensa la hipotética pérdida del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pisodios de escasez de energía son inevitables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escasez no debería devenir en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escasez deviene en crisis por precios y contratos inflexi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eralizar la comercialización de energía es el camino cor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va el gas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ita que la escasez se convierta en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minuye costos de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ensaría la pérdida del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I Algunos hechos básic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¿Cuánto cuesta perder el g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7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¿Fue mala idea traer gas natur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644400"/>
            <a:ext cx="822960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¿Se postergó al 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22:17:21Z</dcterms:created>
  <dc:creator> </dc:creator>
  <dc:description/>
  <dc:language>en-US</dc:language>
  <cp:lastModifiedBy>Investigadores</cp:lastModifiedBy>
  <dcterms:modified xsi:type="dcterms:W3CDTF">2004-09-10T15:02:25Z</dcterms:modified>
  <cp:revision>65</cp:revision>
  <dc:subject/>
  <dc:title>Diapositiva 1</dc:title>
</cp:coreProperties>
</file>